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5172-E216-408F-B345-DF81BC95AA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3360" cy="37591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4F26-13C7-446F-8041-BCEF9DC6D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699A-F5F3-42DF-8106-1458E3D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1044-C401-47A0-A85F-6EB6B823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EEF4-2720-4890-B9B0-E40CCEE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1901A-D82C-43C9-834E-C62DCFE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F8BF-0845-4782-B727-5D3F127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7130-BD7C-419B-9054-0EBBCEE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6829F-D98D-4137-B03F-C6D3E88D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98487-ED51-4ADA-A32D-67152B22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7041-E900-40C7-AA50-FCADAB5D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89E43-308F-4CDD-9825-623DE469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8D99-1B0E-4FB4-8160-82E50D80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2A24B-6330-4377-A89D-B1803F6F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3F2D-E0D3-41CC-B3C0-4FB12D92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2657E-057A-4DB0-9E0F-99EE80CA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9051-7053-4889-80AB-1FC6962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CD27-990B-4604-AF00-175C8F0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CE9D-A8FF-49D2-90C6-B4C847D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89877-B711-4C8E-8EF0-A1DD7C0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6B8E-A35F-4A7B-ABCA-0FE73D2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54E64-7EDB-4CE4-BE39-D2E98B91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3ABA-8E71-4419-B1D5-F1612416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4161D-FC7C-4191-AA33-2B576A22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0E515-D072-4B8A-A56D-C1873DD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DC92A-865B-43B1-AB59-408D3FD0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EC9CA-ED0D-43BA-A52E-BA682CF0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7254D-7579-4BF1-A0BF-D39A35DC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F4E22-F041-4FD5-854F-65510965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FAD4E-FD62-415B-B381-3D163D83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A12CE-B968-4D05-AA93-5AFF2DF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CB153-C8ED-4F72-B2E8-EC454807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D88CF-C44A-45D6-989B-4D4E6A6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0D24-BFBF-4057-8CFB-F6B62EEB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66237-0271-4700-BD36-E786D166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F24F4-10B1-4DC0-B451-76F3222B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2EC9A-04E3-42BA-92F0-C1B72D10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FB62F-1C09-42E1-A736-25841AA7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5EDF8-12F8-4385-AD3D-A0C81C6A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8DB40-4E44-4E66-9830-D1ABB8A3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ADF1C-B4A7-439B-8647-5624F433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83F99-4420-40C0-9379-6BAC549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30821-B47D-471E-A231-FF8939CE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085A6-0E82-4044-B4B3-BB26656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756AC-427B-4EE0-86FC-11A30D66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206C8-5784-4DB1-9054-923D67A6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03A01-9EE4-4DA9-B027-1913D628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B9E7C-CF6E-4045-91E3-CF7B75DB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E054B-226A-440B-BA31-81C664ED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4F1B8-38BC-4C1D-8D2D-A6EEF3C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65753-E817-489C-B31B-6498EAE1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1551F-0557-4914-A063-C306EEE1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91DA3-B643-436E-9815-F2D7EA6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D118B-D933-4049-ADFC-1D47E92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BB7B4-8B60-4576-9475-04CDA5E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DBA47-B815-4BF6-BC10-A710FB60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CFA02-C0A3-4BC7-AACD-13B9843B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59160-68F2-4F8F-9ACC-07BC4C33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BD6CF-FDC7-4931-8BC2-40BCBE99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E7F69-8C1B-443C-B440-2E5DEF89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5F737-A1C0-4C51-A6F6-BBBE0243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6DA46-ED6C-4DD8-B9F1-B598438D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54110-333D-4AF6-8711-D889EDD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950CE-1076-49C5-93FB-B9D42658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38E43-D5E3-4238-9CEA-565F7227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2CE02-DEE6-4203-9029-7F1873E8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A55CF-77B5-47C2-AA4B-C41C04B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239DE-1AFE-4567-86BD-BE4F676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B98DB-BC07-48E7-B2D6-2CE2CE28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CE9E1-EC02-4806-A44C-C1ACB4A6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3DD51-7522-4865-9128-C41BBA9B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95F-2B54-4CF3-9B3B-769C5141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393-E33B-4992-ACEC-398CD3D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A09-B06C-4B08-8C0D-800B2C8A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E2B-0D10-421A-9220-913A8E0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75A-E765-4A8E-B723-A0B34DE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973-D65E-4414-8CFE-5F34E5D5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5A7-BD9B-47B9-8916-53DE8B22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37A-9943-4DA4-8CC3-0B9BB4E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C74-55F1-4BA8-A79A-7FB9736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AD0-D24C-4F23-B29F-060820BF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C19-4E89-4DB9-AAFC-19E005C1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5D8-E379-491C-8EAB-ED9DB25C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899C-F6FB-4F38-8686-BAC4FDE0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0BF3-BA47-4C7B-8F16-5EBD13BA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CC9-0B7A-483F-8DF7-E6A0A7CB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5ACD-6DE8-4444-896C-173035F2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8EB4-F096-4AA8-8A2B-E684C053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7F48-1F10-4D54-87B8-7A71F424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078D-E71A-42A3-B806-A439F30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6CB0-BA01-467D-8743-0FFD98A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CA0A-28F0-4AC8-8C82-2A6C4273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F06A-66F0-46FB-861C-344E9470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3E2C-1DAA-4255-9906-BD4B3934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0A21-46C4-4FD4-A8E1-F850603E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C6DC-5A19-497F-BBC5-42ABA11A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AC95-4F30-4A16-BC41-4B78F5F7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FC99-8562-4084-9BEE-B64B672D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5B7F-96E7-495D-B5E2-866A3A95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AA2C-6485-423A-99BF-A185BD77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298A-FA6E-477D-8073-253DFECD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8A3C-5C25-4792-B772-18A5A56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A8DE-FCD9-4DF8-820C-9D95331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CB7D-3EA2-4A02-8ADC-68C4F40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9C40-A539-4101-86B9-35A65697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04A9-8605-490C-A14A-128B2048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8814-B61B-4B84-9603-00AED920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2F99-EB8F-4CA6-9365-DD7027A5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4F3C-E2E2-4702-8965-DDA9B071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AFCF-6D5D-4B64-8CDB-CE013DEC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F4FA-D300-41A7-99CD-171DF171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91647-EE97-4AA1-AE7C-B90BA02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6AE8-FAE1-4334-BF46-420F46B6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D47D-EC8F-4E5C-AD6F-C5BABE0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C83A-2DE7-40F5-AB0D-71EF5831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80B0-BBAD-4C40-891F-944574F8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3218-A67F-4592-B5D7-2BD6C43B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B540-41F6-4E7F-813B-9DD292AC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72DD-11EA-4D9E-96F3-C1F07249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8C0E9-7351-43FD-A9A6-E3C7B4DA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09846-D2E6-4519-BFA7-61E28824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91ED-43DE-4F92-9E6C-A9BBA403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B97B-B4D5-40B7-97AF-9085C095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295A-257F-4B6E-A2CF-858A58A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897200" y="115560"/>
            <a:ext cx="72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8F5B-D905-4DCF-842F-A521652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37800-2B8F-4C9F-9761-C5445E8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FAEAC-5065-4A0D-85F2-CC53687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B975-323F-4A5F-AC7D-684639C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B314-D199-4228-A083-2969B8A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2F7CE-4A45-4E0A-A66F-B2CB0CA3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C81B-5407-41B7-B30E-F2B2B234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3FAE-7DF3-4E32-B2BC-75A864ED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5FA5E-D512-43AC-A432-A1A68AAD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D3C9-7287-4DEC-B949-22CF2B6D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1619280" y="333000"/>
            <a:ext cx="7524720" cy="71928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LOGO_MP_sm"/>
          <p:cNvPicPr/>
          <p:nvPr/>
        </p:nvPicPr>
        <p:blipFill>
          <a:blip r:embed="rId2"/>
          <a:stretch/>
        </p:blipFill>
        <p:spPr>
          <a:xfrm>
            <a:off x="8388360" y="6381720"/>
            <a:ext cx="61128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7596360" y="6599160"/>
            <a:ext cx="86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9696"/>
                </a:solidFill>
                <a:latin typeface="Arial"/>
              </a:rPr>
              <a:t>Март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80360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FE54-4860-40C0-8900-D46B6AE34D4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02BC-A1CE-435D-92DE-72CE6478365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70A-DC2B-4A89-B269-A63C192F36D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A2ED-987F-4C9D-A76A-E6C027877E7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24B-4417-47C3-8BB3-B6972DF306F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 rot="10800000">
            <a:off x="1619280" y="333000"/>
            <a:ext cx="7524720" cy="71928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LOGO_MP_sm"/>
          <p:cNvPicPr/>
          <p:nvPr/>
        </p:nvPicPr>
        <p:blipFill>
          <a:blip r:embed="rId2"/>
          <a:stretch/>
        </p:blipFill>
        <p:spPr>
          <a:xfrm>
            <a:off x="8388360" y="6381720"/>
            <a:ext cx="611280" cy="40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Reto"/>
          <p:cNvPicPr/>
          <p:nvPr/>
        </p:nvPicPr>
        <p:blipFill>
          <a:blip r:embed="rId3"/>
          <a:stretch/>
        </p:blipFill>
        <p:spPr>
          <a:xfrm>
            <a:off x="324000" y="276120"/>
            <a:ext cx="143964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97200" y="115560"/>
            <a:ext cx="72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3333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596360" y="6599160"/>
            <a:ext cx="86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9696"/>
                </a:solidFill>
                <a:latin typeface="Arial"/>
              </a:rPr>
              <a:t>Март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B896-EE74-4ACB-B938-47D67EBBED1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380-6270-4E8F-8652-6B84E9B6A6B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48C5-E476-4B06-9753-F82762909F4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6A2-4D31-4627-933A-78E3CC7D09A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64A7-8F6D-452B-8E2F-B5139153279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8" descr="C:\Documents and Settings\d.martynov\My Documents\Моя РАБОТА\Ретро\_презентации\misc\Logo_RetroFM_out.jpg"/>
          <p:cNvPicPr/>
          <p:nvPr/>
        </p:nvPicPr>
        <p:blipFill>
          <a:blip r:embed="rId2"/>
          <a:stretch/>
        </p:blipFill>
        <p:spPr>
          <a:xfrm>
            <a:off x="249120" y="214200"/>
            <a:ext cx="8680680" cy="62150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61AB-E4C6-404D-9657-7E03909B94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mailto:V.Kuzin@radiosales.com.ua" TargetMode="External"/><Relationship Id="rId6" Type="http://schemas.openxmlformats.org/officeDocument/2006/relationships/hyperlink" Target="mailto:V.Kuzin@radiosales.com.ua" TargetMode="External"/><Relationship Id="rId7" Type="http://schemas.openxmlformats.org/officeDocument/2006/relationships/hyperlink" Target="mailto:V.Kuzin@radiosales.com.ua" TargetMode="External"/><Relationship Id="rId8" Type="http://schemas.openxmlformats.org/officeDocument/2006/relationships/hyperlink" Target="mailto:V.Kuzin@radiosales.com.ua" TargetMode="External"/><Relationship Id="rId9" Type="http://schemas.openxmlformats.org/officeDocument/2006/relationships/hyperlink" Target="mailto:V.Kuzin@radiosales.com.ua" TargetMode="External"/><Relationship Id="rId10" Type="http://schemas.openxmlformats.org/officeDocument/2006/relationships/hyperlink" Target="mailto:V.Kuzin@radiosales.com.ua" TargetMode="External"/><Relationship Id="rId11" Type="http://schemas.openxmlformats.org/officeDocument/2006/relationships/hyperlink" Target="mailto:V.Kuzin@radiosales.com.ua" TargetMode="External"/><Relationship Id="rId12" Type="http://schemas.openxmlformats.org/officeDocument/2006/relationships/hyperlink" Target="mailto:V.Kuzin@radiosales.com.ua" TargetMode="External"/><Relationship Id="rId13" Type="http://schemas.openxmlformats.org/officeDocument/2006/relationships/hyperlink" Target="mailto:V.Kuzin@radiosales.com.ua" TargetMode="Externa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 flipH="1" rot="10800000">
            <a:off x="3000240" y="1285920"/>
            <a:ext cx="61437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13"/>
          <p:cNvSpPr/>
          <p:nvPr/>
        </p:nvSpPr>
        <p:spPr>
          <a:xfrm>
            <a:off x="7858080" y="6572160"/>
            <a:ext cx="5716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Прямоугольник 14"/>
          <p:cNvGrpSpPr/>
          <p:nvPr/>
        </p:nvGrpSpPr>
        <p:grpSpPr>
          <a:xfrm>
            <a:off x="8047080" y="6261120"/>
            <a:ext cx="993600" cy="577800"/>
            <a:chOff x="8047080" y="6261120"/>
            <a:chExt cx="993600" cy="577800"/>
          </a:xfrm>
        </p:grpSpPr>
        <p:pic>
          <p:nvPicPr>
            <p:cNvPr id="57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8047080" y="6261120"/>
              <a:ext cx="9936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 rot="10800000">
              <a:off x="8072280" y="6286680"/>
              <a:ext cx="9288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Прямоугольник 9"/>
          <p:cNvSpPr/>
          <p:nvPr/>
        </p:nvSpPr>
        <p:spPr>
          <a:xfrm>
            <a:off x="2214720" y="5000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Ретро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M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– ПОДПЕВ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6"/>
          <p:cNvSpPr/>
          <p:nvPr/>
        </p:nvSpPr>
        <p:spPr>
          <a:xfrm>
            <a:off x="285840" y="1857240"/>
            <a:ext cx="8429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МУ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РЕТРО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M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это прежде всего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МУ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Музыка,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торую хочется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ПОДПЕВАТЬ,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торая –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ЗНАКОМАЯ И ЛЮБИМАЯ.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ПЕРВАЯ ЛЮБОВ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Это первая встреча, первая любовь, первый поцелуй, это школьный альбом и дискотека в пионерлагере, это выпускной бал и первое свидание. Такие события мы помним всегда. С Ретро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M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мы вновь попадаем в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СЧАСТЛИВЫЕ МОМЕНТЫ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нашей жизни, от чего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УЛЫБАЕМСЯ И НА ДУШЕ СТАНОВИТСЯ СВЕТЛЕ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ак это было в Украине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4 марта 2007 года в стране возникло не просто новое радио, появился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новый образ жизни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Современное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динамичное радио с музыкой «из той жизни»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покорило жителей больших и малых городов Украины.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Ретро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M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стали слушать дома, в машинах и офисах.  Радио «из той жизни» полюбили не только люди, которые услышали песни своей юности, но также и молодое поколение.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Это стало определенной модой, стилем жизни, настроением д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  <a:ea typeface="Arial"/>
              </a:rPr>
              <a:t>ФОРМА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«Золотые хиты» 70-х – 80-х – 90-х в стиле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Disko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uk-UA" sz="1400" spc="-1" strike="noStrike">
                <a:solidFill>
                  <a:srgbClr val="003399"/>
                </a:solidFill>
                <a:latin typeface="Arial"/>
                <a:ea typeface="Arial"/>
              </a:rPr>
              <a:t>с любимыми исполнителями: «Самоцветы» и Юрий Антонов, «Абба» и Тото Кутуньо, «Машина времени» и Джо Дассен, «Земляне» и «Модерн Токин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2"/>
          <p:cNvSpPr/>
          <p:nvPr/>
        </p:nvSpPr>
        <p:spPr>
          <a:xfrm>
            <a:off x="3357720" y="1357200"/>
            <a:ext cx="564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Arial"/>
                <a:ea typeface="Arial"/>
              </a:rPr>
              <a:t>Первая встреча - первая любовь - первый поцелу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Arial"/>
                <a:ea typeface="Arial"/>
              </a:rPr>
              <a:t>Радио с такой идеологией суждено быть первы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 rot="10800000">
            <a:off x="0" y="1356840"/>
            <a:ext cx="457200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3"/>
          <p:cNvSpPr/>
          <p:nvPr/>
        </p:nvSpPr>
        <p:spPr>
          <a:xfrm>
            <a:off x="7858080" y="6572160"/>
            <a:ext cx="5716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Прямоугольник 14"/>
          <p:cNvGrpSpPr/>
          <p:nvPr/>
        </p:nvGrpSpPr>
        <p:grpSpPr>
          <a:xfrm>
            <a:off x="8047080" y="6261120"/>
            <a:ext cx="993600" cy="577800"/>
            <a:chOff x="8047080" y="6261120"/>
            <a:chExt cx="993600" cy="577800"/>
          </a:xfrm>
        </p:grpSpPr>
        <p:pic>
          <p:nvPicPr>
            <p:cNvPr id="581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8047080" y="6261120"/>
              <a:ext cx="9936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rot="10800000">
              <a:off x="8072280" y="6286680"/>
              <a:ext cx="9288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Заголовок 1"/>
          <p:cNvSpPr/>
          <p:nvPr/>
        </p:nvSpPr>
        <p:spPr>
          <a:xfrm>
            <a:off x="1897200" y="428760"/>
            <a:ext cx="72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ЛЕВАЯ АУДИТОРИЯ РЕТРО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M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196920" y="1500120"/>
            <a:ext cx="52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оциально-демографический портрет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10"/>
          <p:cNvSpPr/>
          <p:nvPr/>
        </p:nvSpPr>
        <p:spPr>
          <a:xfrm>
            <a:off x="357120" y="6581880"/>
            <a:ext cx="514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Здесь и далее данны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NS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раин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I'2008/2_2008/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Object 2"/>
          <p:cNvGraphicFramePr/>
          <p:nvPr/>
        </p:nvGraphicFramePr>
        <p:xfrm>
          <a:off x="179280" y="2205000"/>
          <a:ext cx="4440240" cy="218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05000"/>
                    <a:ext cx="44402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3"/>
          <p:cNvGraphicFramePr/>
          <p:nvPr/>
        </p:nvGraphicFramePr>
        <p:xfrm>
          <a:off x="4032360" y="2082960"/>
          <a:ext cx="5076720" cy="2498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2360" y="2082960"/>
                    <a:ext cx="5076720" cy="24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4"/>
          <p:cNvGraphicFramePr/>
          <p:nvPr/>
        </p:nvGraphicFramePr>
        <p:xfrm>
          <a:off x="1547640" y="4087800"/>
          <a:ext cx="5977080" cy="29415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4087800"/>
                    <a:ext cx="597708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3"/>
          <p:cNvSpPr/>
          <p:nvPr/>
        </p:nvSpPr>
        <p:spPr>
          <a:xfrm rot="10800000">
            <a:off x="0" y="1339560"/>
            <a:ext cx="457200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08000" y="1484280"/>
            <a:ext cx="83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етро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FM 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 УКРАИНЕ СЛУШ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3"/>
          <p:cNvSpPr/>
          <p:nvPr/>
        </p:nvSpPr>
        <p:spPr>
          <a:xfrm>
            <a:off x="7858080" y="6572160"/>
            <a:ext cx="5716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Прямоугольник 14"/>
          <p:cNvGrpSpPr/>
          <p:nvPr/>
        </p:nvGrpSpPr>
        <p:grpSpPr>
          <a:xfrm>
            <a:off x="8047080" y="6261120"/>
            <a:ext cx="993600" cy="577800"/>
            <a:chOff x="8047080" y="6261120"/>
            <a:chExt cx="993600" cy="577800"/>
          </a:xfrm>
        </p:grpSpPr>
        <p:pic>
          <p:nvPicPr>
            <p:cNvPr id="596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8047080" y="6261120"/>
              <a:ext cx="9936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 rot="10800000">
              <a:off x="8072280" y="6286680"/>
              <a:ext cx="9288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Заголовок 1"/>
          <p:cNvSpPr/>
          <p:nvPr/>
        </p:nvSpPr>
        <p:spPr>
          <a:xfrm>
            <a:off x="1897200" y="428760"/>
            <a:ext cx="72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Ретро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M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уже в Украин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2786040" y="10717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Знакомая и любимая музыка для всей страны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3"/>
          <p:cNvSpPr/>
          <p:nvPr/>
        </p:nvSpPr>
        <p:spPr>
          <a:xfrm>
            <a:off x="214200" y="221472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Александрия 10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Белая Церковь 10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Бердянск 9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Борислав 10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Винница 100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Днепропетровск 89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Житомир 10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Запорожье 1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Евпатория 103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вано-Франковск 10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аменец-Подольский 105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ерчь 102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иев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92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,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ировоград 10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вель 103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раматорск 100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расноармейск 98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расногоровка 105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4"/>
          <p:cNvSpPr/>
          <p:nvPr/>
        </p:nvSpPr>
        <p:spPr>
          <a:xfrm>
            <a:off x="2928960" y="2214720"/>
            <a:ext cx="31431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расноград 107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ременчуг 100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Лисичанск 10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Лубны 10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Луганск 91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Луцк 100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Львов 10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Мариуполь 9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Мелитополь 99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Нежин 102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Новоднестровск 101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Николаев 10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Никополь 105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Одесса 88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авлоград 107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ерелиски 107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олтава 99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ахов 10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5"/>
          <p:cNvSpPr/>
          <p:nvPr/>
        </p:nvSpPr>
        <p:spPr>
          <a:xfrm>
            <a:off x="5786280" y="2214720"/>
            <a:ext cx="31435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овеньки 103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овно 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Севастополь 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Симферополь 90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Сумы 9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Тернополь 10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Ужгород 107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Ульяновка 1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Умань 10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Харьков 9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Херсон 10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Хмельницкий 102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Хуст 10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Черновцы 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Чернигов 102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Шостка 105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Ялта 104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Яремче 1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10"/>
          <p:cNvSpPr/>
          <p:nvPr/>
        </p:nvSpPr>
        <p:spPr>
          <a:xfrm>
            <a:off x="285840" y="6581880"/>
            <a:ext cx="778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ahoma"/>
              </a:rPr>
              <a:t>Количество передатчиков – 54, зона обслуживания передатчика – 60 к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13"/>
          <p:cNvSpPr/>
          <p:nvPr/>
        </p:nvSpPr>
        <p:spPr>
          <a:xfrm>
            <a:off x="7858080" y="6572160"/>
            <a:ext cx="5716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Прямоугольник 14"/>
          <p:cNvGrpSpPr/>
          <p:nvPr/>
        </p:nvGrpSpPr>
        <p:grpSpPr>
          <a:xfrm>
            <a:off x="8047080" y="6261120"/>
            <a:ext cx="993600" cy="577800"/>
            <a:chOff x="8047080" y="6261120"/>
            <a:chExt cx="993600" cy="577800"/>
          </a:xfrm>
        </p:grpSpPr>
        <p:pic>
          <p:nvPicPr>
            <p:cNvPr id="606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8047080" y="6261120"/>
              <a:ext cx="9936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 rot="10800000">
              <a:off x="8072280" y="6286680"/>
              <a:ext cx="9288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Заголовок 1"/>
          <p:cNvSpPr/>
          <p:nvPr/>
        </p:nvSpPr>
        <p:spPr>
          <a:xfrm>
            <a:off x="1897200" y="428760"/>
            <a:ext cx="72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ТРО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M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В УКРАИНЕ – ПОДПЕВ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8715600" cy="53578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10"/>
          <p:cNvSpPr/>
          <p:nvPr/>
        </p:nvSpPr>
        <p:spPr>
          <a:xfrm>
            <a:off x="214200" y="4643280"/>
            <a:ext cx="30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Равномерное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покрытие по всей территории Украины является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одним из главных преимуществ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тро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 rot="10800000">
            <a:off x="-360" y="1785600"/>
            <a:ext cx="8072280" cy="100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 flipH="1" rot="10800000">
            <a:off x="5642640" y="5000400"/>
            <a:ext cx="3500280" cy="185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14720" y="487440"/>
            <a:ext cx="66434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РЕТРО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FM</a:t>
            </a:r>
            <a:r>
              <a:rPr b="1" lang="ru-RU" sz="2400" spc="-1" strike="noStrike">
                <a:solidFill>
                  <a:srgbClr val="333333"/>
                </a:solidFill>
                <a:latin typeface="Tahoma"/>
              </a:rPr>
              <a:t> В УКРАИНЕ – ПОДПЕВАЙ!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175280" y="5143320"/>
            <a:ext cx="49687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Размещение рекламы на Ретро </a:t>
            </a: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FM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в Украине: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Киев, Фрунзе, 39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ahoma"/>
              </a:rPr>
              <a:t>503-00-88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0" y="178596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Главные сюрпризы Ретро </a:t>
            </a:r>
            <a:r>
              <a:rPr b="1" lang="en-US" sz="1800" spc="-1" strike="noStrike">
                <a:solidFill>
                  <a:srgbClr val="595959"/>
                </a:solidFill>
                <a:latin typeface="Tahoma"/>
              </a:rPr>
              <a:t>FM </a:t>
            </a: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в Укра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ещё впере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ЛЮБИМ, СЛУШАЕМ, ПОДПЕВАЕ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abba4"/>
          <p:cNvPicPr/>
          <p:nvPr/>
        </p:nvPicPr>
        <p:blipFill>
          <a:blip r:embed="rId1"/>
          <a:stretch/>
        </p:blipFill>
        <p:spPr>
          <a:xfrm>
            <a:off x="7620120" y="1133640"/>
            <a:ext cx="1255680" cy="2474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mashinha vremeni1"/>
          <p:cNvPicPr/>
          <p:nvPr/>
        </p:nvPicPr>
        <p:blipFill>
          <a:blip r:embed="rId2"/>
          <a:stretch/>
        </p:blipFill>
        <p:spPr>
          <a:xfrm>
            <a:off x="6261120" y="1639800"/>
            <a:ext cx="1262160" cy="247500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11" descr="images.jpg"/>
          <p:cNvPicPr/>
          <p:nvPr/>
        </p:nvPicPr>
        <p:blipFill>
          <a:blip r:embed="rId3"/>
          <a:stretch/>
        </p:blipFill>
        <p:spPr>
          <a:xfrm>
            <a:off x="7620120" y="2639880"/>
            <a:ext cx="1261800" cy="246240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2" descr="images.jpg"/>
          <p:cNvPicPr/>
          <p:nvPr/>
        </p:nvPicPr>
        <p:blipFill>
          <a:blip r:embed="rId4"/>
          <a:stretch/>
        </p:blipFill>
        <p:spPr>
          <a:xfrm>
            <a:off x="6261120" y="3206880"/>
            <a:ext cx="1279440" cy="25351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0" y="4825440"/>
            <a:ext cx="3456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Tahoma"/>
              </a:rPr>
              <a:t>C</a:t>
            </a: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пециалист по прода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Вячеслав  Ку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+38 (067) 996-60-9</a:t>
            </a:r>
            <a:r>
              <a:rPr b="1" lang="en-US" sz="1800" spc="-1" strike="noStrike">
                <a:solidFill>
                  <a:srgbClr val="d60093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8 (044) 503-00-88  (72-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V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Kuzi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@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radiosal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u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0:35:39Z</dcterms:created>
  <dc:creator>admin</dc:creator>
  <dc:description/>
  <dc:language>en-US</dc:language>
  <cp:lastModifiedBy>v.kuzin</cp:lastModifiedBy>
  <dcterms:modified xsi:type="dcterms:W3CDTF">2008-11-04T12:26:19Z</dcterms:modified>
  <cp:revision>273</cp:revision>
  <dc:subject/>
  <dc:title>Слайд 1</dc:title>
</cp:coreProperties>
</file>