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35B-A28F-4F93-8C1C-F8130134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FD8C-0669-4B7B-BE32-96E74A5A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426-773C-4BB1-BEA2-AEBD263B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088-9FDF-4D09-AA4D-91E24667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7B3D-FF65-4173-827E-117D3FF8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C51F-620C-41C8-BA9B-A0855AD4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D275-C784-4D95-9066-EE8325A0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4EC1-0501-4ABC-87E3-7F52EBD1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48B5-FA39-4E32-8C79-089F9411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B575-F01A-456A-A2F1-40C17930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F60E-A8EB-44E1-87C2-9D4ADA25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4B6-4B76-4CA4-8C5B-59DA3EBA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4C43-B16B-428E-A30F-4C13CBDC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9B20-2490-4831-8CF9-98A28298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8C60-6824-413A-84E5-A4E69256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B406-2A0D-453F-B874-174FDE6C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1D45-391C-44BD-99DE-2D81B220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562-755E-4C5E-9183-48906E09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D83-A76A-4554-B55A-215B1F94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D21-5358-44FA-8831-B8373A31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FE8-5438-4F33-86F8-AFC124B8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4F0-8D55-4FBF-A9EC-0429AE52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B77-E3E6-48F3-A02B-0CEFD1B0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B11-9BBC-46B0-88B0-37E20D96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B0E3-F64F-468B-8AAB-C3806D3A925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CFD7-0B5A-4697-B132-99D5549EF10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ren-tv.com/pages/page_0.php?id_page=1273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ren-tv.com/pages/page_5.php?id_page=1175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ren-tv.com/pages/page_5.php?id_page=1645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4" descr="map rentv"/>
          <p:cNvPicPr/>
          <p:nvPr/>
        </p:nvPicPr>
        <p:blipFill>
          <a:blip r:embed="rId2"/>
          <a:stretch/>
        </p:blipFill>
        <p:spPr>
          <a:xfrm>
            <a:off x="3900600" y="0"/>
            <a:ext cx="5243400" cy="67816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80880" y="2744640"/>
            <a:ext cx="403884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600200"/>
                <a:tab algn="ctr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Verdana"/>
              </a:rPr>
              <a:t>С  </a:t>
            </a:r>
            <a:r>
              <a:rPr b="1" lang="ru-RU" sz="1500" spc="-1" strike="noStrike">
                <a:solidFill>
                  <a:srgbClr val="5f5f5f"/>
                </a:solidFill>
                <a:latin typeface="Verdana"/>
              </a:rPr>
              <a:t>1 октября 2007 г.</a:t>
            </a:r>
            <a:r>
              <a:rPr b="0" lang="ru-RU" sz="1500" spc="-1" strike="noStrike">
                <a:solidFill>
                  <a:srgbClr val="5f5f5f"/>
                </a:solidFill>
                <a:latin typeface="Verdana"/>
              </a:rPr>
              <a:t> значительно увеличилась зона вещания телеканала</a:t>
            </a:r>
            <a:r>
              <a:rPr b="0" lang="ru-RU" sz="15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ru-RU" sz="1500" spc="-1" strike="noStrike">
                <a:solidFill>
                  <a:srgbClr val="ff6600"/>
                </a:solidFill>
                <a:latin typeface="Verdana"/>
              </a:rPr>
              <a:t>РЕН ТВ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600200"/>
                <a:tab algn="ctr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600200"/>
                <a:tab algn="ctr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Verdana"/>
              </a:rPr>
              <a:t>Теперь канал транслируется на</a:t>
            </a:r>
            <a:r>
              <a:rPr b="0" lang="ru-RU" sz="14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5f5f5f"/>
                </a:solidFill>
                <a:latin typeface="Verdana"/>
              </a:rPr>
              <a:t>всю территорию Молдовы!</a:t>
            </a:r>
            <a:r>
              <a:rPr b="0" lang="ru-RU" sz="1600" spc="-1" strike="noStrike">
                <a:solidFill>
                  <a:srgbClr val="ff6600"/>
                </a:solidFill>
                <a:latin typeface="Verdan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600200"/>
                <a:tab algn="ctr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600200"/>
                <a:tab algn="ctr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Verdana"/>
              </a:rPr>
              <a:t>Это открывает новые коммуникационные возможности для Вашего бизнеса по выходу на целевые аудитории по всей республике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600200"/>
                <a:tab algn="ctr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600200"/>
                <a:tab algn="ctr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Verdana"/>
              </a:rPr>
              <a:t>* все кабельные сети Молдов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80880" y="169056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5f5f"/>
                </a:solidFill>
                <a:latin typeface="Verdana"/>
              </a:rPr>
              <a:t>Расширение зоны покрытия канала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6600"/>
                </a:solidFill>
                <a:latin typeface="Verdana"/>
              </a:rPr>
              <a:t>РЕН ТВ </a:t>
            </a:r>
            <a:r>
              <a:rPr b="1" lang="ru-RU" sz="1600" spc="-1" strike="noStrike">
                <a:solidFill>
                  <a:srgbClr val="5f5f5f"/>
                </a:solidFill>
                <a:latin typeface="Verdana"/>
              </a:rPr>
              <a:t>в Молдов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16" descr="logo rentv"/>
          <p:cNvPicPr/>
          <p:nvPr/>
        </p:nvPicPr>
        <p:blipFill>
          <a:blip r:embed="rId3"/>
          <a:stretch/>
        </p:blipFill>
        <p:spPr>
          <a:xfrm>
            <a:off x="684360" y="228600"/>
            <a:ext cx="12049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296720"/>
            <a:ext cx="4418280" cy="2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f5f5f"/>
                </a:solidFill>
                <a:latin typeface="Verdana"/>
              </a:rPr>
              <a:t>Программное наполнение канала: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101680"/>
            <a:ext cx="5181840" cy="20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</a:rPr>
              <a:t>Информационно-аналитические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</a:rPr>
              <a:t>Спорт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</a:rPr>
              <a:t>Развлекательные программ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</a:rPr>
              <a:t>Документальные программ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</a:rPr>
              <a:t>Кин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5f5f5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</a:rPr>
              <a:t>Сериалы</a:t>
            </a:r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news24"/>
          <p:cNvPicPr/>
          <p:nvPr/>
        </p:nvPicPr>
        <p:blipFill>
          <a:blip r:embed="rId2"/>
          <a:stretch/>
        </p:blipFill>
        <p:spPr>
          <a:xfrm>
            <a:off x="4800600" y="2906640"/>
            <a:ext cx="1446120" cy="107316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6" name="Picture 6" descr="s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2895480"/>
            <a:ext cx="1447920" cy="10782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107" name="Picture 8" descr="back_valuev19-1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15200" y="4178160"/>
            <a:ext cx="1295280" cy="101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8" name="Picture 9" descr="&gt;«Вечер с Тиграном Кеосаяном»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943600" y="4194000"/>
            <a:ext cx="1219320" cy="957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9" name="Picture 10" descr="&gt;«Званый ужин»"/>
          <p:cNvPicPr/>
          <p:nvPr/>
        </p:nvPicPr>
        <p:blipFill>
          <a:blip r:embed="rId9"/>
          <a:stretch/>
        </p:blipFill>
        <p:spPr>
          <a:xfrm>
            <a:off x="1905120" y="4270320"/>
            <a:ext cx="1143000" cy="90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0" name="Picture 11" descr="&gt;«Военная тайна»"/>
          <p:cNvPicPr/>
          <p:nvPr/>
        </p:nvPicPr>
        <p:blipFill>
          <a:blip r:embed="rId10"/>
          <a:stretch/>
        </p:blipFill>
        <p:spPr>
          <a:xfrm>
            <a:off x="609480" y="4270320"/>
            <a:ext cx="1143000" cy="893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1" name="Picture 12" descr="&gt;Цикл документальных расследований «Громкое дело»"/>
          <p:cNvPicPr/>
          <p:nvPr/>
        </p:nvPicPr>
        <p:blipFill>
          <a:blip r:embed="rId11"/>
          <a:stretch/>
        </p:blipFill>
        <p:spPr>
          <a:xfrm>
            <a:off x="3200400" y="4227480"/>
            <a:ext cx="1197000" cy="93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2" name="Picture 13" descr="&gt;«Солдаты»"/>
          <p:cNvPicPr/>
          <p:nvPr/>
        </p:nvPicPr>
        <p:blipFill>
          <a:blip r:embed="rId12"/>
          <a:stretch/>
        </p:blipFill>
        <p:spPr>
          <a:xfrm>
            <a:off x="4572000" y="4194000"/>
            <a:ext cx="1238400" cy="962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13" name="Picture 18" descr="logo rentv"/>
          <p:cNvPicPr/>
          <p:nvPr/>
        </p:nvPicPr>
        <p:blipFill>
          <a:blip r:embed="rId13"/>
          <a:stretch/>
        </p:blipFill>
        <p:spPr>
          <a:xfrm>
            <a:off x="5416560" y="542880"/>
            <a:ext cx="12049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7:49:15Z</dcterms:created>
  <dc:creator>user</dc:creator>
  <dc:description/>
  <dc:language>en-US</dc:language>
  <cp:lastModifiedBy>Andrew</cp:lastModifiedBy>
  <dcterms:modified xsi:type="dcterms:W3CDTF">2007-10-02T11:16:51Z</dcterms:modified>
  <cp:revision>146</cp:revision>
  <dc:subject/>
  <dc:title>Слайд 1</dc:title>
</cp:coreProperties>
</file>