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3b30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49A70-B2BA-4C40-89C8-A83319FF41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604BC-2208-43E8-A350-478FBB1F0F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0D3D0-820A-4E14-B4E5-BD7B890BE8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B4E4-A3E9-4A40-A904-3E82B31BE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6DD6-B600-4E26-8CFA-8737A1601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B0CAF8-99E9-4DB4-BF75-3533E1122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3C0989-D05C-47C3-A2F3-0F001C697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5C1E36-9AB9-4FCA-8258-D5B9282A6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B4E815-CF02-4CCC-A86B-B708D5DCA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F217B3-C4AB-44A9-AC68-A8B038F3E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A7792E-D8F5-4BFC-9CA3-524D42405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03F148-8FDD-4762-AD96-D43D073C3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13A5BA-BD3D-4BBF-A029-69EE3F3A5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FD1C69-E78C-499D-B0D5-00D28658B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F64F56-7B60-4F84-84FA-8C26D6F06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BD41-AC37-4577-BEB0-D2EC29505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BAD5BB-1B94-4B83-A11A-11077CC63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4D3D9C-2F85-413A-A7DE-73EE6E97F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AFB414-0FFB-4E2D-8F82-DF12AFCC2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2F526E-BFA7-40AA-A640-F0C03CE77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1BCD42-212F-4467-8387-1832BDA2D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A33BEB-623F-4DA5-A7E8-267985E14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0BC22E-B218-4F4B-BE2C-AE22CCC30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9B95E4-D283-481C-A241-D8F7D8D25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BEDA97-290F-4ABD-AC0E-1921A7393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9BA984-EBBA-4B97-89B8-BA131B2D7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600E-2637-4727-8252-0BC72DCC5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467B34-A594-4EA9-9140-C856C0514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97FB2E-E6C3-476E-BF06-2CC2512B6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38CFEC-2C07-48DA-8151-0EB043F73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D681CE-A5F4-4A4D-9460-814B25A2B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8CB62E-056B-4C0F-A944-6D4792BEC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093F9F-0022-49D0-8BC8-99006C7C0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01F419-8274-424B-BDEB-2ADE841A7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18BBE4-1E97-4D04-A336-9F76C1246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98EFB6-BBFF-44AC-86F2-09D80428D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1C8825-3ADB-4BC3-82C7-421A44D3F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DE4A5-5E2B-47E3-A3EA-E2AFF8048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AE1B7D-AF68-4834-9765-B265B5FFA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85C8FE-6584-4ADD-B479-8C13A34D7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D4D1B5-24BD-4E98-BE58-733B3E519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CEAC8E-BA98-4BB9-931C-AB0AC72DB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AC214A-A087-4805-B11E-DEBCD8090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5C40A7-6103-4496-A645-DE9EE161C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13FA48-854B-4339-8364-04C961463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83C5AA-5A4F-48D2-B1D4-7A99EF1A3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95C5A2-5BD8-487E-99D5-1EE6C1D11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A36C4D-5106-48DA-82BF-1B97A87E2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6DD4D-7A32-4EB5-AB2F-72C9E03C1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701474-6639-44B1-A04D-A365493A5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25573C-DE4F-49C2-8FEE-FD26AFE63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2DB5AF-41CB-4C64-B735-1A62B5F49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961F07-6260-4620-B40B-4583F0B31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649078-C2EB-43CE-A189-5BD8807E3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4E8C8-FD41-47A0-BF3D-040802A89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3347E-6942-43AD-89A9-BD98E89D3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41FA6-0626-418D-8981-D791AC35A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4309B-910D-462C-86A6-7733E6C57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DA61C-68B6-49F0-9CAF-292BD7AB1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D22C-EEB2-4752-8CEA-29C1C7ECA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0EDBC-5E13-4F15-A582-DEC17724D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B2940-58AA-4F98-97D7-EA46CDBB9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9663D-73D5-4681-818F-E78B4FDC6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B48BA-7A62-427E-962D-33B06FD3B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18D4C-610D-4343-B414-9077057D0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A7A7FD-A018-404D-AC8F-EB2B708BE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990F76-3DC4-46D4-B05C-4FEF10AC4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33BF58-355E-4B2D-A353-B81774E5A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D1E04C-3E95-40C5-AE27-747215AF4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FFEF84-3965-4818-9A87-18A71B13B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763E-68B7-48BA-BC8D-EE41724CB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57965E-50F1-432E-83DF-F089EA3CA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5E9727-D028-411E-989B-B9E8875B1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E79116-2791-4968-BA29-67DA9ADAA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297333-22D9-4B6D-B1BF-C0A9CCF92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16CF53-A32F-400F-85B5-D90579349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E24FE9-EAC2-4776-A68F-4A8247835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AB3707-FE65-4679-8F1B-7168FA3BC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663380-460E-43D2-8986-949D75344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3A53D1-7600-4E94-A4F0-D7B0A10A4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D1DFEF-5362-4949-88F1-325D79F2A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B87D-9886-4108-85C6-1730287BF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F1C5D9-0A00-488A-BD09-C6771E2B7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AA030B-ABFE-4D07-8046-4A9429258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FA639A-AAEF-447C-A339-BF3FFAE17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35779C-1D67-463F-9D60-2C334FA67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64B856-3CC6-473F-8D06-81644CB9D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A9092A-0564-4572-9001-B4918AB11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C5B944-5D60-42E8-BB54-9E7AE9D44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D18693-08B0-4AC5-9974-91CD014DA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96EE9A-4117-43E3-A999-74D22DD8A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F1CE59-6C46-43E4-A2C3-C3389DE4F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84A0-3046-4403-90AE-FC7D12397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E1B8BA-2353-47AC-9E64-2583FCABF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364246-02D8-4E5F-A224-3E77D0761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6A2403-FEEC-4FC9-AE79-E46F96F36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61A90F-929E-45F8-B0FF-FB75CC8A9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4FD8E2-395F-4578-ABFB-198644DD6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52C85E-80A0-4957-9B03-078E25DDE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F3D6F6-986A-47BF-85B5-6CF329C97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10E225-382C-4748-9776-8DF42F6AB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FAC088-F21A-4D19-AB87-FB3368995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1DEC6C-DEE6-41C2-BB81-A0CBD3D40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D52B-FD81-4E44-AE3A-CAFCD0842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1FB41E-F1F5-48DD-9DC7-D81C0423A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46C75BE-CB4A-4801-8370-86E231364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F6E4477-1542-43F0-81FE-95BD0BFC5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314B8E-633C-4246-984F-A90E5000D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F719089-48EF-4074-9BD1-43049B86A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A4BDD5-1FA2-407C-8DF6-C47687B36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1FD90A7-CD2B-4BDA-A739-2BD8CC7EF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361B580-E5D2-48FF-B1CA-497067E81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5D2DBA7-3BDD-4C20-8EC2-749A79FB2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9F9C545-9BE6-4116-AD72-F4460973B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FE8A-11C3-4A0B-BA1A-D8A3EBE89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49199EE-0856-48B5-8370-1DD05382E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4D0F0E0-5935-4356-ACA6-5772BAB35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798E2B3-918C-4A6E-80A0-5E62A18AA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F843FF-0EE0-49EA-B19E-F7B004DD3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A14941-C052-4642-B748-6D2299295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EFE506-F476-4052-A54B-011C225B1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A584A6-C0BA-488E-9041-87BC63F27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49D6DD-A4E3-4E15-AD2F-8E36D0A52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AF1382-784C-4679-8903-4D8871CF0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D5A132-BE56-4850-AD32-6D51D2DC3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A161-325C-492F-B63F-C3097E1B1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25244F-DE59-4D05-A19F-32A2A68E2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ABD315-ADB3-4017-A2AA-B12BC5E15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F9DABD-09DC-4660-9D42-01B11DDDC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6A493D-B074-4ED8-A816-0834961A7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EBF110-2D41-4AAF-B352-B4C29FA1E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9A5EB2-3B69-4C8F-985E-42191FBF2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EFE1D5-CE36-4567-BD44-9BFDC6CCC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5D45CF-2B9B-426D-AD4A-E700053F3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799C8F-8240-4AF4-B3E8-D7CC75960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EA5897-285A-4782-94B9-1B77C5F1C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00A4-EC81-4996-89E8-2835081A9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833B77-20FC-4C9A-97B7-C532D1108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8FC794-1048-4D75-AE3C-0EBD78C68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B989A7-D598-4B14-A2C9-6579808BA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EB3E99-40A1-411C-8593-432792682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C20287-E0FC-4D50-9EFD-2F8F2A78B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E73DE6-698A-45DF-AFC4-9257239BB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F2F391-05CA-445F-8397-8548698CE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E3D2CA-7083-451E-83F2-D0CE99CE1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15EFB0-FFC1-41B9-9364-C4617C022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B01B1B-C195-4EEB-BA77-14A12B84C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a5644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e3b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a564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a564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a5644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3b3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b58b8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a5644e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f0a2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f0a2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b58b8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a5644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76265-4AB9-4731-B671-8145EE8694FE}" type="datetime">
              <a:rPr b="0" lang="en-US" sz="800" spc="-1" strike="noStrike">
                <a:solidFill>
                  <a:srgbClr val="a5644e"/>
                </a:solidFill>
                <a:latin typeface="Times New Roman"/>
              </a:rPr>
              <a:t>07/29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E6728-DD01-4AB1-953F-D4F8D81FB4E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a5644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e3b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a564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a564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a5644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3b3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b58b8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a5644e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f0a2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f0a2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b58b8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a5644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BE539-D423-48CD-B7A5-91430C669161}" type="datetime">
              <a:rPr b="0" lang="en-US" sz="800" spc="-1" strike="noStrike">
                <a:solidFill>
                  <a:srgbClr val="a5644e"/>
                </a:solidFill>
                <a:latin typeface="Times New Roman"/>
              </a:rPr>
              <a:t>07/29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D2AC9-B049-4532-8F51-290C3629A8C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a5644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e3b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a564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a564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a5644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3b3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b58b8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a5644e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f0a2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f0a2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b58b8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a5644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B50D9-333D-4A0B-8FF1-484A0BB961D2}" type="datetime">
              <a:rPr b="0" lang="en-US" sz="800" spc="-1" strike="noStrike">
                <a:solidFill>
                  <a:srgbClr val="a5644e"/>
                </a:solidFill>
                <a:latin typeface="Times New Roman"/>
              </a:rPr>
              <a:t>07/29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1E9AC-989B-4F0E-8DE3-4C4E7FD553B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a5644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e3b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a564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a564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a5644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3b3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b58b8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a5644e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f0a2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f0a2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b58b8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a5644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8C6DB-2713-4452-B0C2-F7EFBDE98262}" type="datetime">
              <a:rPr b="0" lang="en-US" sz="800" spc="-1" strike="noStrike">
                <a:solidFill>
                  <a:srgbClr val="a5644e"/>
                </a:solidFill>
                <a:latin typeface="Times New Roman"/>
              </a:rPr>
              <a:t>07/29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ECA45-BFDF-42E4-9330-AC18569B7B4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a564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a5644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a5644e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a5644e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a5644e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a5644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a564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a564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e3b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3b3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b58b8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a5644e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f0a2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f0a2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b58b8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a5644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3160B-4F85-4DE4-AFE6-E2C778BE52CC}" type="datetime">
              <a:rPr b="0" lang="en-US" sz="800" spc="-1" strike="noStrike">
                <a:solidFill>
                  <a:srgbClr val="a5644e"/>
                </a:solidFill>
                <a:latin typeface="Times New Roman"/>
              </a:rPr>
              <a:t>07/29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94A0D-8E19-4CB4-A611-CABE479FC57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a5644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e3b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a564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a564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a5644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3b3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b58b8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a5644e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f0a2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f0a2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b58b8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a5644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3970A-2B16-442B-9FEC-0C9BCE9EEF8D}" type="datetime">
              <a:rPr b="0" lang="en-US" sz="800" spc="-1" strike="noStrike">
                <a:solidFill>
                  <a:srgbClr val="a5644e"/>
                </a:solidFill>
                <a:latin typeface="Times New Roman"/>
              </a:rPr>
              <a:t>07/29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EE004-965C-4811-8433-AFDF680DE9A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a5644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e3b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a564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a564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a5644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3b3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b58b8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a5644e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f0a2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f0a2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b58b8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a5644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F7CBD-B3BF-416C-81DE-8818641A22A3}" type="datetime">
              <a:rPr b="0" lang="en-US" sz="800" spc="-1" strike="noStrike">
                <a:solidFill>
                  <a:srgbClr val="a5644e"/>
                </a:solidFill>
                <a:latin typeface="Times New Roman"/>
              </a:rPr>
              <a:t>07/29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FAF6A-B231-4188-8559-C0BA4CB9343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a5644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e3b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a564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a564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a5644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3b3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b58b8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a5644e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f0a2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f0a2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b58b8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a5644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A512D-FE06-449E-AB82-4C7622F9577D}" type="datetime">
              <a:rPr b="0" lang="en-US" sz="800" spc="-1" strike="noStrike">
                <a:solidFill>
                  <a:srgbClr val="a5644e"/>
                </a:solidFill>
                <a:latin typeface="Times New Roman"/>
              </a:rPr>
              <a:t>07/29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E8C4E-AD65-44E9-99AA-3BC66771BA1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a5644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e3b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a564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a564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a5644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3b3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b58b8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a5644e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f0a2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f0a2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b58b8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a5644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4D050-9E18-49AC-9FBB-45976FF8A75D}" type="datetime">
              <a:rPr b="0" lang="en-US" sz="800" spc="-1" strike="noStrike">
                <a:solidFill>
                  <a:srgbClr val="a5644e"/>
                </a:solidFill>
                <a:latin typeface="Times New Roman"/>
              </a:rPr>
              <a:t>07/29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FF357-4F6C-46F5-9BAA-F5B3EA0E9FD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a5644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e3b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a564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a564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a5644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3b3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b58b8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a5644e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f0a2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f0a2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b58b8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a5644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ADE3F-2456-4BFD-B9A9-20AA6005A36C}" type="datetime">
              <a:rPr b="0" lang="en-US" sz="800" spc="-1" strike="noStrike">
                <a:solidFill>
                  <a:srgbClr val="a5644e"/>
                </a:solidFill>
                <a:latin typeface="Times New Roman"/>
              </a:rPr>
              <a:t>07/29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6C674-1BE6-4279-907B-1657F1C5355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a5644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e3b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a564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a564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a5644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3b3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b58b8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a5644e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f0a2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f0a2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b58b8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a5644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8A81D-B9D7-4C53-8905-665E60CF2A5B}" type="datetime">
              <a:rPr b="0" lang="en-US" sz="800" spc="-1" strike="noStrike">
                <a:solidFill>
                  <a:srgbClr val="a5644e"/>
                </a:solidFill>
                <a:latin typeface="Times New Roman"/>
              </a:rPr>
              <a:t>07/29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21FA6-826C-412A-9035-7A9D5D68CF4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a5644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e3b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a564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a564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a5644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3b3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b58b8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a5644e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f0a2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f0a2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b58b8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a5644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A9046-5BB7-44A6-8E31-D7511D1ACD3B}" type="datetime">
              <a:rPr b="0" lang="en-US" sz="800" spc="-1" strike="noStrike">
                <a:solidFill>
                  <a:srgbClr val="a5644e"/>
                </a:solidFill>
                <a:latin typeface="Times New Roman"/>
              </a:rPr>
              <a:t>07/29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9FAD5-7DD7-432E-9760-6174F95E8D1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42560" y="2428560"/>
            <a:ext cx="8458200" cy="82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eorgia"/>
              </a:rPr>
              <a:t>Телеканал «ТНТ </a:t>
            </a:r>
            <a:r>
              <a:rPr b="1" lang="en-US" sz="4000" spc="-1" strike="noStrike">
                <a:solidFill>
                  <a:srgbClr val="ffffff"/>
                </a:solidFill>
                <a:latin typeface="Georgia"/>
              </a:rPr>
              <a:t>Bravo</a:t>
            </a:r>
            <a:r>
              <a:rPr b="1" lang="ru-RU" sz="4000" spc="-1" strike="noStrike">
                <a:solidFill>
                  <a:srgbClr val="ffffff"/>
                </a:solidFill>
                <a:latin typeface="Georgia"/>
              </a:rPr>
              <a:t>».</a:t>
            </a:r>
            <a:endParaRPr b="0" lang="en-US" sz="4000" spc="-1" strike="noStrike">
              <a:solidFill>
                <a:srgbClr val="4e3b30"/>
              </a:solidFill>
              <a:latin typeface="Trebuchet MS"/>
            </a:endParaRPr>
          </a:p>
        </p:txBody>
      </p:sp>
      <p:pic>
        <p:nvPicPr>
          <p:cNvPr id="654" name="Picture 8" descr="Logo"/>
          <p:cNvPicPr/>
          <p:nvPr/>
        </p:nvPicPr>
        <p:blipFill>
          <a:blip r:embed="rId1"/>
          <a:srcRect l="17998" t="31378" r="17445" b="14774"/>
          <a:stretch/>
        </p:blipFill>
        <p:spPr>
          <a:xfrm>
            <a:off x="3214800" y="4643280"/>
            <a:ext cx="1890720" cy="11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Text Box 3"/>
          <p:cNvSpPr/>
          <p:nvPr/>
        </p:nvSpPr>
        <p:spPr>
          <a:xfrm>
            <a:off x="285840" y="2428920"/>
            <a:ext cx="46782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  <a:ea typeface="Arial"/>
              </a:rPr>
              <a:t>Вещание: кабельные се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  <a:ea typeface="Arial"/>
              </a:rPr>
              <a:t>Техническое покрытие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  <a:ea typeface="Arial"/>
              </a:rPr>
              <a:t>более 85% кабельных сетей страны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AutoShape 8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7" name="Picture 10" descr=""/>
          <p:cNvPicPr/>
          <p:nvPr/>
        </p:nvPicPr>
        <p:blipFill>
          <a:blip r:embed="rId1"/>
          <a:stretch/>
        </p:blipFill>
        <p:spPr>
          <a:xfrm>
            <a:off x="4896000" y="836640"/>
            <a:ext cx="4248000" cy="5767200"/>
          </a:xfrm>
          <a:prstGeom prst="rect">
            <a:avLst/>
          </a:prstGeom>
          <a:ln w="0">
            <a:noFill/>
          </a:ln>
        </p:spPr>
      </p:pic>
      <p:sp>
        <p:nvSpPr>
          <p:cNvPr id="658" name="Text Box 13"/>
          <p:cNvSpPr/>
          <p:nvPr/>
        </p:nvSpPr>
        <p:spPr>
          <a:xfrm>
            <a:off x="142920" y="6429240"/>
            <a:ext cx="5435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Georgia"/>
              </a:rPr>
              <a:t>Источник 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:  EMH-Garant-Siste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9" name="Picture 8" descr="Logo"/>
          <p:cNvPicPr/>
          <p:nvPr/>
        </p:nvPicPr>
        <p:blipFill>
          <a:blip r:embed="rId2"/>
          <a:srcRect l="17998" t="31378" r="17445" b="14774"/>
          <a:stretch/>
        </p:blipFill>
        <p:spPr>
          <a:xfrm>
            <a:off x="1428840" y="642960"/>
            <a:ext cx="1890720" cy="118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28400" y="713880"/>
            <a:ext cx="532908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33a2c"/>
                </a:solidFill>
                <a:latin typeface="Georgia"/>
              </a:rPr>
              <a:t>Типология программ</a:t>
            </a:r>
            <a:endParaRPr b="0" lang="en-US" sz="4000" spc="-1" strike="noStrike">
              <a:solidFill>
                <a:srgbClr val="4e3b30"/>
              </a:solidFill>
              <a:latin typeface="Trebuchet MS"/>
            </a:endParaRPr>
          </a:p>
        </p:txBody>
      </p:sp>
      <p:pic>
        <p:nvPicPr>
          <p:cNvPr id="661" name="Picture 8" descr="Logo"/>
          <p:cNvPicPr/>
          <p:nvPr/>
        </p:nvPicPr>
        <p:blipFill>
          <a:blip r:embed="rId1"/>
          <a:srcRect l="18002" t="31388" r="17436" b="14762"/>
          <a:stretch/>
        </p:blipFill>
        <p:spPr>
          <a:xfrm>
            <a:off x="6429240" y="642960"/>
            <a:ext cx="1643040" cy="1030320"/>
          </a:xfrm>
          <a:prstGeom prst="rect">
            <a:avLst/>
          </a:prstGeom>
          <a:ln w="0">
            <a:noFill/>
          </a:ln>
        </p:spPr>
      </p:pic>
      <p:pic>
        <p:nvPicPr>
          <p:cNvPr id="662" name="Диаграмма 4" descr=""/>
          <p:cNvPicPr/>
          <p:nvPr/>
        </p:nvPicPr>
        <p:blipFill>
          <a:blip r:embed="rId2"/>
          <a:stretch/>
        </p:blipFill>
        <p:spPr>
          <a:xfrm>
            <a:off x="420840" y="1706400"/>
            <a:ext cx="8302320" cy="4730760"/>
          </a:xfrm>
          <a:prstGeom prst="rect">
            <a:avLst/>
          </a:prstGeom>
          <a:ln w="0">
            <a:noFill/>
          </a:ln>
        </p:spPr>
      </p:pic>
      <p:sp>
        <p:nvSpPr>
          <p:cNvPr id="663" name="Text Box 7"/>
          <p:cNvSpPr/>
          <p:nvPr/>
        </p:nvSpPr>
        <p:spPr>
          <a:xfrm>
            <a:off x="0" y="6627960"/>
            <a:ext cx="5435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Georgia"/>
              </a:rPr>
              <a:t>Источник данных</a:t>
            </a: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: </a:t>
            </a:r>
            <a:r>
              <a:rPr b="0" lang="ru-RU" sz="900" spc="-1" strike="noStrike">
                <a:solidFill>
                  <a:srgbClr val="000000"/>
                </a:solidFill>
                <a:latin typeface="Georgia"/>
              </a:rPr>
              <a:t>TV MR MLD, официальный представитель AGB Nielsen Medi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4T12:39:02Z</dcterms:created>
  <dc:creator/>
  <dc:description/>
  <dc:language>en-US</dc:language>
  <cp:lastModifiedBy/>
  <dcterms:modified xsi:type="dcterms:W3CDTF">2009-02-05T15:34:25Z</dcterms:modified>
  <cp:revision>6</cp:revision>
  <dc:subject/>
  <dc:title>Плавная интеграция в местный рынок ТВ рекламы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lpwstr>1049</vt:lpwstr>
  </property>
  <property fmtid="{D5CDD505-2E9C-101B-9397-08002B2CF9AE}" pid="3" name="_TemplateID">
    <vt:lpwstr>TC101671291049</vt:lpwstr>
  </property>
</Properties>
</file>