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076-8AEF-4EF8-8039-520393CE6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3928-1DF8-439D-9D64-1B4EF8E4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1FE-FF32-4AC1-AC0A-9AA204A8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DD2-47D8-47DC-9443-2440042D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2513-E768-4A06-B971-383FDF23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EE88-CD8F-4DB8-B14D-9092A222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0C8E-E98B-494B-89D4-C0E2E757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A148-CF0D-4E19-9160-13B5F042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81D0-834C-4875-8164-8044F9F9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BA2-EF8C-4767-B1A7-A0FCC73E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4D7C-69C7-4286-9C00-5D170221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1F1-AA07-47DA-87A4-2606A7FC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437F-4050-4D9C-B7A2-3842BAB5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1348-C8BF-49EA-AF57-DE7033B1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9E78-6168-4A28-9101-406AEE6C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6A64-8EA2-4280-B140-907BD9E8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AFBE-DA25-477F-988D-C86D0B4B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8847-52B5-4DF6-BED8-300EF780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7D6-5EF7-4E1E-A0AE-43DE361F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12F-8ABC-4D85-84A4-00A08AA2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3D3-85E3-4A91-8395-D15F613B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A41-5130-44AE-AA06-6B54F525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0DAE-C783-4729-9C58-95AD69B2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708-F394-463B-AD0D-501778F6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4AA5-EA37-459F-B31A-624D6C18198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C940-B854-4F0F-9EDF-73577FC65BE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8"/>
          <p:cNvSpPr/>
          <p:nvPr/>
        </p:nvSpPr>
        <p:spPr>
          <a:xfrm>
            <a:off x="457200" y="2620800"/>
            <a:ext cx="42670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5f5f5f"/>
                </a:solidFill>
                <a:latin typeface="Verdana"/>
              </a:rPr>
              <a:t>Техническое покрытие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f5f5f"/>
                </a:solidFill>
                <a:latin typeface="Verdana"/>
              </a:rPr>
              <a:t>Эфир</a:t>
            </a:r>
            <a:r>
              <a:rPr b="0" lang="ru-RU" sz="1500" spc="-1" strike="noStrike">
                <a:solidFill>
                  <a:srgbClr val="5f5f5f"/>
                </a:solidFill>
                <a:latin typeface="Verdana"/>
              </a:rPr>
              <a:t> – 39 Дмв канал г. Бельцы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920"/>
                <a:tab algn="l" pos="914400"/>
                <a:tab algn="l" pos="1600200"/>
                <a:tab algn="ctr" pos="2398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f5f5f"/>
                </a:solidFill>
                <a:latin typeface="Verdana"/>
              </a:rPr>
              <a:t>Кабель</a:t>
            </a:r>
            <a:r>
              <a:rPr b="0" lang="ru-RU" sz="1500" spc="-1" strike="noStrike">
                <a:solidFill>
                  <a:srgbClr val="5f5f5f"/>
                </a:solidFill>
                <a:latin typeface="Verdana"/>
              </a:rPr>
              <a:t> – 27 кабельных сетей Молдовы (Кишинев и Север</a:t>
            </a:r>
            <a:r>
              <a:rPr b="0" lang="en-US" sz="15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ru-RU" sz="1500" spc="-1" strike="noStrike">
                <a:solidFill>
                  <a:srgbClr val="5f5f5f"/>
                </a:solidFill>
                <a:latin typeface="Verdana"/>
              </a:rPr>
              <a:t>Молдовы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12" descr="logoN4"/>
          <p:cNvPicPr/>
          <p:nvPr/>
        </p:nvPicPr>
        <p:blipFill>
          <a:blip r:embed="rId2"/>
          <a:stretch/>
        </p:blipFill>
        <p:spPr>
          <a:xfrm>
            <a:off x="457200" y="533520"/>
            <a:ext cx="909720" cy="903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ap n4"/>
          <p:cNvPicPr/>
          <p:nvPr/>
        </p:nvPicPr>
        <p:blipFill>
          <a:blip r:embed="rId3"/>
          <a:stretch/>
        </p:blipFill>
        <p:spPr>
          <a:xfrm>
            <a:off x="3841920" y="0"/>
            <a:ext cx="5302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9"/>
          <p:cNvSpPr/>
          <p:nvPr/>
        </p:nvSpPr>
        <p:spPr>
          <a:xfrm>
            <a:off x="457200" y="1904400"/>
            <a:ext cx="3657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f5f5f"/>
                </a:solidFill>
                <a:latin typeface="Verdana"/>
              </a:rPr>
              <a:t>Зона покрытия телеканала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ff2f2f"/>
                </a:solidFill>
                <a:latin typeface="Verdana"/>
              </a:rPr>
              <a:t>N4</a:t>
            </a:r>
            <a:r>
              <a:rPr b="1" lang="ru-RU" sz="1500" spc="-1" strike="noStrike">
                <a:solidFill>
                  <a:srgbClr val="ff2f2f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040" y="3580920"/>
            <a:ext cx="507852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Кино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Сериал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Новост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Документальные фильм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Научно-популярные фильм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f5f5f"/>
                </a:solidFill>
                <a:latin typeface="Verdana"/>
              </a:rPr>
              <a:t>Ежедневные информационные передач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914400" y="1222200"/>
            <a:ext cx="4572000" cy="2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f5f5f"/>
                </a:solidFill>
                <a:latin typeface="Verdana"/>
              </a:rPr>
              <a:t>Программное наполнение канала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914400" y="2362320"/>
            <a:ext cx="71629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c1c1c"/>
                </a:solidFill>
                <a:latin typeface="Verdana"/>
              </a:rPr>
              <a:t>N4</a:t>
            </a:r>
            <a:r>
              <a:rPr b="0" lang="ru-RU" sz="1500" spc="-1" strike="noStrike">
                <a:solidFill>
                  <a:srgbClr val="1c1c1c"/>
                </a:solidFill>
                <a:latin typeface="Verdana"/>
              </a:rPr>
              <a:t> </a:t>
            </a:r>
            <a:r>
              <a:rPr b="1" lang="ru-RU" sz="1500" spc="-1" strike="noStrike">
                <a:solidFill>
                  <a:srgbClr val="1c1c1c"/>
                </a:solidFill>
                <a:latin typeface="Verdana"/>
              </a:rPr>
              <a:t>- </a:t>
            </a:r>
            <a:r>
              <a:rPr b="0" lang="ru-RU" sz="1500" spc="-1" strike="noStrike">
                <a:solidFill>
                  <a:srgbClr val="1c1c1c"/>
                </a:solidFill>
                <a:latin typeface="Verdana"/>
              </a:rPr>
              <a:t>телеканал, рассчитанный на активных людей, которые хотят быть в курсе событий республики, любят отдохнуть у телевизора и готовы потреблять, наряду с передачами и фильмами мировых производителей, телевизионные проекты местного производства.</a:t>
            </a:r>
            <a:r>
              <a:rPr b="0" lang="ru-RU" sz="1500" spc="-1" strike="noStrike">
                <a:solidFill>
                  <a:srgbClr val="1c1c1c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3" descr="logoN4"/>
          <p:cNvPicPr/>
          <p:nvPr/>
        </p:nvPicPr>
        <p:blipFill>
          <a:blip r:embed="rId2"/>
          <a:stretch/>
        </p:blipFill>
        <p:spPr>
          <a:xfrm>
            <a:off x="5796000" y="770040"/>
            <a:ext cx="909720" cy="90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07:49:15Z</dcterms:created>
  <dc:creator>user</dc:creator>
  <dc:description/>
  <dc:language>en-US</dc:language>
  <cp:lastModifiedBy>Andrew</cp:lastModifiedBy>
  <dcterms:modified xsi:type="dcterms:W3CDTF">2007-10-02T11:15:41Z</dcterms:modified>
  <cp:revision>146</cp:revision>
  <dc:subject/>
  <dc:title>Слайд 1</dc:title>
</cp:coreProperties>
</file>