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5283-B613-41E3-B58B-58E9BD090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7468-62BF-43C0-A68A-5B0786AFE3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82800" y="749160"/>
            <a:ext cx="47512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1400" y="4681440"/>
            <a:ext cx="536904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158F-081A-4D43-8F64-C608E32F2B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82800" y="749160"/>
            <a:ext cx="47512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1400" y="4681440"/>
            <a:ext cx="536904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CBC5-E3B1-476F-96D5-23AFDDCB6E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82800" y="749160"/>
            <a:ext cx="47512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1400" y="4681440"/>
            <a:ext cx="536904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0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A6E8-073C-48BF-92F4-261FD6EDE0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82800" y="749160"/>
            <a:ext cx="47512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1400" y="4681440"/>
            <a:ext cx="536904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1A26-1E45-444A-973A-59E2B4BD5A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82800" y="749160"/>
            <a:ext cx="47512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1400" y="4681440"/>
            <a:ext cx="536904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0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8F32-A2BE-4AEF-8480-A823FD57E7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82800" y="749160"/>
            <a:ext cx="47512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1400" y="4681440"/>
            <a:ext cx="536904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E32D-2640-4E97-B3AF-27A28B23D5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82800" y="749160"/>
            <a:ext cx="47512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1400" y="4681440"/>
            <a:ext cx="536904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1F25-2FFF-40FF-A4BB-991A65D081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82800" y="749160"/>
            <a:ext cx="47512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1400" y="4681440"/>
            <a:ext cx="536904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687D-E89C-4EEF-9E76-076B4402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750-13F9-4D58-8EB9-E0574229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928-8FCF-4717-AD2E-989CC034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F96B-D2F9-4813-A3DB-33111092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333-F4A9-47FA-A755-F5F22E7C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7D9-98F7-4B38-935A-7C384D29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8BC4-6867-4105-A97C-A19256A6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5CEB-62BD-4F54-8B51-9D1DBF12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7BEA-A923-4699-8AFF-573435D0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412-CCB9-4655-B840-73CFEA64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33AF-425C-4D47-9ED8-BD6234B0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656-B9EC-4BF0-8D4E-BA915C07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130B-E4DB-4C26-A696-CF4AD41A5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785960" y="3000240"/>
            <a:ext cx="60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PRO TV CHISIN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PRO_TV2_"/>
          <p:cNvPicPr/>
          <p:nvPr/>
        </p:nvPicPr>
        <p:blipFill>
          <a:blip r:embed="rId1"/>
          <a:stretch/>
        </p:blipFill>
        <p:spPr>
          <a:xfrm>
            <a:off x="6500880" y="571680"/>
            <a:ext cx="205740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3786120" y="2571840"/>
            <a:ext cx="5214960" cy="3919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6858000" y="285840"/>
            <a:ext cx="2004840" cy="2030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285840" y="4429080"/>
            <a:ext cx="300024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428760" y="2858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ROGRAME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857160"/>
            <a:ext cx="4572000" cy="22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«VIP Magazin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misiune de intervi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fuzare: Duminica 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luare: luni 17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ezentatoare: Rodica Ciora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3429000"/>
            <a:ext cx="457200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misiune care intra in vi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ivata a celor mai popula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ubite si controvers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ersonalitati din ta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VIP Magazin este o emisiu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u si despre oameni mar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5060880" y="979560"/>
            <a:ext cx="3594240" cy="5226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54120" y="5226120"/>
            <a:ext cx="3754440" cy="13064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00040" y="1071720"/>
            <a:ext cx="407196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28760" y="2858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ROGRAME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428760" y="1143000"/>
            <a:ext cx="457200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«Autoexpert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misiune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fuzare: Joi 22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luare: Simbata 11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urata: 30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ezentator: Andrei Tabu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misune despre masini frumoase, viteze extreme si cai putere. Cuprinde noutati din lumea auto internationala si premierele de pe piata autohnt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816120" y="4643280"/>
            <a:ext cx="2842920" cy="1398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4735440" y="326880"/>
            <a:ext cx="4081680" cy="60422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214200" y="1571760"/>
            <a:ext cx="414360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428760" y="2858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ROGRAME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42920" y="1357200"/>
            <a:ext cx="4572000" cy="27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«Iubire ca in filme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elenov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fuzare: Luni – Joi, 21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luare Marti – Vineri, 17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urata: 50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57120" y="1357200"/>
            <a:ext cx="8286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 TV Chisinau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artine grupului Central European Media – lider pe piata Europei Centrale si de Est, care opereaza in 7 tari: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omani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PRO TV, Acasa TV, PRO TV Intl, PRO Cinema, Sport.ro), Ucraina (Studio 1+1, 1+1 Intl, Kino, Citi)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ehia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TV Nova, Galaxie Sport)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roati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Nova TV)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lovacia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TV Markiza, Galaxie Sport)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loveni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POP TV, Kanal A) s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ublica Moldov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TV Chisinau si-a lansat emisia in Moldova in 1998, iar stirile locale in Septembrie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ul difuzeaza programele PRO TV Bucuresti, care includ s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gram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ca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: Stirile PRO TV Chisinau, - “In PROfunzime” -talk show , “Iubire ca in filme” - telenovela, “Autoexpert“ - auto show, “VIP Magazin” – emisiune de interviuri. Toate programele sunt in limba rom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1071720" y="28584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Prezentare gener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111\Diverse\Acoperire PRO.bmp"/>
          <p:cNvPicPr/>
          <p:nvPr/>
        </p:nvPicPr>
        <p:blipFill>
          <a:blip r:embed="rId1"/>
          <a:stretch/>
        </p:blipFill>
        <p:spPr>
          <a:xfrm>
            <a:off x="3675240" y="0"/>
            <a:ext cx="5295600" cy="6818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357120" y="2143080"/>
            <a:ext cx="328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TV Chisinau detine 5 licente de emisie pe orasele: Chisinau, Balti, Cahul, Tighina si Orhe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na in primavara lui 2008 acoperirea tehnica a postului va atinge cifra de 2,5 mil de oame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la de programe toamna-ia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07228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4898880" y="488880"/>
            <a:ext cx="3924360" cy="587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1306440" y="4711680"/>
            <a:ext cx="2694240" cy="2146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428760" y="1000080"/>
            <a:ext cx="4143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755880" y="3102120"/>
            <a:ext cx="1638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428760" y="2858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ROGRAME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14200" y="1143000"/>
            <a:ext cx="457200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urnalul de la 20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fuzare: Luni – Vineri, 20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urata: 30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ezentatoare: Angela Go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tirile PRO TV Chisinau de la ora 20:00 reprezinta principalul jurnal de stiri al zile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4898880" y="488880"/>
            <a:ext cx="3918240" cy="604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214280" y="4714920"/>
            <a:ext cx="2500560" cy="1989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214200" y="107172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468440" y="3755880"/>
            <a:ext cx="1652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428760" y="2858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ROGRAME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42920" y="1285920"/>
            <a:ext cx="4572000" cy="30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urnalul de la 22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fuzare: Luni – Joi, 22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urata 30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ezentatoare: Oxana I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uletinul de la 22:00 est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jurnal de analiza si comenta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are face radiografia zil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4786200" y="165240"/>
            <a:ext cx="4143600" cy="6365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143000" y="4809960"/>
            <a:ext cx="2500200" cy="20480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14200" y="857160"/>
            <a:ext cx="45007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633680" y="1468440"/>
            <a:ext cx="163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428760" y="2858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ROGRAME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14200" y="1143000"/>
            <a:ext cx="457200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Jurnalul de la ora 17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fuzare: Luni-Vineri 17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urata: 30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ezentatoare: Natalia Chept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imul jurnal de stiri al zi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are prezinta atit eveniment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mportanta majora prod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ina la ora 17:00, cit si stiri utilitare, birfe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4898880" y="353880"/>
            <a:ext cx="4042080" cy="5851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000080" y="4522680"/>
            <a:ext cx="2571840" cy="2151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357120" y="1071720"/>
            <a:ext cx="430704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428760" y="2858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ROGRAME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42920" y="1500120"/>
            <a:ext cx="4572000" cy="27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tirile de Week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fuzare: Sambata si Duminica 20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ezentatoare: Tatiana Tibule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e langa evenimente import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tirile de week-end cuprind povesti spectaculoase despre oameni si stiri de enter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4714920" y="357120"/>
            <a:ext cx="4325760" cy="5203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4857840" y="5643720"/>
            <a:ext cx="4081320" cy="998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285840" y="3500280"/>
            <a:ext cx="4214880" cy="31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28760" y="2858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ROGRAME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00040" y="1000080"/>
            <a:ext cx="4572000" cy="25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«In PROfunzime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fuzare: Luni 22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luare: Sambata 12: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urata: 45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ezentatoare: Lorena Bog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42920" y="3929040"/>
            <a:ext cx="457200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alk Show politic care analizeaza temele fierbinti ale saptaminii. Printe invitatii emisiunii s-au numarat presedintele Vladimir Voronin, premierul Vasile Tarlev, Mircea Geoana, lideri de partide din Moldova, ambasadori, George Soros si alt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4:34:22Z</dcterms:created>
  <dc:creator>pro</dc:creator>
  <dc:description/>
  <dc:language>en-US</dc:language>
  <cp:lastModifiedBy>Andrew</cp:lastModifiedBy>
  <dcterms:modified xsi:type="dcterms:W3CDTF">2007-12-11T16:22:32Z</dcterms:modified>
  <cp:revision>290</cp:revision>
  <dc:subject/>
  <dc:title>2006 Budget Narratives MPI/ProTV</dc:title>
</cp:coreProperties>
</file>