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jpeg" ContentType="image/jpeg"/>
  <Override PartName="/ppt/media/image29.wmf" ContentType="image/x-wmf"/>
  <Override PartName="/ppt/media/image19.jpeg" ContentType="image/jpeg"/>
  <Override PartName="/ppt/media/image13.png" ContentType="image/png"/>
  <Override PartName="/ppt/media/image6.png" ContentType="image/png"/>
  <Override PartName="/ppt/media/image31.wmf" ContentType="image/x-wmf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0.wmf" ContentType="image/x-wmf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32.wmf" ContentType="image/x-wmf"/>
  <Override PartName="/ppt/media/image21.jpeg" ContentType="image/jpeg"/>
  <Override PartName="/ppt/media/image23.jpeg" ContentType="image/jpeg"/>
  <Override PartName="/ppt/media/image24.png" ContentType="image/png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3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3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3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3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937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3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3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3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937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3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3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3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3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ts val="3937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ts val="3937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3937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3937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3937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3937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3937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hyperlink" Target="mailto:Zelenavarta@tonis.ua" TargetMode="External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mailto:tonis@tonis.ua" TargetMode="External"/><Relationship Id="rId7" Type="http://schemas.openxmlformats.org/officeDocument/2006/relationships/hyperlink" Target="mailto:tonis@tonis.ua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>
            <a:grayscl/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3132000" y="4441680"/>
            <a:ext cx="288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68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т е л е к а н а 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885080" y="333360"/>
            <a:ext cx="1800" cy="6192720"/>
          </a:xfrm>
          <a:prstGeom prst="line">
            <a:avLst/>
          </a:prstGeom>
          <a:ln cap="rnd" w="3492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119640" y="6308640"/>
            <a:ext cx="3024360" cy="1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35280" y="5877000"/>
            <a:ext cx="1871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Tahoma"/>
              </a:rPr>
              <a:t>200</a:t>
            </a:r>
            <a:r>
              <a:rPr b="1" lang="uk-UA" sz="2400" spc="-1" strike="noStrike">
                <a:solidFill>
                  <a:srgbClr val="80808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80000" y="1844640"/>
            <a:ext cx="1584000" cy="15843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944800" y="3792600"/>
            <a:ext cx="3276720" cy="816840"/>
            <a:chOff x="2944800" y="3792600"/>
            <a:chExt cx="3276720" cy="816840"/>
          </a:xfrm>
        </p:grpSpPr>
        <p:sp>
          <p:nvSpPr>
            <p:cNvPr id="45" name=""/>
            <p:cNvSpPr/>
            <p:nvPr/>
          </p:nvSpPr>
          <p:spPr>
            <a:xfrm>
              <a:off x="2944800" y="3792600"/>
              <a:ext cx="3276720" cy="785880"/>
            </a:xfrm>
            <a:prstGeom prst="roundRect">
              <a:avLst>
                <a:gd name="adj" fmla="val 19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2944800" y="3792600"/>
              <a:ext cx="3270240" cy="816840"/>
              <a:chOff x="2944800" y="3792600"/>
              <a:chExt cx="3270240" cy="816840"/>
            </a:xfrm>
          </p:grpSpPr>
          <p:sp>
            <p:nvSpPr>
              <p:cNvPr id="47" name=""/>
              <p:cNvSpPr/>
              <p:nvPr/>
            </p:nvSpPr>
            <p:spPr>
              <a:xfrm>
                <a:off x="2944800" y="3792600"/>
                <a:ext cx="3270240" cy="779400"/>
              </a:xfrm>
              <a:prstGeom prst="roundRect">
                <a:avLst>
                  <a:gd name="adj" fmla="val 19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2944800" y="3792600"/>
                <a:ext cx="3265560" cy="816840"/>
                <a:chOff x="2944800" y="3792600"/>
                <a:chExt cx="3265560" cy="81684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2944800" y="3792600"/>
                  <a:ext cx="3265560" cy="774720"/>
                </a:xfrm>
                <a:prstGeom prst="roundRect">
                  <a:avLst>
                    <a:gd name="adj" fmla="val 204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" name=""/>
                <p:cNvGrpSpPr/>
                <p:nvPr/>
              </p:nvGrpSpPr>
              <p:grpSpPr>
                <a:xfrm>
                  <a:off x="2944800" y="3792600"/>
                  <a:ext cx="3262320" cy="816840"/>
                  <a:chOff x="2944800" y="3792600"/>
                  <a:chExt cx="3262320" cy="816840"/>
                </a:xfrm>
              </p:grpSpPr>
              <p:sp>
                <p:nvSpPr>
                  <p:cNvPr id="51" name=""/>
                  <p:cNvSpPr/>
                  <p:nvPr/>
                </p:nvSpPr>
                <p:spPr>
                  <a:xfrm>
                    <a:off x="2944800" y="3792600"/>
                    <a:ext cx="3262320" cy="771480"/>
                  </a:xfrm>
                  <a:prstGeom prst="roundRect">
                    <a:avLst>
                      <a:gd name="adj" fmla="val 20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2944800" y="3792600"/>
                    <a:ext cx="3260520" cy="816840"/>
                    <a:chOff x="2944800" y="3792600"/>
                    <a:chExt cx="3260520" cy="816840"/>
                  </a:xfrm>
                </p:grpSpPr>
                <p:sp>
                  <p:nvSpPr>
                    <p:cNvPr id="53" name=""/>
                    <p:cNvSpPr/>
                    <p:nvPr/>
                  </p:nvSpPr>
                  <p:spPr>
                    <a:xfrm>
                      <a:off x="2944800" y="3792600"/>
                      <a:ext cx="3260520" cy="769680"/>
                    </a:xfrm>
                    <a:prstGeom prst="roundRect">
                      <a:avLst>
                        <a:gd name="adj" fmla="val 20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3128760" y="3792600"/>
                      <a:ext cx="2892600" cy="816840"/>
                    </a:xfrm>
                    <a:prstGeom prst="roundRect">
                      <a:avLst>
                        <a:gd name="adj" fmla="val 20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5686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4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 О Н И С</a:t>
                      </a:r>
                      <a:endParaRPr b="0" lang="en-US" sz="4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 rot="10800000">
            <a:off x="0" y="6175440"/>
            <a:ext cx="9144000" cy="691920"/>
          </a:xfrm>
          <a:prstGeom prst="roundRect">
            <a:avLst>
              <a:gd name="adj" fmla="val 2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67280" y="5661000"/>
            <a:ext cx="4678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64000" y="5877000"/>
            <a:ext cx="3383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-9360" y="6165720"/>
            <a:ext cx="9162720" cy="180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8099280" y="6308640"/>
            <a:ext cx="343080" cy="349200"/>
            <a:chOff x="8099280" y="6308640"/>
            <a:chExt cx="343080" cy="349200"/>
          </a:xfrm>
        </p:grpSpPr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809928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809928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7524720" y="6308640"/>
            <a:ext cx="343080" cy="349200"/>
            <a:chOff x="7524720" y="6308640"/>
            <a:chExt cx="343080" cy="349200"/>
          </a:xfrm>
        </p:grpSpPr>
        <p:pic>
          <p:nvPicPr>
            <p:cNvPr id="375" name="" descr=""/>
            <p:cNvPicPr/>
            <p:nvPr/>
          </p:nvPicPr>
          <p:blipFill>
            <a:blip r:embed="rId3"/>
            <a:stretch/>
          </p:blipFill>
          <p:spPr>
            <a:xfrm>
              <a:off x="752472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752472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7137000" y="115920"/>
            <a:ext cx="1679400" cy="482040"/>
            <a:chOff x="7137000" y="115920"/>
            <a:chExt cx="1679400" cy="482040"/>
          </a:xfrm>
        </p:grpSpPr>
        <p:sp>
          <p:nvSpPr>
            <p:cNvPr id="378" name=""/>
            <p:cNvSpPr/>
            <p:nvPr/>
          </p:nvSpPr>
          <p:spPr>
            <a:xfrm>
              <a:off x="7155000" y="115920"/>
              <a:ext cx="1658880" cy="46512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7137000" y="115920"/>
              <a:ext cx="1679400" cy="482040"/>
              <a:chOff x="7137000" y="115920"/>
              <a:chExt cx="1679400" cy="482040"/>
            </a:xfrm>
          </p:grpSpPr>
          <p:sp>
            <p:nvSpPr>
              <p:cNvPr id="380" name=""/>
              <p:cNvSpPr/>
              <p:nvPr/>
            </p:nvSpPr>
            <p:spPr>
              <a:xfrm>
                <a:off x="7155000" y="115920"/>
                <a:ext cx="1652760" cy="4590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7137000" y="115920"/>
                <a:ext cx="1679400" cy="482040"/>
                <a:chOff x="7137000" y="115920"/>
                <a:chExt cx="1679400" cy="48204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7155000" y="115920"/>
                  <a:ext cx="1648080" cy="45432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3" name=""/>
                <p:cNvGrpSpPr/>
                <p:nvPr/>
              </p:nvGrpSpPr>
              <p:grpSpPr>
                <a:xfrm>
                  <a:off x="7137000" y="115920"/>
                  <a:ext cx="1679400" cy="482040"/>
                  <a:chOff x="7137000" y="115920"/>
                  <a:chExt cx="1679400" cy="48204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7155000" y="115920"/>
                    <a:ext cx="1644840" cy="45144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7137000" y="115920"/>
                    <a:ext cx="1679400" cy="482040"/>
                    <a:chOff x="7137000" y="115920"/>
                    <a:chExt cx="1679400" cy="48204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7155000" y="115920"/>
                      <a:ext cx="1643040" cy="4500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7137000" y="115920"/>
                      <a:ext cx="167940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 О Н И 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88" name=""/>
          <p:cNvSpPr/>
          <p:nvPr/>
        </p:nvSpPr>
        <p:spPr>
          <a:xfrm>
            <a:off x="7164360" y="47628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т  е  л  е  к  а  н  а  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250920" y="907920"/>
            <a:ext cx="2222280" cy="383400"/>
            <a:chOff x="250920" y="907920"/>
            <a:chExt cx="2222280" cy="383400"/>
          </a:xfrm>
        </p:grpSpPr>
        <p:sp>
          <p:nvSpPr>
            <p:cNvPr id="391" name=""/>
            <p:cNvSpPr/>
            <p:nvPr/>
          </p:nvSpPr>
          <p:spPr>
            <a:xfrm>
              <a:off x="250920" y="907920"/>
              <a:ext cx="222228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250920" y="907920"/>
              <a:ext cx="2215800" cy="383400"/>
              <a:chOff x="250920" y="907920"/>
              <a:chExt cx="2215800" cy="383400"/>
            </a:xfrm>
          </p:grpSpPr>
          <p:sp>
            <p:nvSpPr>
              <p:cNvPr id="393" name=""/>
              <p:cNvSpPr/>
              <p:nvPr/>
            </p:nvSpPr>
            <p:spPr>
              <a:xfrm>
                <a:off x="250920" y="907920"/>
                <a:ext cx="2215800" cy="36972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250920" y="907920"/>
                <a:ext cx="2210760" cy="383400"/>
                <a:chOff x="250920" y="907920"/>
                <a:chExt cx="2210760" cy="38340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250920" y="907920"/>
                  <a:ext cx="2210760" cy="366480"/>
                </a:xfrm>
                <a:prstGeom prst="roundRect">
                  <a:avLst>
                    <a:gd name="adj" fmla="val 42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6" name=""/>
                <p:cNvGrpSpPr/>
                <p:nvPr/>
              </p:nvGrpSpPr>
              <p:grpSpPr>
                <a:xfrm>
                  <a:off x="250920" y="907920"/>
                  <a:ext cx="2208960" cy="383400"/>
                  <a:chOff x="250920" y="907920"/>
                  <a:chExt cx="2208960" cy="38340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>
                    <a:off x="250920" y="907920"/>
                    <a:ext cx="2208960" cy="36324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250920" y="907920"/>
                    <a:ext cx="2207160" cy="383400"/>
                    <a:chOff x="250920" y="907920"/>
                    <a:chExt cx="2207160" cy="38340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250920" y="907920"/>
                      <a:ext cx="2207160" cy="36144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308880" y="907920"/>
                      <a:ext cx="208944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01" name=""/>
          <p:cNvSpPr/>
          <p:nvPr/>
        </p:nvSpPr>
        <p:spPr>
          <a:xfrm>
            <a:off x="539640" y="1628640"/>
            <a:ext cx="8064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ts val="1463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4000" y="2060640"/>
            <a:ext cx="5111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6"/>
          <a:stretch/>
        </p:blipFill>
        <p:spPr>
          <a:xfrm>
            <a:off x="395280" y="0"/>
            <a:ext cx="647640" cy="6494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7236000" y="0"/>
            <a:ext cx="1692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 О Н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56000" y="1341360"/>
            <a:ext cx="3816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24години. СвітОгля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55640" y="1733400"/>
            <a:ext cx="45370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uk-UA" sz="1400" spc="-1" strike="noStrike">
                <a:solidFill>
                  <a:srgbClr val="000000"/>
                </a:solidFill>
                <a:latin typeface="Tahoma"/>
              </a:rPr>
              <a:t>24 години. СвітОгляд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– это небольшое путешествие в самые интересные уголки Земл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умасшедшие поступки людей, фантастические рекорды, бессмысленные, но интересные праздники, неординарные фестивали и показы мод.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вітОгляд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– прежде всего, осмотр событий без политики. Узнавая что-то новое и интересное ежедневно, мы меняем и расширяем свой кругозор.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Жизнь вокруг красочная и увлекательная. Стоит лишь присмотреться – и ты сразу увидишь, что наше существования не только поход на работу и ужин в кругу семьи. Вокруг происходит впечатляющие события, которые делают жизнь более интересной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утешествуя вместе с программой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«СвітОгляд»,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вы всегда имеете возможность узнать что-то новое и интересно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7"/>
          <a:stretch/>
        </p:blipFill>
        <p:spPr>
          <a:xfrm>
            <a:off x="5651640" y="2276640"/>
            <a:ext cx="256536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 rot="10800000">
            <a:off x="0" y="6175440"/>
            <a:ext cx="9144000" cy="691920"/>
          </a:xfrm>
          <a:prstGeom prst="roundRect">
            <a:avLst>
              <a:gd name="adj" fmla="val 2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67280" y="5661000"/>
            <a:ext cx="4678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03760" y="5877000"/>
            <a:ext cx="33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-9360" y="6165720"/>
            <a:ext cx="9162720" cy="180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8099280" y="6308640"/>
            <a:ext cx="343080" cy="349200"/>
            <a:chOff x="8099280" y="6308640"/>
            <a:chExt cx="343080" cy="349200"/>
          </a:xfrm>
        </p:grpSpPr>
        <p:pic>
          <p:nvPicPr>
            <p:cNvPr id="415" name="" descr=""/>
            <p:cNvPicPr/>
            <p:nvPr/>
          </p:nvPicPr>
          <p:blipFill>
            <a:blip r:embed="rId2"/>
            <a:stretch/>
          </p:blipFill>
          <p:spPr>
            <a:xfrm>
              <a:off x="809928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809928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7524720" y="6308640"/>
            <a:ext cx="343080" cy="349200"/>
            <a:chOff x="7524720" y="6308640"/>
            <a:chExt cx="343080" cy="349200"/>
          </a:xfrm>
        </p:grpSpPr>
        <p:pic>
          <p:nvPicPr>
            <p:cNvPr id="418" name="" descr=""/>
            <p:cNvPicPr/>
            <p:nvPr/>
          </p:nvPicPr>
          <p:blipFill>
            <a:blip r:embed="rId3"/>
            <a:stretch/>
          </p:blipFill>
          <p:spPr>
            <a:xfrm>
              <a:off x="752472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752472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7137000" y="115920"/>
            <a:ext cx="1679400" cy="482040"/>
            <a:chOff x="7137000" y="115920"/>
            <a:chExt cx="1679400" cy="482040"/>
          </a:xfrm>
        </p:grpSpPr>
        <p:sp>
          <p:nvSpPr>
            <p:cNvPr id="421" name=""/>
            <p:cNvSpPr/>
            <p:nvPr/>
          </p:nvSpPr>
          <p:spPr>
            <a:xfrm>
              <a:off x="7155000" y="115920"/>
              <a:ext cx="1658880" cy="46512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7137000" y="115920"/>
              <a:ext cx="1679400" cy="482040"/>
              <a:chOff x="7137000" y="115920"/>
              <a:chExt cx="1679400" cy="482040"/>
            </a:xfrm>
          </p:grpSpPr>
          <p:sp>
            <p:nvSpPr>
              <p:cNvPr id="423" name=""/>
              <p:cNvSpPr/>
              <p:nvPr/>
            </p:nvSpPr>
            <p:spPr>
              <a:xfrm>
                <a:off x="7155000" y="115920"/>
                <a:ext cx="1652760" cy="4590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7137000" y="115920"/>
                <a:ext cx="1679400" cy="482040"/>
                <a:chOff x="7137000" y="115920"/>
                <a:chExt cx="1679400" cy="48204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7155000" y="115920"/>
                  <a:ext cx="1648080" cy="45432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6" name=""/>
                <p:cNvGrpSpPr/>
                <p:nvPr/>
              </p:nvGrpSpPr>
              <p:grpSpPr>
                <a:xfrm>
                  <a:off x="7137000" y="115920"/>
                  <a:ext cx="1679400" cy="482040"/>
                  <a:chOff x="7137000" y="115920"/>
                  <a:chExt cx="1679400" cy="48204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7155000" y="115920"/>
                    <a:ext cx="1644840" cy="45144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7137000" y="115920"/>
                    <a:ext cx="1679400" cy="482040"/>
                    <a:chOff x="7137000" y="115920"/>
                    <a:chExt cx="1679400" cy="48204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7155000" y="115920"/>
                      <a:ext cx="1643040" cy="4500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7137000" y="115920"/>
                      <a:ext cx="167940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 О Н И 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31" name=""/>
          <p:cNvSpPr/>
          <p:nvPr/>
        </p:nvSpPr>
        <p:spPr>
          <a:xfrm>
            <a:off x="7164360" y="47628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т  е  л  е  к  а  н  а  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250920" y="907920"/>
            <a:ext cx="2222280" cy="383400"/>
            <a:chOff x="250920" y="907920"/>
            <a:chExt cx="2222280" cy="383400"/>
          </a:xfrm>
        </p:grpSpPr>
        <p:sp>
          <p:nvSpPr>
            <p:cNvPr id="434" name=""/>
            <p:cNvSpPr/>
            <p:nvPr/>
          </p:nvSpPr>
          <p:spPr>
            <a:xfrm>
              <a:off x="250920" y="907920"/>
              <a:ext cx="222228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250920" y="907920"/>
              <a:ext cx="2215800" cy="383400"/>
              <a:chOff x="250920" y="907920"/>
              <a:chExt cx="2215800" cy="383400"/>
            </a:xfrm>
          </p:grpSpPr>
          <p:sp>
            <p:nvSpPr>
              <p:cNvPr id="436" name=""/>
              <p:cNvSpPr/>
              <p:nvPr/>
            </p:nvSpPr>
            <p:spPr>
              <a:xfrm>
                <a:off x="250920" y="907920"/>
                <a:ext cx="2215800" cy="36972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250920" y="907920"/>
                <a:ext cx="2210760" cy="383400"/>
                <a:chOff x="250920" y="907920"/>
                <a:chExt cx="2210760" cy="3834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250920" y="907920"/>
                  <a:ext cx="2210760" cy="366480"/>
                </a:xfrm>
                <a:prstGeom prst="roundRect">
                  <a:avLst>
                    <a:gd name="adj" fmla="val 42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9" name=""/>
                <p:cNvGrpSpPr/>
                <p:nvPr/>
              </p:nvGrpSpPr>
              <p:grpSpPr>
                <a:xfrm>
                  <a:off x="250920" y="907920"/>
                  <a:ext cx="2208960" cy="383400"/>
                  <a:chOff x="250920" y="907920"/>
                  <a:chExt cx="2208960" cy="38340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250920" y="907920"/>
                    <a:ext cx="2208960" cy="36324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250920" y="907920"/>
                    <a:ext cx="2207160" cy="383400"/>
                    <a:chOff x="250920" y="907920"/>
                    <a:chExt cx="2207160" cy="38340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250920" y="907920"/>
                      <a:ext cx="2207160" cy="36144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308880" y="907920"/>
                      <a:ext cx="208944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4" name=""/>
          <p:cNvSpPr/>
          <p:nvPr/>
        </p:nvSpPr>
        <p:spPr>
          <a:xfrm>
            <a:off x="539640" y="1628640"/>
            <a:ext cx="8064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ts val="1463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8360" y="1916280"/>
            <a:ext cx="55436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віт. 24” –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главные события недели. Кратко. Метко. Ярк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тех, кому небезразлично, что происходит за границами их страны. Для тех, кому интересно узнать о наиболее значимых событиях в мире и о тех тенденциях, которые происходят в политической, экономической, общественной жизни международной общественности, а также о том, как они могут влиять на внутренние процессы в Украи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віт. 24” –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раткий и динамичный дайджест международных событий. Самые громкие скандалы, теракты, катастрофы и даже курьезы недели – все это в одном проект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ремя эфира: по пятницам в 22:30, повтор каждую субботу в 06:30 и 00: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6"/>
          <a:stretch/>
        </p:blipFill>
        <p:spPr>
          <a:xfrm>
            <a:off x="395280" y="0"/>
            <a:ext cx="647640" cy="6494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7236000" y="0"/>
            <a:ext cx="1692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 О Н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95640" y="1341360"/>
            <a:ext cx="30970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Світ.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7"/>
          <a:stretch/>
        </p:blipFill>
        <p:spPr>
          <a:xfrm>
            <a:off x="6012000" y="2276640"/>
            <a:ext cx="28573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 rot="10800000">
            <a:off x="0" y="6175440"/>
            <a:ext cx="9144000" cy="691920"/>
          </a:xfrm>
          <a:prstGeom prst="roundRect">
            <a:avLst>
              <a:gd name="adj" fmla="val 2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67280" y="5661000"/>
            <a:ext cx="4678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35640" y="5877000"/>
            <a:ext cx="33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-9360" y="6165720"/>
            <a:ext cx="9162720" cy="180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8099280" y="6308640"/>
            <a:ext cx="343080" cy="349200"/>
            <a:chOff x="8099280" y="6308640"/>
            <a:chExt cx="343080" cy="349200"/>
          </a:xfrm>
        </p:grpSpPr>
        <p:pic>
          <p:nvPicPr>
            <p:cNvPr id="457" name="" descr=""/>
            <p:cNvPicPr/>
            <p:nvPr/>
          </p:nvPicPr>
          <p:blipFill>
            <a:blip r:embed="rId2"/>
            <a:stretch/>
          </p:blipFill>
          <p:spPr>
            <a:xfrm>
              <a:off x="809928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809928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7524720" y="6308640"/>
            <a:ext cx="343080" cy="349200"/>
            <a:chOff x="7524720" y="6308640"/>
            <a:chExt cx="343080" cy="349200"/>
          </a:xfrm>
        </p:grpSpPr>
        <p:pic>
          <p:nvPicPr>
            <p:cNvPr id="460" name="" descr=""/>
            <p:cNvPicPr/>
            <p:nvPr/>
          </p:nvPicPr>
          <p:blipFill>
            <a:blip r:embed="rId3"/>
            <a:stretch/>
          </p:blipFill>
          <p:spPr>
            <a:xfrm>
              <a:off x="752472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52472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7137000" y="115920"/>
            <a:ext cx="1679400" cy="482040"/>
            <a:chOff x="7137000" y="115920"/>
            <a:chExt cx="1679400" cy="482040"/>
          </a:xfrm>
        </p:grpSpPr>
        <p:sp>
          <p:nvSpPr>
            <p:cNvPr id="463" name=""/>
            <p:cNvSpPr/>
            <p:nvPr/>
          </p:nvSpPr>
          <p:spPr>
            <a:xfrm>
              <a:off x="7155000" y="115920"/>
              <a:ext cx="1658880" cy="46512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7137000" y="115920"/>
              <a:ext cx="1679400" cy="482040"/>
              <a:chOff x="7137000" y="115920"/>
              <a:chExt cx="1679400" cy="482040"/>
            </a:xfrm>
          </p:grpSpPr>
          <p:sp>
            <p:nvSpPr>
              <p:cNvPr id="465" name=""/>
              <p:cNvSpPr/>
              <p:nvPr/>
            </p:nvSpPr>
            <p:spPr>
              <a:xfrm>
                <a:off x="7155000" y="115920"/>
                <a:ext cx="1652760" cy="4590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7137000" y="115920"/>
                <a:ext cx="1679400" cy="482040"/>
                <a:chOff x="7137000" y="115920"/>
                <a:chExt cx="1679400" cy="4820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7155000" y="115920"/>
                  <a:ext cx="1648080" cy="45432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7137000" y="115920"/>
                  <a:ext cx="1679400" cy="482040"/>
                  <a:chOff x="7137000" y="115920"/>
                  <a:chExt cx="1679400" cy="48204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7155000" y="115920"/>
                    <a:ext cx="1644840" cy="45144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7137000" y="115920"/>
                    <a:ext cx="1679400" cy="482040"/>
                    <a:chOff x="7137000" y="115920"/>
                    <a:chExt cx="1679400" cy="482040"/>
                  </a:xfrm>
                </p:grpSpPr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7155000" y="115920"/>
                      <a:ext cx="1643040" cy="4500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7137000" y="115920"/>
                      <a:ext cx="167940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 О Н И 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73" name=""/>
          <p:cNvSpPr/>
          <p:nvPr/>
        </p:nvSpPr>
        <p:spPr>
          <a:xfrm>
            <a:off x="7164360" y="47628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т  е  л  е  к  а  н  а  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475" name=""/>
          <p:cNvGrpSpPr/>
          <p:nvPr/>
        </p:nvGrpSpPr>
        <p:grpSpPr>
          <a:xfrm>
            <a:off x="250920" y="907920"/>
            <a:ext cx="2222280" cy="383400"/>
            <a:chOff x="250920" y="907920"/>
            <a:chExt cx="2222280" cy="383400"/>
          </a:xfrm>
        </p:grpSpPr>
        <p:sp>
          <p:nvSpPr>
            <p:cNvPr id="476" name=""/>
            <p:cNvSpPr/>
            <p:nvPr/>
          </p:nvSpPr>
          <p:spPr>
            <a:xfrm>
              <a:off x="250920" y="907920"/>
              <a:ext cx="222228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250920" y="907920"/>
              <a:ext cx="2215800" cy="383400"/>
              <a:chOff x="250920" y="907920"/>
              <a:chExt cx="2215800" cy="383400"/>
            </a:xfrm>
          </p:grpSpPr>
          <p:sp>
            <p:nvSpPr>
              <p:cNvPr id="478" name=""/>
              <p:cNvSpPr/>
              <p:nvPr/>
            </p:nvSpPr>
            <p:spPr>
              <a:xfrm>
                <a:off x="250920" y="907920"/>
                <a:ext cx="2215800" cy="36972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250920" y="907920"/>
                <a:ext cx="2210760" cy="383400"/>
                <a:chOff x="250920" y="907920"/>
                <a:chExt cx="2210760" cy="38340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50920" y="907920"/>
                  <a:ext cx="2210760" cy="366480"/>
                </a:xfrm>
                <a:prstGeom prst="roundRect">
                  <a:avLst>
                    <a:gd name="adj" fmla="val 42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1" name=""/>
                <p:cNvGrpSpPr/>
                <p:nvPr/>
              </p:nvGrpSpPr>
              <p:grpSpPr>
                <a:xfrm>
                  <a:off x="250920" y="907920"/>
                  <a:ext cx="2208960" cy="383400"/>
                  <a:chOff x="250920" y="907920"/>
                  <a:chExt cx="2208960" cy="38340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>
                    <a:off x="250920" y="907920"/>
                    <a:ext cx="2208960" cy="36324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250920" y="907920"/>
                    <a:ext cx="2207160" cy="383400"/>
                    <a:chOff x="250920" y="907920"/>
                    <a:chExt cx="2207160" cy="38340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250920" y="907920"/>
                      <a:ext cx="2207160" cy="36144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308880" y="907920"/>
                      <a:ext cx="208944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86" name=""/>
          <p:cNvSpPr/>
          <p:nvPr/>
        </p:nvSpPr>
        <p:spPr>
          <a:xfrm>
            <a:off x="539640" y="1628640"/>
            <a:ext cx="8064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ts val="1463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0920" y="1628640"/>
            <a:ext cx="540072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"Светские хроники"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–  это ваше окно в мир светской жизни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олько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амые интересны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мероприятия, вечеринки, рауты, презентац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олько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амые яркие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везды кино, эстрады, спорта и бизнес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вежие новости, откровенные разговоры, пикантные подробности с первых ус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едущие –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Евгений Фешак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(радиоведущий и шоумен) и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иолетта Триков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(актриса театра и кино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ни всегда именно там и всегда вовремя, чтобы только удовлетворить ваш интерес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икоснись к светской жизн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Исполнительный продюсер программы - Ольга Ярынич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ремя эфира: с понедельника по четверг в 22:10, в пятницу в 22:50, повтор – в 10:00 и 02:35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6"/>
          <a:stretch/>
        </p:blipFill>
        <p:spPr>
          <a:xfrm>
            <a:off x="395280" y="0"/>
            <a:ext cx="647640" cy="6494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7236000" y="0"/>
            <a:ext cx="1692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 О Н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87640" y="1268280"/>
            <a:ext cx="3024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ітські хроні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7"/>
          <a:stretch/>
        </p:blipFill>
        <p:spPr>
          <a:xfrm>
            <a:off x="5651640" y="2421000"/>
            <a:ext cx="3195360" cy="25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 rot="10800000">
            <a:off x="0" y="6175440"/>
            <a:ext cx="9144000" cy="691920"/>
          </a:xfrm>
          <a:prstGeom prst="roundRect">
            <a:avLst>
              <a:gd name="adj" fmla="val 2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67280" y="5661000"/>
            <a:ext cx="4678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64000" y="5877000"/>
            <a:ext cx="3383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-9360" y="6165720"/>
            <a:ext cx="9162720" cy="180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8099280" y="6308640"/>
            <a:ext cx="343080" cy="349200"/>
            <a:chOff x="8099280" y="6308640"/>
            <a:chExt cx="343080" cy="34920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809928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809928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7524720" y="6308640"/>
            <a:ext cx="343080" cy="349200"/>
            <a:chOff x="7524720" y="6308640"/>
            <a:chExt cx="343080" cy="349200"/>
          </a:xfrm>
        </p:grpSpPr>
        <p:pic>
          <p:nvPicPr>
            <p:cNvPr id="502" name="" descr=""/>
            <p:cNvPicPr/>
            <p:nvPr/>
          </p:nvPicPr>
          <p:blipFill>
            <a:blip r:embed="rId3"/>
            <a:stretch/>
          </p:blipFill>
          <p:spPr>
            <a:xfrm>
              <a:off x="752472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752472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7137000" y="115920"/>
            <a:ext cx="1679400" cy="482040"/>
            <a:chOff x="7137000" y="115920"/>
            <a:chExt cx="1679400" cy="482040"/>
          </a:xfrm>
        </p:grpSpPr>
        <p:sp>
          <p:nvSpPr>
            <p:cNvPr id="505" name=""/>
            <p:cNvSpPr/>
            <p:nvPr/>
          </p:nvSpPr>
          <p:spPr>
            <a:xfrm>
              <a:off x="7155000" y="115920"/>
              <a:ext cx="1658880" cy="46512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7137000" y="115920"/>
              <a:ext cx="1679400" cy="482040"/>
              <a:chOff x="7137000" y="115920"/>
              <a:chExt cx="1679400" cy="482040"/>
            </a:xfrm>
          </p:grpSpPr>
          <p:sp>
            <p:nvSpPr>
              <p:cNvPr id="507" name=""/>
              <p:cNvSpPr/>
              <p:nvPr/>
            </p:nvSpPr>
            <p:spPr>
              <a:xfrm>
                <a:off x="7155000" y="115920"/>
                <a:ext cx="1652760" cy="4590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7137000" y="115920"/>
                <a:ext cx="1679400" cy="482040"/>
                <a:chOff x="7137000" y="115920"/>
                <a:chExt cx="1679400" cy="48204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7155000" y="115920"/>
                  <a:ext cx="1648080" cy="45432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0" name=""/>
                <p:cNvGrpSpPr/>
                <p:nvPr/>
              </p:nvGrpSpPr>
              <p:grpSpPr>
                <a:xfrm>
                  <a:off x="7137000" y="115920"/>
                  <a:ext cx="1679400" cy="482040"/>
                  <a:chOff x="7137000" y="115920"/>
                  <a:chExt cx="1679400" cy="48204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7155000" y="115920"/>
                    <a:ext cx="1644840" cy="45144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7137000" y="115920"/>
                    <a:ext cx="1679400" cy="482040"/>
                    <a:chOff x="7137000" y="115920"/>
                    <a:chExt cx="1679400" cy="48204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7155000" y="115920"/>
                      <a:ext cx="1643040" cy="4500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7137000" y="115920"/>
                      <a:ext cx="167940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 О Н И 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515" name=""/>
          <p:cNvSpPr/>
          <p:nvPr/>
        </p:nvSpPr>
        <p:spPr>
          <a:xfrm>
            <a:off x="7164360" y="47628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т  е  л  е  к  а  н  а  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517" name=""/>
          <p:cNvGrpSpPr/>
          <p:nvPr/>
        </p:nvGrpSpPr>
        <p:grpSpPr>
          <a:xfrm>
            <a:off x="250920" y="907920"/>
            <a:ext cx="2222280" cy="383400"/>
            <a:chOff x="250920" y="907920"/>
            <a:chExt cx="2222280" cy="383400"/>
          </a:xfrm>
        </p:grpSpPr>
        <p:sp>
          <p:nvSpPr>
            <p:cNvPr id="518" name=""/>
            <p:cNvSpPr/>
            <p:nvPr/>
          </p:nvSpPr>
          <p:spPr>
            <a:xfrm>
              <a:off x="250920" y="907920"/>
              <a:ext cx="222228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250920" y="907920"/>
              <a:ext cx="2215800" cy="383400"/>
              <a:chOff x="250920" y="907920"/>
              <a:chExt cx="2215800" cy="383400"/>
            </a:xfrm>
          </p:grpSpPr>
          <p:sp>
            <p:nvSpPr>
              <p:cNvPr id="520" name=""/>
              <p:cNvSpPr/>
              <p:nvPr/>
            </p:nvSpPr>
            <p:spPr>
              <a:xfrm>
                <a:off x="250920" y="907920"/>
                <a:ext cx="2215800" cy="36972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1" name=""/>
              <p:cNvGrpSpPr/>
              <p:nvPr/>
            </p:nvGrpSpPr>
            <p:grpSpPr>
              <a:xfrm>
                <a:off x="250920" y="907920"/>
                <a:ext cx="2210760" cy="383400"/>
                <a:chOff x="250920" y="907920"/>
                <a:chExt cx="2210760" cy="38340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50920" y="907920"/>
                  <a:ext cx="2210760" cy="366480"/>
                </a:xfrm>
                <a:prstGeom prst="roundRect">
                  <a:avLst>
                    <a:gd name="adj" fmla="val 42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250920" y="907920"/>
                  <a:ext cx="2208960" cy="383400"/>
                  <a:chOff x="250920" y="907920"/>
                  <a:chExt cx="2208960" cy="38340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250920" y="907920"/>
                    <a:ext cx="2208960" cy="36324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250920" y="907920"/>
                    <a:ext cx="2207160" cy="383400"/>
                    <a:chOff x="250920" y="907920"/>
                    <a:chExt cx="2207160" cy="38340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250920" y="907920"/>
                      <a:ext cx="2207160" cy="36144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308880" y="907920"/>
                      <a:ext cx="208944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528" name=""/>
          <p:cNvSpPr/>
          <p:nvPr/>
        </p:nvSpPr>
        <p:spPr>
          <a:xfrm>
            <a:off x="539640" y="1557360"/>
            <a:ext cx="8064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ts val="1463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4000" y="1844640"/>
            <a:ext cx="511164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Для специалистов банковской сферы, страховых и финансовых компаний, юридических фирм, а также для людей, пользующимися услугами этих учреждений.</a:t>
            </a:r>
            <a:br>
              <a:rPr sz="1300"/>
            </a:b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"Банкнота"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– это информация о состоянии финансовых рынков, банковских услуг, предложенных клиентам, а также экономические новости и разъяснение экономических терминов широком кругу потребителей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"Банкнота"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– это непосредственный контактер между основными сегментами экономики: спросом и предложением. Это оперативный и доброжелательный информатор с налаженной сетью каналов информации для потребителя и хороший партнер для заказчика, который заинтересован в эффективном продвижении своего продукта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Ведущая программы – Олеся Кос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Ценность информации от "Банкноты" – ее практическое применение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Время эфира: по будням в 07:50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6"/>
          <a:stretch/>
        </p:blipFill>
        <p:spPr>
          <a:xfrm>
            <a:off x="395280" y="0"/>
            <a:ext cx="647640" cy="6494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7236000" y="0"/>
            <a:ext cx="1692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 О Н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987640" y="1268280"/>
            <a:ext cx="2376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анкн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7"/>
          <a:stretch/>
        </p:blipFill>
        <p:spPr>
          <a:xfrm>
            <a:off x="5580000" y="2349360"/>
            <a:ext cx="331164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 rot="10800000">
            <a:off x="0" y="6175440"/>
            <a:ext cx="9144000" cy="691920"/>
          </a:xfrm>
          <a:prstGeom prst="roundRect">
            <a:avLst>
              <a:gd name="adj" fmla="val 2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67280" y="5661000"/>
            <a:ext cx="4678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64000" y="5877000"/>
            <a:ext cx="3383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-9360" y="6165720"/>
            <a:ext cx="9162720" cy="180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8099280" y="6308640"/>
            <a:ext cx="343080" cy="349200"/>
            <a:chOff x="8099280" y="6308640"/>
            <a:chExt cx="343080" cy="349200"/>
          </a:xfrm>
        </p:grpSpPr>
        <p:pic>
          <p:nvPicPr>
            <p:cNvPr id="541" name="" descr=""/>
            <p:cNvPicPr/>
            <p:nvPr/>
          </p:nvPicPr>
          <p:blipFill>
            <a:blip r:embed="rId2"/>
            <a:stretch/>
          </p:blipFill>
          <p:spPr>
            <a:xfrm>
              <a:off x="809928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809928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7524720" y="6308640"/>
            <a:ext cx="343080" cy="349200"/>
            <a:chOff x="7524720" y="6308640"/>
            <a:chExt cx="343080" cy="349200"/>
          </a:xfrm>
        </p:grpSpPr>
        <p:pic>
          <p:nvPicPr>
            <p:cNvPr id="544" name="" descr=""/>
            <p:cNvPicPr/>
            <p:nvPr/>
          </p:nvPicPr>
          <p:blipFill>
            <a:blip r:embed="rId3"/>
            <a:stretch/>
          </p:blipFill>
          <p:spPr>
            <a:xfrm>
              <a:off x="752472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752472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137000" y="115920"/>
            <a:ext cx="1679400" cy="482040"/>
            <a:chOff x="7137000" y="115920"/>
            <a:chExt cx="1679400" cy="482040"/>
          </a:xfrm>
        </p:grpSpPr>
        <p:sp>
          <p:nvSpPr>
            <p:cNvPr id="547" name=""/>
            <p:cNvSpPr/>
            <p:nvPr/>
          </p:nvSpPr>
          <p:spPr>
            <a:xfrm>
              <a:off x="7155000" y="115920"/>
              <a:ext cx="1658880" cy="46512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7137000" y="115920"/>
              <a:ext cx="1679400" cy="482040"/>
              <a:chOff x="7137000" y="115920"/>
              <a:chExt cx="1679400" cy="482040"/>
            </a:xfrm>
          </p:grpSpPr>
          <p:sp>
            <p:nvSpPr>
              <p:cNvPr id="549" name=""/>
              <p:cNvSpPr/>
              <p:nvPr/>
            </p:nvSpPr>
            <p:spPr>
              <a:xfrm>
                <a:off x="7155000" y="115920"/>
                <a:ext cx="1652760" cy="4590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7137000" y="115920"/>
                <a:ext cx="1679400" cy="482040"/>
                <a:chOff x="7137000" y="115920"/>
                <a:chExt cx="1679400" cy="48204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7155000" y="115920"/>
                  <a:ext cx="1648080" cy="45432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2" name=""/>
                <p:cNvGrpSpPr/>
                <p:nvPr/>
              </p:nvGrpSpPr>
              <p:grpSpPr>
                <a:xfrm>
                  <a:off x="7137000" y="115920"/>
                  <a:ext cx="1679400" cy="482040"/>
                  <a:chOff x="7137000" y="115920"/>
                  <a:chExt cx="1679400" cy="48204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7155000" y="115920"/>
                    <a:ext cx="1644840" cy="45144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7137000" y="115920"/>
                    <a:ext cx="1679400" cy="482040"/>
                    <a:chOff x="7137000" y="115920"/>
                    <a:chExt cx="1679400" cy="48204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7155000" y="115920"/>
                      <a:ext cx="1643040" cy="4500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7137000" y="115920"/>
                      <a:ext cx="167940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 О Н И 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557" name=""/>
          <p:cNvSpPr/>
          <p:nvPr/>
        </p:nvSpPr>
        <p:spPr>
          <a:xfrm>
            <a:off x="7164360" y="47628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т  е  л  е  к  а  н  а  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4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559" name=""/>
          <p:cNvGrpSpPr/>
          <p:nvPr/>
        </p:nvGrpSpPr>
        <p:grpSpPr>
          <a:xfrm>
            <a:off x="250920" y="907920"/>
            <a:ext cx="2222280" cy="383400"/>
            <a:chOff x="250920" y="907920"/>
            <a:chExt cx="2222280" cy="383400"/>
          </a:xfrm>
        </p:grpSpPr>
        <p:sp>
          <p:nvSpPr>
            <p:cNvPr id="560" name=""/>
            <p:cNvSpPr/>
            <p:nvPr/>
          </p:nvSpPr>
          <p:spPr>
            <a:xfrm>
              <a:off x="250920" y="907920"/>
              <a:ext cx="222228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250920" y="907920"/>
              <a:ext cx="2215800" cy="383400"/>
              <a:chOff x="250920" y="907920"/>
              <a:chExt cx="2215800" cy="383400"/>
            </a:xfrm>
          </p:grpSpPr>
          <p:sp>
            <p:nvSpPr>
              <p:cNvPr id="562" name=""/>
              <p:cNvSpPr/>
              <p:nvPr/>
            </p:nvSpPr>
            <p:spPr>
              <a:xfrm>
                <a:off x="250920" y="907920"/>
                <a:ext cx="2215800" cy="36972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3" name=""/>
              <p:cNvGrpSpPr/>
              <p:nvPr/>
            </p:nvGrpSpPr>
            <p:grpSpPr>
              <a:xfrm>
                <a:off x="250920" y="907920"/>
                <a:ext cx="2210760" cy="383400"/>
                <a:chOff x="250920" y="907920"/>
                <a:chExt cx="2210760" cy="38340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250920" y="907920"/>
                  <a:ext cx="2210760" cy="366480"/>
                </a:xfrm>
                <a:prstGeom prst="roundRect">
                  <a:avLst>
                    <a:gd name="adj" fmla="val 42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5" name=""/>
                <p:cNvGrpSpPr/>
                <p:nvPr/>
              </p:nvGrpSpPr>
              <p:grpSpPr>
                <a:xfrm>
                  <a:off x="250920" y="907920"/>
                  <a:ext cx="2208960" cy="383400"/>
                  <a:chOff x="250920" y="907920"/>
                  <a:chExt cx="2208960" cy="38340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50920" y="907920"/>
                    <a:ext cx="2208960" cy="36324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250920" y="907920"/>
                    <a:ext cx="2207160" cy="383400"/>
                    <a:chOff x="250920" y="907920"/>
                    <a:chExt cx="2207160" cy="38340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250920" y="907920"/>
                      <a:ext cx="2207160" cy="36144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308880" y="907920"/>
                      <a:ext cx="208944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570" name=""/>
          <p:cNvSpPr/>
          <p:nvPr/>
        </p:nvSpPr>
        <p:spPr>
          <a:xfrm>
            <a:off x="539640" y="1628640"/>
            <a:ext cx="8064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ts val="1463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4000" y="2060640"/>
            <a:ext cx="5111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6"/>
          <a:stretch/>
        </p:blipFill>
        <p:spPr>
          <a:xfrm>
            <a:off x="395280" y="0"/>
            <a:ext cx="647640" cy="6494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7236000" y="0"/>
            <a:ext cx="1692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 О Н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556000" y="1341360"/>
            <a:ext cx="3671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ильні світу сь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0920" y="1805400"/>
            <a:ext cx="5329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Этой программе нет аналогов. Ведь она – о людях, которые создают историю "здесь" и "сейчас": политиков, диктаторов и вождей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то эти лица? Как стали «сильными"? Как получили деньги и власть? И главное: по силам ли их успех любому из нас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Без предубеждений. Без штампов. Для тех, кто хочет достичь большего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ни – создают историю. Они – определяют судьбы стран. Впрочем, как и обычные смертные они не защищены от неприятностей: скандалов, судов и тюрем. Кто же они, "Сильные мира сего" ?.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ahoma"/>
              </a:rPr>
              <a:t>Автор проекта – Елена Азарце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ремя эфира: по пятницам в 21:1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7"/>
          <a:stretch/>
        </p:blipFill>
        <p:spPr>
          <a:xfrm>
            <a:off x="5724360" y="2276640"/>
            <a:ext cx="2857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 rot="10800000">
            <a:off x="0" y="6175440"/>
            <a:ext cx="9144000" cy="691920"/>
          </a:xfrm>
          <a:prstGeom prst="roundRect">
            <a:avLst>
              <a:gd name="adj" fmla="val 2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67280" y="5661000"/>
            <a:ext cx="4678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64000" y="5877000"/>
            <a:ext cx="3383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-9360" y="6165720"/>
            <a:ext cx="9162720" cy="180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8099280" y="6308640"/>
            <a:ext cx="343080" cy="349200"/>
            <a:chOff x="8099280" y="6308640"/>
            <a:chExt cx="343080" cy="349200"/>
          </a:xfrm>
        </p:grpSpPr>
        <p:pic>
          <p:nvPicPr>
            <p:cNvPr id="584" name="" descr=""/>
            <p:cNvPicPr/>
            <p:nvPr/>
          </p:nvPicPr>
          <p:blipFill>
            <a:blip r:embed="rId2"/>
            <a:stretch/>
          </p:blipFill>
          <p:spPr>
            <a:xfrm>
              <a:off x="809928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809928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7524720" y="6308640"/>
            <a:ext cx="343080" cy="349200"/>
            <a:chOff x="7524720" y="6308640"/>
            <a:chExt cx="343080" cy="349200"/>
          </a:xfrm>
        </p:grpSpPr>
        <p:pic>
          <p:nvPicPr>
            <p:cNvPr id="587" name="" descr=""/>
            <p:cNvPicPr/>
            <p:nvPr/>
          </p:nvPicPr>
          <p:blipFill>
            <a:blip r:embed="rId3"/>
            <a:stretch/>
          </p:blipFill>
          <p:spPr>
            <a:xfrm>
              <a:off x="752472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752472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7137000" y="115920"/>
            <a:ext cx="1679400" cy="482040"/>
            <a:chOff x="7137000" y="115920"/>
            <a:chExt cx="1679400" cy="482040"/>
          </a:xfrm>
        </p:grpSpPr>
        <p:sp>
          <p:nvSpPr>
            <p:cNvPr id="590" name=""/>
            <p:cNvSpPr/>
            <p:nvPr/>
          </p:nvSpPr>
          <p:spPr>
            <a:xfrm>
              <a:off x="7155000" y="115920"/>
              <a:ext cx="1658880" cy="46512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7137000" y="115920"/>
              <a:ext cx="1679400" cy="482040"/>
              <a:chOff x="7137000" y="115920"/>
              <a:chExt cx="1679400" cy="482040"/>
            </a:xfrm>
          </p:grpSpPr>
          <p:sp>
            <p:nvSpPr>
              <p:cNvPr id="592" name=""/>
              <p:cNvSpPr/>
              <p:nvPr/>
            </p:nvSpPr>
            <p:spPr>
              <a:xfrm>
                <a:off x="7155000" y="115920"/>
                <a:ext cx="1652760" cy="4590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7137000" y="115920"/>
                <a:ext cx="1679400" cy="482040"/>
                <a:chOff x="7137000" y="115920"/>
                <a:chExt cx="1679400" cy="48204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7155000" y="115920"/>
                  <a:ext cx="1648080" cy="45432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5" name=""/>
                <p:cNvGrpSpPr/>
                <p:nvPr/>
              </p:nvGrpSpPr>
              <p:grpSpPr>
                <a:xfrm>
                  <a:off x="7137000" y="115920"/>
                  <a:ext cx="1679400" cy="482040"/>
                  <a:chOff x="7137000" y="115920"/>
                  <a:chExt cx="1679400" cy="48204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>
                    <a:off x="7155000" y="115920"/>
                    <a:ext cx="1644840" cy="45144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7" name=""/>
                  <p:cNvGrpSpPr/>
                  <p:nvPr/>
                </p:nvGrpSpPr>
                <p:grpSpPr>
                  <a:xfrm>
                    <a:off x="7137000" y="115920"/>
                    <a:ext cx="1679400" cy="482040"/>
                    <a:chOff x="7137000" y="115920"/>
                    <a:chExt cx="1679400" cy="482040"/>
                  </a:xfrm>
                </p:grpSpPr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7155000" y="115920"/>
                      <a:ext cx="1643040" cy="4500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7137000" y="115920"/>
                      <a:ext cx="167940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 О Н И 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600" name=""/>
          <p:cNvSpPr/>
          <p:nvPr/>
        </p:nvSpPr>
        <p:spPr>
          <a:xfrm>
            <a:off x="7164360" y="47628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т  е  л  е  к  а  н  а  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4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250920" y="907920"/>
            <a:ext cx="2222280" cy="383400"/>
            <a:chOff x="250920" y="907920"/>
            <a:chExt cx="2222280" cy="383400"/>
          </a:xfrm>
        </p:grpSpPr>
        <p:sp>
          <p:nvSpPr>
            <p:cNvPr id="603" name=""/>
            <p:cNvSpPr/>
            <p:nvPr/>
          </p:nvSpPr>
          <p:spPr>
            <a:xfrm>
              <a:off x="250920" y="907920"/>
              <a:ext cx="222228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50920" y="907920"/>
              <a:ext cx="2215800" cy="383400"/>
              <a:chOff x="250920" y="907920"/>
              <a:chExt cx="2215800" cy="383400"/>
            </a:xfrm>
          </p:grpSpPr>
          <p:sp>
            <p:nvSpPr>
              <p:cNvPr id="605" name=""/>
              <p:cNvSpPr/>
              <p:nvPr/>
            </p:nvSpPr>
            <p:spPr>
              <a:xfrm>
                <a:off x="250920" y="907920"/>
                <a:ext cx="2215800" cy="36972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250920" y="907920"/>
                <a:ext cx="2210760" cy="383400"/>
                <a:chOff x="250920" y="907920"/>
                <a:chExt cx="2210760" cy="3834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250920" y="907920"/>
                  <a:ext cx="2210760" cy="366480"/>
                </a:xfrm>
                <a:prstGeom prst="roundRect">
                  <a:avLst>
                    <a:gd name="adj" fmla="val 42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8" name=""/>
                <p:cNvGrpSpPr/>
                <p:nvPr/>
              </p:nvGrpSpPr>
              <p:grpSpPr>
                <a:xfrm>
                  <a:off x="250920" y="907920"/>
                  <a:ext cx="2208960" cy="383400"/>
                  <a:chOff x="250920" y="907920"/>
                  <a:chExt cx="2208960" cy="38340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>
                    <a:off x="250920" y="907920"/>
                    <a:ext cx="2208960" cy="36324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250920" y="907920"/>
                    <a:ext cx="2207160" cy="383400"/>
                    <a:chOff x="250920" y="907920"/>
                    <a:chExt cx="2207160" cy="38340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>
                      <a:off x="250920" y="907920"/>
                      <a:ext cx="2207160" cy="36144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308880" y="907920"/>
                      <a:ext cx="208944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613" name=""/>
          <p:cNvSpPr/>
          <p:nvPr/>
        </p:nvSpPr>
        <p:spPr>
          <a:xfrm>
            <a:off x="539640" y="1628640"/>
            <a:ext cx="8064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ts val="1463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24000" y="2060640"/>
            <a:ext cx="5111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6"/>
          <a:stretch/>
        </p:blipFill>
        <p:spPr>
          <a:xfrm>
            <a:off x="395280" y="0"/>
            <a:ext cx="647640" cy="64944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7236000" y="0"/>
            <a:ext cx="1692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 О Н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56000" y="1341360"/>
            <a:ext cx="2376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пецпрое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55640" y="1669320"/>
            <a:ext cx="453708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ойте глаза на жизнь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едь иногда она совсем не такая, как кажется на первый взгляд. Обычное явление при пристальном рассмотрении оказывается серьезной проблемой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За фасадом безобразной внешности может скрываться красивая душа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рой, для того, чтоб заглянуть внутрь и коснуться самого сокровенного, нужны незаурядные сила воли и готовность увидеть то, что может даже шокировать…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«Спецпроект»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сследует и исследует все, что находится по ту, внешнюю, сторону явлений, событий и поступков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ы готовы посмотреть в глаза оголенной правде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Время эфира: по пятницам в 20:00, по субботам в 17:25, в понедельник – в 08:25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7"/>
          <a:stretch/>
        </p:blipFill>
        <p:spPr>
          <a:xfrm>
            <a:off x="5651640" y="2421000"/>
            <a:ext cx="2695320" cy="22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 rot="10800000">
            <a:off x="0" y="6175440"/>
            <a:ext cx="9144000" cy="691920"/>
          </a:xfrm>
          <a:prstGeom prst="roundRect">
            <a:avLst>
              <a:gd name="adj" fmla="val 2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67280" y="5661000"/>
            <a:ext cx="4678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364000" y="5877000"/>
            <a:ext cx="3383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-9360" y="6165720"/>
            <a:ext cx="9162720" cy="180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8099280" y="6308640"/>
            <a:ext cx="343080" cy="349200"/>
            <a:chOff x="8099280" y="6308640"/>
            <a:chExt cx="343080" cy="349200"/>
          </a:xfrm>
        </p:grpSpPr>
        <p:pic>
          <p:nvPicPr>
            <p:cNvPr id="627" name="" descr=""/>
            <p:cNvPicPr/>
            <p:nvPr/>
          </p:nvPicPr>
          <p:blipFill>
            <a:blip r:embed="rId2"/>
            <a:stretch/>
          </p:blipFill>
          <p:spPr>
            <a:xfrm>
              <a:off x="809928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809928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7524720" y="6308640"/>
            <a:ext cx="343080" cy="349200"/>
            <a:chOff x="7524720" y="6308640"/>
            <a:chExt cx="343080" cy="349200"/>
          </a:xfrm>
        </p:grpSpPr>
        <p:pic>
          <p:nvPicPr>
            <p:cNvPr id="630" name="" descr=""/>
            <p:cNvPicPr/>
            <p:nvPr/>
          </p:nvPicPr>
          <p:blipFill>
            <a:blip r:embed="rId3"/>
            <a:stretch/>
          </p:blipFill>
          <p:spPr>
            <a:xfrm>
              <a:off x="752472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752472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7137000" y="115920"/>
            <a:ext cx="1679400" cy="482040"/>
            <a:chOff x="7137000" y="115920"/>
            <a:chExt cx="1679400" cy="482040"/>
          </a:xfrm>
        </p:grpSpPr>
        <p:sp>
          <p:nvSpPr>
            <p:cNvPr id="633" name=""/>
            <p:cNvSpPr/>
            <p:nvPr/>
          </p:nvSpPr>
          <p:spPr>
            <a:xfrm>
              <a:off x="7155000" y="115920"/>
              <a:ext cx="1658880" cy="46512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7137000" y="115920"/>
              <a:ext cx="1679400" cy="482040"/>
              <a:chOff x="7137000" y="115920"/>
              <a:chExt cx="1679400" cy="482040"/>
            </a:xfrm>
          </p:grpSpPr>
          <p:sp>
            <p:nvSpPr>
              <p:cNvPr id="635" name=""/>
              <p:cNvSpPr/>
              <p:nvPr/>
            </p:nvSpPr>
            <p:spPr>
              <a:xfrm>
                <a:off x="7155000" y="115920"/>
                <a:ext cx="1652760" cy="4590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6" name=""/>
              <p:cNvGrpSpPr/>
              <p:nvPr/>
            </p:nvGrpSpPr>
            <p:grpSpPr>
              <a:xfrm>
                <a:off x="7137000" y="115920"/>
                <a:ext cx="1679400" cy="482040"/>
                <a:chOff x="7137000" y="115920"/>
                <a:chExt cx="1679400" cy="48204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7155000" y="115920"/>
                  <a:ext cx="1648080" cy="45432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8" name=""/>
                <p:cNvGrpSpPr/>
                <p:nvPr/>
              </p:nvGrpSpPr>
              <p:grpSpPr>
                <a:xfrm>
                  <a:off x="7137000" y="115920"/>
                  <a:ext cx="1679400" cy="482040"/>
                  <a:chOff x="7137000" y="115920"/>
                  <a:chExt cx="1679400" cy="48204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>
                    <a:off x="7155000" y="115920"/>
                    <a:ext cx="1644840" cy="45144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7137000" y="115920"/>
                    <a:ext cx="1679400" cy="482040"/>
                    <a:chOff x="7137000" y="115920"/>
                    <a:chExt cx="1679400" cy="48204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7155000" y="115920"/>
                      <a:ext cx="1643040" cy="4500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7137000" y="115920"/>
                      <a:ext cx="167940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 О Н И 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643" name=""/>
          <p:cNvSpPr/>
          <p:nvPr/>
        </p:nvSpPr>
        <p:spPr>
          <a:xfrm>
            <a:off x="7164360" y="47628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т  е  л  е  к  а  н  а  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4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645" name=""/>
          <p:cNvGrpSpPr/>
          <p:nvPr/>
        </p:nvGrpSpPr>
        <p:grpSpPr>
          <a:xfrm>
            <a:off x="250920" y="907920"/>
            <a:ext cx="2222280" cy="383400"/>
            <a:chOff x="250920" y="907920"/>
            <a:chExt cx="2222280" cy="383400"/>
          </a:xfrm>
        </p:grpSpPr>
        <p:sp>
          <p:nvSpPr>
            <p:cNvPr id="646" name=""/>
            <p:cNvSpPr/>
            <p:nvPr/>
          </p:nvSpPr>
          <p:spPr>
            <a:xfrm>
              <a:off x="250920" y="907920"/>
              <a:ext cx="222228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250920" y="907920"/>
              <a:ext cx="2215800" cy="383400"/>
              <a:chOff x="250920" y="907920"/>
              <a:chExt cx="2215800" cy="383400"/>
            </a:xfrm>
          </p:grpSpPr>
          <p:sp>
            <p:nvSpPr>
              <p:cNvPr id="648" name=""/>
              <p:cNvSpPr/>
              <p:nvPr/>
            </p:nvSpPr>
            <p:spPr>
              <a:xfrm>
                <a:off x="250920" y="907920"/>
                <a:ext cx="2215800" cy="36972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250920" y="907920"/>
                <a:ext cx="2210760" cy="383400"/>
                <a:chOff x="250920" y="907920"/>
                <a:chExt cx="2210760" cy="38340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250920" y="907920"/>
                  <a:ext cx="2210760" cy="366480"/>
                </a:xfrm>
                <a:prstGeom prst="roundRect">
                  <a:avLst>
                    <a:gd name="adj" fmla="val 42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1" name=""/>
                <p:cNvGrpSpPr/>
                <p:nvPr/>
              </p:nvGrpSpPr>
              <p:grpSpPr>
                <a:xfrm>
                  <a:off x="250920" y="907920"/>
                  <a:ext cx="2208960" cy="383400"/>
                  <a:chOff x="250920" y="907920"/>
                  <a:chExt cx="2208960" cy="38340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250920" y="907920"/>
                    <a:ext cx="2208960" cy="36324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250920" y="907920"/>
                    <a:ext cx="2207160" cy="383400"/>
                    <a:chOff x="250920" y="907920"/>
                    <a:chExt cx="2207160" cy="38340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>
                      <a:off x="250920" y="907920"/>
                      <a:ext cx="2207160" cy="36144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308880" y="907920"/>
                      <a:ext cx="208944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656" name=""/>
          <p:cNvSpPr/>
          <p:nvPr/>
        </p:nvSpPr>
        <p:spPr>
          <a:xfrm>
            <a:off x="539640" y="1628640"/>
            <a:ext cx="8064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ts val="1463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24000" y="2060640"/>
            <a:ext cx="5111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6"/>
          <a:stretch/>
        </p:blipFill>
        <p:spPr>
          <a:xfrm>
            <a:off x="395280" y="0"/>
            <a:ext cx="647640" cy="6494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7236000" y="0"/>
            <a:ext cx="1692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 О Н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56000" y="1197000"/>
            <a:ext cx="2376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гія кра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11280" y="1674000"/>
            <a:ext cx="51847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Как ухаживать за растениями, какие работы проводить в каждом из сезонов, какие тайны скрывает богатая украинская флора, как вырастить тропические, комнатные растения или растения открытой почвы и много других полезных советов для профессиональных садоводов и просто любителей – теперь всё это можно узнать в программе 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«Магия красоты».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ечении недели раскрывается конкретная тема (пересадка цветов, обрезка, уход, дизайн зимнего сада, ландшафтный дизайн, декоративные растения  и прочее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Субботний выпуск подытожит все темы недели. Поэтому вы сможете ещё раз пройти мастер-класс, а также узнать что сделать для своих зеленых любимцев на следующей неделе – советы по лунному календарю. 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Автор и ведущая программы – Юлия Федоренко.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Она сама испытает все премудрости садоводства под руководством специалистов и доступно объяснит, что как лучше сделать. 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Время эфира: понедельник в 08:15, вторник–пятница в 08:25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суббота в 09: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7"/>
          <a:stretch/>
        </p:blipFill>
        <p:spPr>
          <a:xfrm>
            <a:off x="6012000" y="2133720"/>
            <a:ext cx="29876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 rot="10800000">
            <a:off x="0" y="6175440"/>
            <a:ext cx="9144000" cy="691920"/>
          </a:xfrm>
          <a:prstGeom prst="roundRect">
            <a:avLst>
              <a:gd name="adj" fmla="val 2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67280" y="5661000"/>
            <a:ext cx="4678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64000" y="5877000"/>
            <a:ext cx="3383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-9360" y="6165720"/>
            <a:ext cx="9162720" cy="180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8099280" y="6308640"/>
            <a:ext cx="343080" cy="349200"/>
            <a:chOff x="8099280" y="6308640"/>
            <a:chExt cx="343080" cy="349200"/>
          </a:xfrm>
        </p:grpSpPr>
        <p:pic>
          <p:nvPicPr>
            <p:cNvPr id="670" name="" descr=""/>
            <p:cNvPicPr/>
            <p:nvPr/>
          </p:nvPicPr>
          <p:blipFill>
            <a:blip r:embed="rId2"/>
            <a:stretch/>
          </p:blipFill>
          <p:spPr>
            <a:xfrm>
              <a:off x="809928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809928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524720" y="6308640"/>
            <a:ext cx="343080" cy="349200"/>
            <a:chOff x="7524720" y="6308640"/>
            <a:chExt cx="343080" cy="349200"/>
          </a:xfrm>
        </p:grpSpPr>
        <p:pic>
          <p:nvPicPr>
            <p:cNvPr id="673" name="" descr=""/>
            <p:cNvPicPr/>
            <p:nvPr/>
          </p:nvPicPr>
          <p:blipFill>
            <a:blip r:embed="rId3"/>
            <a:stretch/>
          </p:blipFill>
          <p:spPr>
            <a:xfrm>
              <a:off x="752472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752472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137000" y="115920"/>
            <a:ext cx="1679400" cy="482040"/>
            <a:chOff x="7137000" y="115920"/>
            <a:chExt cx="1679400" cy="482040"/>
          </a:xfrm>
        </p:grpSpPr>
        <p:sp>
          <p:nvSpPr>
            <p:cNvPr id="676" name=""/>
            <p:cNvSpPr/>
            <p:nvPr/>
          </p:nvSpPr>
          <p:spPr>
            <a:xfrm>
              <a:off x="7155000" y="115920"/>
              <a:ext cx="1658880" cy="46512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7137000" y="115920"/>
              <a:ext cx="1679400" cy="482040"/>
              <a:chOff x="7137000" y="115920"/>
              <a:chExt cx="1679400" cy="482040"/>
            </a:xfrm>
          </p:grpSpPr>
          <p:sp>
            <p:nvSpPr>
              <p:cNvPr id="678" name=""/>
              <p:cNvSpPr/>
              <p:nvPr/>
            </p:nvSpPr>
            <p:spPr>
              <a:xfrm>
                <a:off x="7155000" y="115920"/>
                <a:ext cx="1652760" cy="4590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9" name=""/>
              <p:cNvGrpSpPr/>
              <p:nvPr/>
            </p:nvGrpSpPr>
            <p:grpSpPr>
              <a:xfrm>
                <a:off x="7137000" y="115920"/>
                <a:ext cx="1679400" cy="482040"/>
                <a:chOff x="7137000" y="115920"/>
                <a:chExt cx="1679400" cy="48204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7155000" y="115920"/>
                  <a:ext cx="1648080" cy="45432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1" name=""/>
                <p:cNvGrpSpPr/>
                <p:nvPr/>
              </p:nvGrpSpPr>
              <p:grpSpPr>
                <a:xfrm>
                  <a:off x="7137000" y="115920"/>
                  <a:ext cx="1679400" cy="482040"/>
                  <a:chOff x="7137000" y="115920"/>
                  <a:chExt cx="1679400" cy="482040"/>
                </a:xfrm>
              </p:grpSpPr>
              <p:sp>
                <p:nvSpPr>
                  <p:cNvPr id="682" name=""/>
                  <p:cNvSpPr/>
                  <p:nvPr/>
                </p:nvSpPr>
                <p:spPr>
                  <a:xfrm>
                    <a:off x="7155000" y="115920"/>
                    <a:ext cx="1644840" cy="45144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7137000" y="115920"/>
                    <a:ext cx="1679400" cy="482040"/>
                    <a:chOff x="7137000" y="115920"/>
                    <a:chExt cx="1679400" cy="482040"/>
                  </a:xfrm>
                </p:grpSpPr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7155000" y="115920"/>
                      <a:ext cx="1643040" cy="4500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7137000" y="115920"/>
                      <a:ext cx="167940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 О Н И 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686" name=""/>
          <p:cNvSpPr/>
          <p:nvPr/>
        </p:nvSpPr>
        <p:spPr>
          <a:xfrm>
            <a:off x="7164360" y="47628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т  е  л  е  к  а  н  а  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4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688" name=""/>
          <p:cNvGrpSpPr/>
          <p:nvPr/>
        </p:nvGrpSpPr>
        <p:grpSpPr>
          <a:xfrm>
            <a:off x="250920" y="907920"/>
            <a:ext cx="2222280" cy="383400"/>
            <a:chOff x="250920" y="907920"/>
            <a:chExt cx="2222280" cy="383400"/>
          </a:xfrm>
        </p:grpSpPr>
        <p:sp>
          <p:nvSpPr>
            <p:cNvPr id="689" name=""/>
            <p:cNvSpPr/>
            <p:nvPr/>
          </p:nvSpPr>
          <p:spPr>
            <a:xfrm>
              <a:off x="250920" y="907920"/>
              <a:ext cx="222228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250920" y="907920"/>
              <a:ext cx="2215800" cy="383400"/>
              <a:chOff x="250920" y="907920"/>
              <a:chExt cx="2215800" cy="383400"/>
            </a:xfrm>
          </p:grpSpPr>
          <p:sp>
            <p:nvSpPr>
              <p:cNvPr id="691" name=""/>
              <p:cNvSpPr/>
              <p:nvPr/>
            </p:nvSpPr>
            <p:spPr>
              <a:xfrm>
                <a:off x="250920" y="907920"/>
                <a:ext cx="2215800" cy="36972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2" name=""/>
              <p:cNvGrpSpPr/>
              <p:nvPr/>
            </p:nvGrpSpPr>
            <p:grpSpPr>
              <a:xfrm>
                <a:off x="250920" y="907920"/>
                <a:ext cx="2210760" cy="383400"/>
                <a:chOff x="250920" y="907920"/>
                <a:chExt cx="2210760" cy="3834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50920" y="907920"/>
                  <a:ext cx="2210760" cy="366480"/>
                </a:xfrm>
                <a:prstGeom prst="roundRect">
                  <a:avLst>
                    <a:gd name="adj" fmla="val 42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50920" y="907920"/>
                  <a:ext cx="2208960" cy="383400"/>
                  <a:chOff x="250920" y="907920"/>
                  <a:chExt cx="2208960" cy="3834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250920" y="907920"/>
                    <a:ext cx="2208960" cy="36324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250920" y="907920"/>
                    <a:ext cx="2207160" cy="383400"/>
                    <a:chOff x="250920" y="907920"/>
                    <a:chExt cx="2207160" cy="38340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250920" y="907920"/>
                      <a:ext cx="2207160" cy="36144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308880" y="907920"/>
                      <a:ext cx="208944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699" name=""/>
          <p:cNvSpPr/>
          <p:nvPr/>
        </p:nvSpPr>
        <p:spPr>
          <a:xfrm>
            <a:off x="539640" y="1628640"/>
            <a:ext cx="8064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ts val="1463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4000" y="2060640"/>
            <a:ext cx="5111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6"/>
          <a:stretch/>
        </p:blipFill>
        <p:spPr>
          <a:xfrm>
            <a:off x="395280" y="0"/>
            <a:ext cx="647640" cy="64944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7236000" y="0"/>
            <a:ext cx="1692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 О Н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56000" y="1197000"/>
            <a:ext cx="2376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елена ва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1592280"/>
            <a:ext cx="51847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«Зелена варта»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– это новый уникальный проект журналистских экологических расследований на телевидении. Журналисты выезжают на место происшествия с передвижной «телевизионной экологической лабораторией», где вместе со специалистами исследуют ситуацию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Команда 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«Зелено</a:t>
            </a:r>
            <a:r>
              <a:rPr b="1" lang="uk-UA" sz="1300" spc="-1" strike="noStrike">
                <a:solidFill>
                  <a:srgbClr val="000000"/>
                </a:solidFill>
                <a:latin typeface="Tahoma"/>
              </a:rPr>
              <a:t>ї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 варти»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ставит перед собой задание пробудить у соотечественников инстинкт самосохранения и призывает наконец всерьез задуматься о том, что мы пьем, употребляем в пищу, чем дышим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«Зелена варта»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сскажет, что можно сделать для сохранения здоровья и даже жизни людей. Рекомендации от ведущих специалистов, к которым должна прислушаться власть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Автор проекта и режиссер – Ирина Орловская, редактор Оксана Бурлака, журналист Виктор Добров, режиссер монтажа Оксана Мушта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Рассказать о проблеме можно по телефону 390-54-46 или на адрес 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Tahoma"/>
                <a:hlinkClick r:id="rId7"/>
              </a:rPr>
              <a:t>Zelenavarta@tonis.u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Время эфира: каждый четверг в 20.00, повтор по субботам в 19.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8"/>
          <a:stretch/>
        </p:blipFill>
        <p:spPr>
          <a:xfrm>
            <a:off x="5867280" y="2276640"/>
            <a:ext cx="309744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 rot="10800000">
            <a:off x="0" y="6175440"/>
            <a:ext cx="9144000" cy="691920"/>
          </a:xfrm>
          <a:prstGeom prst="roundRect">
            <a:avLst>
              <a:gd name="adj" fmla="val 2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067280" y="5661000"/>
            <a:ext cx="4678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64000" y="5877000"/>
            <a:ext cx="3383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-9360" y="6165720"/>
            <a:ext cx="9162720" cy="180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8099280" y="6308640"/>
            <a:ext cx="343080" cy="349200"/>
            <a:chOff x="8099280" y="6308640"/>
            <a:chExt cx="343080" cy="349200"/>
          </a:xfrm>
        </p:grpSpPr>
        <p:pic>
          <p:nvPicPr>
            <p:cNvPr id="713" name="" descr=""/>
            <p:cNvPicPr/>
            <p:nvPr/>
          </p:nvPicPr>
          <p:blipFill>
            <a:blip r:embed="rId2"/>
            <a:stretch/>
          </p:blipFill>
          <p:spPr>
            <a:xfrm>
              <a:off x="809928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809928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7524720" y="6308640"/>
            <a:ext cx="343080" cy="349200"/>
            <a:chOff x="7524720" y="6308640"/>
            <a:chExt cx="343080" cy="349200"/>
          </a:xfrm>
        </p:grpSpPr>
        <p:pic>
          <p:nvPicPr>
            <p:cNvPr id="716" name="" descr=""/>
            <p:cNvPicPr/>
            <p:nvPr/>
          </p:nvPicPr>
          <p:blipFill>
            <a:blip r:embed="rId3"/>
            <a:stretch/>
          </p:blipFill>
          <p:spPr>
            <a:xfrm>
              <a:off x="752472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752472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7137000" y="115920"/>
            <a:ext cx="1679400" cy="482040"/>
            <a:chOff x="7137000" y="115920"/>
            <a:chExt cx="1679400" cy="482040"/>
          </a:xfrm>
        </p:grpSpPr>
        <p:sp>
          <p:nvSpPr>
            <p:cNvPr id="719" name=""/>
            <p:cNvSpPr/>
            <p:nvPr/>
          </p:nvSpPr>
          <p:spPr>
            <a:xfrm>
              <a:off x="7155000" y="115920"/>
              <a:ext cx="1658880" cy="46512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7137000" y="115920"/>
              <a:ext cx="1679400" cy="482040"/>
              <a:chOff x="7137000" y="115920"/>
              <a:chExt cx="1679400" cy="482040"/>
            </a:xfrm>
          </p:grpSpPr>
          <p:sp>
            <p:nvSpPr>
              <p:cNvPr id="721" name=""/>
              <p:cNvSpPr/>
              <p:nvPr/>
            </p:nvSpPr>
            <p:spPr>
              <a:xfrm>
                <a:off x="7155000" y="115920"/>
                <a:ext cx="1652760" cy="4590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2" name=""/>
              <p:cNvGrpSpPr/>
              <p:nvPr/>
            </p:nvGrpSpPr>
            <p:grpSpPr>
              <a:xfrm>
                <a:off x="7137000" y="115920"/>
                <a:ext cx="1679400" cy="482040"/>
                <a:chOff x="7137000" y="115920"/>
                <a:chExt cx="1679400" cy="48204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7155000" y="115920"/>
                  <a:ext cx="1648080" cy="45432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4" name=""/>
                <p:cNvGrpSpPr/>
                <p:nvPr/>
              </p:nvGrpSpPr>
              <p:grpSpPr>
                <a:xfrm>
                  <a:off x="7137000" y="115920"/>
                  <a:ext cx="1679400" cy="482040"/>
                  <a:chOff x="7137000" y="115920"/>
                  <a:chExt cx="1679400" cy="48204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7155000" y="115920"/>
                    <a:ext cx="1644840" cy="45144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7137000" y="115920"/>
                    <a:ext cx="1679400" cy="482040"/>
                    <a:chOff x="7137000" y="115920"/>
                    <a:chExt cx="1679400" cy="48204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7155000" y="115920"/>
                      <a:ext cx="1643040" cy="4500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7137000" y="115920"/>
                      <a:ext cx="167940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 О Н И 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29" name=""/>
          <p:cNvSpPr/>
          <p:nvPr/>
        </p:nvSpPr>
        <p:spPr>
          <a:xfrm>
            <a:off x="7164360" y="47628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т  е  л  е  к  а  н  а  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4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731" name=""/>
          <p:cNvGrpSpPr/>
          <p:nvPr/>
        </p:nvGrpSpPr>
        <p:grpSpPr>
          <a:xfrm>
            <a:off x="250920" y="907920"/>
            <a:ext cx="2222280" cy="383400"/>
            <a:chOff x="250920" y="907920"/>
            <a:chExt cx="2222280" cy="383400"/>
          </a:xfrm>
        </p:grpSpPr>
        <p:sp>
          <p:nvSpPr>
            <p:cNvPr id="732" name=""/>
            <p:cNvSpPr/>
            <p:nvPr/>
          </p:nvSpPr>
          <p:spPr>
            <a:xfrm>
              <a:off x="250920" y="907920"/>
              <a:ext cx="222228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250920" y="907920"/>
              <a:ext cx="2215800" cy="383400"/>
              <a:chOff x="250920" y="907920"/>
              <a:chExt cx="2215800" cy="383400"/>
            </a:xfrm>
          </p:grpSpPr>
          <p:sp>
            <p:nvSpPr>
              <p:cNvPr id="734" name=""/>
              <p:cNvSpPr/>
              <p:nvPr/>
            </p:nvSpPr>
            <p:spPr>
              <a:xfrm>
                <a:off x="250920" y="907920"/>
                <a:ext cx="2215800" cy="36972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5" name=""/>
              <p:cNvGrpSpPr/>
              <p:nvPr/>
            </p:nvGrpSpPr>
            <p:grpSpPr>
              <a:xfrm>
                <a:off x="250920" y="907920"/>
                <a:ext cx="2210760" cy="383400"/>
                <a:chOff x="250920" y="907920"/>
                <a:chExt cx="2210760" cy="38340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250920" y="907920"/>
                  <a:ext cx="2210760" cy="366480"/>
                </a:xfrm>
                <a:prstGeom prst="roundRect">
                  <a:avLst>
                    <a:gd name="adj" fmla="val 42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7" name=""/>
                <p:cNvGrpSpPr/>
                <p:nvPr/>
              </p:nvGrpSpPr>
              <p:grpSpPr>
                <a:xfrm>
                  <a:off x="250920" y="907920"/>
                  <a:ext cx="2208960" cy="383400"/>
                  <a:chOff x="250920" y="907920"/>
                  <a:chExt cx="2208960" cy="383400"/>
                </a:xfrm>
              </p:grpSpPr>
              <p:sp>
                <p:nvSpPr>
                  <p:cNvPr id="738" name=""/>
                  <p:cNvSpPr/>
                  <p:nvPr/>
                </p:nvSpPr>
                <p:spPr>
                  <a:xfrm>
                    <a:off x="250920" y="907920"/>
                    <a:ext cx="2208960" cy="36324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39" name=""/>
                  <p:cNvGrpSpPr/>
                  <p:nvPr/>
                </p:nvGrpSpPr>
                <p:grpSpPr>
                  <a:xfrm>
                    <a:off x="250920" y="907920"/>
                    <a:ext cx="2207160" cy="383400"/>
                    <a:chOff x="250920" y="907920"/>
                    <a:chExt cx="2207160" cy="383400"/>
                  </a:xfrm>
                </p:grpSpPr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250920" y="907920"/>
                      <a:ext cx="2207160" cy="36144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308880" y="907920"/>
                      <a:ext cx="208944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42" name=""/>
          <p:cNvSpPr/>
          <p:nvPr/>
        </p:nvSpPr>
        <p:spPr>
          <a:xfrm>
            <a:off x="539640" y="1628640"/>
            <a:ext cx="8064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ts val="1463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4000" y="2060640"/>
            <a:ext cx="5111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6"/>
          <a:stretch/>
        </p:blipFill>
        <p:spPr>
          <a:xfrm>
            <a:off x="395280" y="0"/>
            <a:ext cx="647640" cy="64944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7236000" y="0"/>
            <a:ext cx="1692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 О Н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56000" y="1197000"/>
            <a:ext cx="2376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За сім мор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8360" y="1462680"/>
            <a:ext cx="5184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«За сім морів»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– это калейдоскоп странствий в разные страны мира. Каждая программа – это знакомство с новой страной, ее традициями и нравами, национальными парками и заповедниками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«За сім морів»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– не только путешествия в далекие страны, за семь морей, но и путешествия по всей Украине. Название «За с</a:t>
            </a:r>
            <a:r>
              <a:rPr b="0" lang="uk-UA" sz="1300" spc="-1" strike="noStrike">
                <a:solidFill>
                  <a:srgbClr val="000000"/>
                </a:solidFill>
                <a:latin typeface="Tahoma"/>
              </a:rPr>
              <a:t>ім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мо</a:t>
            </a:r>
            <a:r>
              <a:rPr b="0" lang="uk-UA" sz="1300" spc="-1" strike="noStrike">
                <a:solidFill>
                  <a:srgbClr val="000000"/>
                </a:solidFill>
                <a:latin typeface="Tahoma"/>
              </a:rPr>
              <a:t>рів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» – означает любое путешествие. Именно поэтому «За с</a:t>
            </a:r>
            <a:r>
              <a:rPr b="0" lang="uk-UA" sz="1300" spc="-1" strike="noStrike">
                <a:solidFill>
                  <a:srgbClr val="000000"/>
                </a:solidFill>
                <a:latin typeface="Tahoma"/>
              </a:rPr>
              <a:t>ім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мо</a:t>
            </a:r>
            <a:r>
              <a:rPr b="0" lang="uk-UA" sz="1300" spc="-1" strike="noStrike">
                <a:solidFill>
                  <a:srgbClr val="000000"/>
                </a:solidFill>
                <a:latin typeface="Tahoma"/>
              </a:rPr>
              <a:t>рів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» проедется украинскими курортами и туристическими центрами, рассказывая о местной кухне, народных традициях и ремеслах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Рубрика «Туристам на заметку» – это отдельные сюжеты на актуальны темы, связанные с отдыхом – сколько стоит туристическая страховка и как она действует, где лучше покупать «горячие» путевки и некоторые особенности чартерных рейсов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Ведущая программы – Юлия Ермолаева.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Она расскажет только о том, что сама увидела и почувствовала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Руководитель проекта – Владимир Царук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Время эфира: каждую субботу о 11:00, повтор по воскресеньям в 09: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7"/>
          <a:stretch/>
        </p:blipFill>
        <p:spPr>
          <a:xfrm>
            <a:off x="5724360" y="234936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-38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 rot="10800000">
            <a:off x="0" y="6175440"/>
            <a:ext cx="9144000" cy="691920"/>
          </a:xfrm>
          <a:prstGeom prst="roundRect">
            <a:avLst>
              <a:gd name="adj" fmla="val 2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067280" y="5661000"/>
            <a:ext cx="4678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64000" y="5877000"/>
            <a:ext cx="3383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-9360" y="6165720"/>
            <a:ext cx="9162720" cy="180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8099280" y="6308640"/>
            <a:ext cx="343080" cy="349200"/>
            <a:chOff x="8099280" y="6308640"/>
            <a:chExt cx="343080" cy="349200"/>
          </a:xfrm>
        </p:grpSpPr>
        <p:pic>
          <p:nvPicPr>
            <p:cNvPr id="756" name="" descr=""/>
            <p:cNvPicPr/>
            <p:nvPr/>
          </p:nvPicPr>
          <p:blipFill>
            <a:blip r:embed="rId2"/>
            <a:stretch/>
          </p:blipFill>
          <p:spPr>
            <a:xfrm>
              <a:off x="809928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809928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7524720" y="6308640"/>
            <a:ext cx="343080" cy="349200"/>
            <a:chOff x="7524720" y="6308640"/>
            <a:chExt cx="343080" cy="349200"/>
          </a:xfrm>
        </p:grpSpPr>
        <p:pic>
          <p:nvPicPr>
            <p:cNvPr id="759" name="" descr=""/>
            <p:cNvPicPr/>
            <p:nvPr/>
          </p:nvPicPr>
          <p:blipFill>
            <a:blip r:embed="rId3"/>
            <a:stretch/>
          </p:blipFill>
          <p:spPr>
            <a:xfrm>
              <a:off x="752472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752472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137000" y="115920"/>
            <a:ext cx="1679400" cy="482040"/>
            <a:chOff x="7137000" y="115920"/>
            <a:chExt cx="1679400" cy="482040"/>
          </a:xfrm>
        </p:grpSpPr>
        <p:sp>
          <p:nvSpPr>
            <p:cNvPr id="762" name=""/>
            <p:cNvSpPr/>
            <p:nvPr/>
          </p:nvSpPr>
          <p:spPr>
            <a:xfrm>
              <a:off x="7155000" y="115920"/>
              <a:ext cx="1658880" cy="46512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7137000" y="115920"/>
              <a:ext cx="1679400" cy="482040"/>
              <a:chOff x="7137000" y="115920"/>
              <a:chExt cx="1679400" cy="482040"/>
            </a:xfrm>
          </p:grpSpPr>
          <p:sp>
            <p:nvSpPr>
              <p:cNvPr id="764" name=""/>
              <p:cNvSpPr/>
              <p:nvPr/>
            </p:nvSpPr>
            <p:spPr>
              <a:xfrm>
                <a:off x="7155000" y="115920"/>
                <a:ext cx="1652760" cy="4590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5" name=""/>
              <p:cNvGrpSpPr/>
              <p:nvPr/>
            </p:nvGrpSpPr>
            <p:grpSpPr>
              <a:xfrm>
                <a:off x="7137000" y="115920"/>
                <a:ext cx="1679400" cy="482040"/>
                <a:chOff x="7137000" y="115920"/>
                <a:chExt cx="1679400" cy="48204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7155000" y="115920"/>
                  <a:ext cx="1648080" cy="45432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7" name=""/>
                <p:cNvGrpSpPr/>
                <p:nvPr/>
              </p:nvGrpSpPr>
              <p:grpSpPr>
                <a:xfrm>
                  <a:off x="7137000" y="115920"/>
                  <a:ext cx="1679400" cy="482040"/>
                  <a:chOff x="7137000" y="115920"/>
                  <a:chExt cx="1679400" cy="48204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>
                    <a:off x="7155000" y="115920"/>
                    <a:ext cx="1644840" cy="45144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69" name=""/>
                  <p:cNvGrpSpPr/>
                  <p:nvPr/>
                </p:nvGrpSpPr>
                <p:grpSpPr>
                  <a:xfrm>
                    <a:off x="7137000" y="115920"/>
                    <a:ext cx="1679400" cy="482040"/>
                    <a:chOff x="7137000" y="115920"/>
                    <a:chExt cx="1679400" cy="482040"/>
                  </a:xfrm>
                </p:grpSpPr>
                <p:sp>
                  <p:nvSpPr>
                    <p:cNvPr id="770" name=""/>
                    <p:cNvSpPr/>
                    <p:nvPr/>
                  </p:nvSpPr>
                  <p:spPr>
                    <a:xfrm>
                      <a:off x="7155000" y="115920"/>
                      <a:ext cx="1643040" cy="4500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>
                      <a:off x="7137000" y="115920"/>
                      <a:ext cx="167940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 О Н И 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72" name=""/>
          <p:cNvSpPr/>
          <p:nvPr/>
        </p:nvSpPr>
        <p:spPr>
          <a:xfrm>
            <a:off x="7164360" y="47628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т  е  л  е  к  а  н  а  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4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774" name=""/>
          <p:cNvGrpSpPr/>
          <p:nvPr/>
        </p:nvGrpSpPr>
        <p:grpSpPr>
          <a:xfrm>
            <a:off x="250920" y="907920"/>
            <a:ext cx="2222280" cy="383400"/>
            <a:chOff x="250920" y="907920"/>
            <a:chExt cx="2222280" cy="383400"/>
          </a:xfrm>
        </p:grpSpPr>
        <p:sp>
          <p:nvSpPr>
            <p:cNvPr id="775" name=""/>
            <p:cNvSpPr/>
            <p:nvPr/>
          </p:nvSpPr>
          <p:spPr>
            <a:xfrm>
              <a:off x="250920" y="907920"/>
              <a:ext cx="222228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50920" y="907920"/>
              <a:ext cx="2215800" cy="383400"/>
              <a:chOff x="250920" y="907920"/>
              <a:chExt cx="2215800" cy="3834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0920" y="907920"/>
                <a:ext cx="2215800" cy="36972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250920" y="907920"/>
                <a:ext cx="2210760" cy="383400"/>
                <a:chOff x="250920" y="907920"/>
                <a:chExt cx="2210760" cy="38340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250920" y="907920"/>
                  <a:ext cx="2210760" cy="366480"/>
                </a:xfrm>
                <a:prstGeom prst="roundRect">
                  <a:avLst>
                    <a:gd name="adj" fmla="val 42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0" name=""/>
                <p:cNvGrpSpPr/>
                <p:nvPr/>
              </p:nvGrpSpPr>
              <p:grpSpPr>
                <a:xfrm>
                  <a:off x="250920" y="907920"/>
                  <a:ext cx="2208960" cy="383400"/>
                  <a:chOff x="250920" y="907920"/>
                  <a:chExt cx="2208960" cy="38340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>
                    <a:off x="250920" y="907920"/>
                    <a:ext cx="2208960" cy="36324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250920" y="907920"/>
                    <a:ext cx="2207160" cy="383400"/>
                    <a:chOff x="250920" y="907920"/>
                    <a:chExt cx="2207160" cy="38340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>
                      <a:off x="250920" y="907920"/>
                      <a:ext cx="2207160" cy="36144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>
                      <a:off x="308880" y="907920"/>
                      <a:ext cx="208944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85" name=""/>
          <p:cNvSpPr/>
          <p:nvPr/>
        </p:nvSpPr>
        <p:spPr>
          <a:xfrm>
            <a:off x="539640" y="1628640"/>
            <a:ext cx="8064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ts val="1463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4000" y="2060640"/>
            <a:ext cx="5111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6"/>
          <a:stretch/>
        </p:blipFill>
        <p:spPr>
          <a:xfrm>
            <a:off x="395280" y="0"/>
            <a:ext cx="647640" cy="64944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7236000" y="0"/>
            <a:ext cx="1692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 О Н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556000" y="1268280"/>
            <a:ext cx="3384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Шоу Опры Уинф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0920" y="3684600"/>
            <a:ext cx="4752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26920" y="1989000"/>
            <a:ext cx="5616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The Oprah Winfrey Show” появилось у 1986 году, став спустя год самой рейтинговой дневной телепрограммой в Америке. Всякий раз шоу Опры Уинфри смотрят больше семи миллионов телезрителей. Кроме США, программа выходит еще в 111 странах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Согласно результатам интерактивного опроса, Опра Уинфри уже четвертый раз в последние шесть лет возглавила список самых любимых персон американского телевидения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Успех шоу Опры Уинфри также отмечен многими престижными наградами в области телевещания, в частности 35 Emmy Award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The Oprah Winfrey Show” – это друг и психоаналитик миллионов зрителей всего мира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Время эфира: по будням в 21:15 , повтор в 16:50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оизводство: СШ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7093080" y="1125360"/>
            <a:ext cx="1657080" cy="4681440"/>
            <a:chOff x="7093080" y="1125360"/>
            <a:chExt cx="1657080" cy="4681440"/>
          </a:xfrm>
        </p:grpSpPr>
        <p:pic>
          <p:nvPicPr>
            <p:cNvPr id="794" name="" descr=""/>
            <p:cNvPicPr/>
            <p:nvPr/>
          </p:nvPicPr>
          <p:blipFill>
            <a:blip r:embed="rId7"/>
            <a:stretch/>
          </p:blipFill>
          <p:spPr>
            <a:xfrm>
              <a:off x="7093080" y="2146680"/>
              <a:ext cx="165708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" descr=""/>
            <p:cNvPicPr/>
            <p:nvPr/>
          </p:nvPicPr>
          <p:blipFill>
            <a:blip r:embed="rId8"/>
            <a:stretch/>
          </p:blipFill>
          <p:spPr>
            <a:xfrm>
              <a:off x="7093080" y="3267360"/>
              <a:ext cx="1657080" cy="121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" descr=""/>
            <p:cNvPicPr/>
            <p:nvPr/>
          </p:nvPicPr>
          <p:blipFill>
            <a:blip r:embed="rId9"/>
            <a:stretch/>
          </p:blipFill>
          <p:spPr>
            <a:xfrm>
              <a:off x="7093080" y="4589640"/>
              <a:ext cx="1657080" cy="121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10"/>
            <a:srcRect l="0" t="0" r="0" b="13283"/>
            <a:stretch/>
          </p:blipFill>
          <p:spPr>
            <a:xfrm>
              <a:off x="7093080" y="1125360"/>
              <a:ext cx="165564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60480" y="0"/>
            <a:ext cx="908496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10800000">
            <a:off x="3240" y="5736960"/>
            <a:ext cx="9215280" cy="1123920"/>
          </a:xfrm>
          <a:prstGeom prst="roundRect">
            <a:avLst>
              <a:gd name="adj" fmla="val 13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95640" y="5229360"/>
            <a:ext cx="46818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55640" y="2214360"/>
            <a:ext cx="7642080" cy="27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9000"/>
              </a:lnSpc>
              <a:buClr>
                <a:srgbClr val="333333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Tahoma"/>
              </a:rPr>
              <a:t>Общий объем вещания – 24 часа в сутки в эфи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79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9000"/>
              </a:lnSpc>
              <a:spcBef>
                <a:spcPts val="349"/>
              </a:spcBef>
              <a:buClr>
                <a:srgbClr val="333333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Tahoma"/>
              </a:rPr>
              <a:t>ТОНИС отмечен Почетной Международной наградой </a:t>
            </a:r>
            <a:r>
              <a:rPr b="1" i="1" lang="en-GB" sz="1400" spc="-1" strike="noStrike">
                <a:solidFill>
                  <a:srgbClr val="333333"/>
                </a:solidFill>
                <a:latin typeface="Tahoma"/>
              </a:rPr>
              <a:t>International Gold Medal Award</a:t>
            </a:r>
            <a:r>
              <a:rPr b="0" lang="en-GB" sz="1400" spc="-1" strike="noStrike">
                <a:solidFill>
                  <a:srgbClr val="333333"/>
                </a:solidFill>
                <a:latin typeface="Tahoma"/>
              </a:rPr>
              <a:t> 2003 года за качество и эффектив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79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9000"/>
              </a:lnSpc>
              <a:spcBef>
                <a:spcPts val="349"/>
              </a:spcBef>
              <a:buClr>
                <a:srgbClr val="333333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Tahoma"/>
              </a:rPr>
              <a:t>Потенциальная аудитория – 18 миллионов в 230 населенных пунктах Украи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79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9000"/>
              </a:lnSpc>
              <a:buClr>
                <a:srgbClr val="333333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ahoma"/>
              </a:rPr>
              <a:t>Лицензия</a:t>
            </a:r>
            <a:r>
              <a:rPr b="0" lang="en-GB" sz="1400" spc="-1" strike="noStrike">
                <a:solidFill>
                  <a:srgbClr val="333333"/>
                </a:solidFill>
                <a:latin typeface="Tahoma"/>
              </a:rPr>
              <a:t> Национального Совета Украины </a:t>
            </a:r>
            <a:r>
              <a:rPr b="0" lang="ru-RU" sz="1400" spc="-1" strike="noStrike">
                <a:solidFill>
                  <a:srgbClr val="333333"/>
                </a:solidFill>
                <a:latin typeface="Tahoma"/>
              </a:rPr>
              <a:t>по вопросам телевидения и радиовещания</a:t>
            </a:r>
            <a:r>
              <a:rPr b="0" lang="en-GB" sz="1400" spc="-1" strike="noStrike">
                <a:solidFill>
                  <a:srgbClr val="333333"/>
                </a:solidFill>
                <a:latin typeface="Tahoma"/>
              </a:rPr>
              <a:t> HP №</a:t>
            </a:r>
            <a:r>
              <a:rPr b="0" lang="ru-RU" sz="1400" spc="-1" strike="noStrike">
                <a:solidFill>
                  <a:srgbClr val="333333"/>
                </a:solidFill>
                <a:latin typeface="Tahoma"/>
              </a:rPr>
              <a:t>26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79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9000"/>
              </a:lnSpc>
              <a:spcBef>
                <a:spcPts val="349"/>
              </a:spcBef>
              <a:buClr>
                <a:srgbClr val="333333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Tahoma"/>
              </a:rPr>
              <a:t>Спутник: AMOS 2, орбитальная позиция - 4</a:t>
            </a:r>
            <a:r>
              <a:rPr b="0" lang="en-GB" sz="1400" spc="-1" strike="noStrike">
                <a:solidFill>
                  <a:srgbClr val="333333"/>
                </a:solidFill>
                <a:latin typeface="Symbol"/>
                <a:ea typeface="Symbol"/>
              </a:rPr>
              <a:t></a:t>
            </a:r>
            <a:r>
              <a:rPr b="0" lang="en-GB" sz="1400" spc="-1" strike="noStrike">
                <a:solidFill>
                  <a:srgbClr val="333333"/>
                </a:solidFill>
                <a:latin typeface="Tahoma"/>
              </a:rPr>
              <a:t>W, частота – 10 759 MHz, поляризация – горизонтальная, коррекция ошибок 3/4, символьная скорость 30 000 Мс/се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324000" y="1531800"/>
            <a:ext cx="3879720" cy="383400"/>
            <a:chOff x="324000" y="1531800"/>
            <a:chExt cx="3879720" cy="383400"/>
          </a:xfrm>
        </p:grpSpPr>
        <p:sp>
          <p:nvSpPr>
            <p:cNvPr id="62" name=""/>
            <p:cNvSpPr/>
            <p:nvPr/>
          </p:nvSpPr>
          <p:spPr>
            <a:xfrm>
              <a:off x="324000" y="1531800"/>
              <a:ext cx="387972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24000" y="1531800"/>
              <a:ext cx="3873600" cy="383400"/>
              <a:chOff x="324000" y="1531800"/>
              <a:chExt cx="3873600" cy="383400"/>
            </a:xfrm>
          </p:grpSpPr>
          <p:sp>
            <p:nvSpPr>
              <p:cNvPr id="64" name=""/>
              <p:cNvSpPr/>
              <p:nvPr/>
            </p:nvSpPr>
            <p:spPr>
              <a:xfrm>
                <a:off x="324000" y="1531800"/>
                <a:ext cx="3873600" cy="36972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324000" y="1531800"/>
                <a:ext cx="3868920" cy="383400"/>
                <a:chOff x="324000" y="1531800"/>
                <a:chExt cx="3868920" cy="3834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24000" y="1531800"/>
                  <a:ext cx="3868920" cy="366480"/>
                </a:xfrm>
                <a:prstGeom prst="roundRect">
                  <a:avLst>
                    <a:gd name="adj" fmla="val 42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" name=""/>
                <p:cNvGrpSpPr/>
                <p:nvPr/>
              </p:nvGrpSpPr>
              <p:grpSpPr>
                <a:xfrm>
                  <a:off x="324000" y="1531800"/>
                  <a:ext cx="3865680" cy="383400"/>
                  <a:chOff x="324000" y="1531800"/>
                  <a:chExt cx="3865680" cy="3834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324000" y="1531800"/>
                    <a:ext cx="3865680" cy="36324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" name=""/>
                  <p:cNvGrpSpPr/>
                  <p:nvPr/>
                </p:nvGrpSpPr>
                <p:grpSpPr>
                  <a:xfrm>
                    <a:off x="324000" y="1531800"/>
                    <a:ext cx="3863880" cy="383400"/>
                    <a:chOff x="324000" y="1531800"/>
                    <a:chExt cx="3863880" cy="383400"/>
                  </a:xfrm>
                </p:grpSpPr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324000" y="1531800"/>
                      <a:ext cx="3863880" cy="36144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484920" y="1531800"/>
                      <a:ext cx="354024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 телеканале ТОН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2" name=""/>
          <p:cNvSpPr/>
          <p:nvPr/>
        </p:nvSpPr>
        <p:spPr>
          <a:xfrm>
            <a:off x="4500720" y="5445000"/>
            <a:ext cx="46432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-9360" y="5734080"/>
            <a:ext cx="9162720" cy="144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155000" y="115920"/>
            <a:ext cx="1660320" cy="482040"/>
            <a:chOff x="7155000" y="115920"/>
            <a:chExt cx="1660320" cy="482040"/>
          </a:xfrm>
        </p:grpSpPr>
        <p:sp>
          <p:nvSpPr>
            <p:cNvPr id="75" name=""/>
            <p:cNvSpPr/>
            <p:nvPr/>
          </p:nvSpPr>
          <p:spPr>
            <a:xfrm>
              <a:off x="7155000" y="115920"/>
              <a:ext cx="1660320" cy="4665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7155000" y="115920"/>
              <a:ext cx="1655640" cy="482040"/>
              <a:chOff x="7155000" y="115920"/>
              <a:chExt cx="1655640" cy="482040"/>
            </a:xfrm>
          </p:grpSpPr>
          <p:sp>
            <p:nvSpPr>
              <p:cNvPr id="77" name=""/>
              <p:cNvSpPr/>
              <p:nvPr/>
            </p:nvSpPr>
            <p:spPr>
              <a:xfrm>
                <a:off x="7155000" y="115920"/>
                <a:ext cx="1655640" cy="46188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7155000" y="115920"/>
                <a:ext cx="1652400" cy="482040"/>
                <a:chOff x="7155000" y="115920"/>
                <a:chExt cx="1652400" cy="4820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7155000" y="115920"/>
                  <a:ext cx="1652400" cy="45864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155000" y="115920"/>
                  <a:ext cx="1650960" cy="482040"/>
                  <a:chOff x="7155000" y="115920"/>
                  <a:chExt cx="1650960" cy="48204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7155000" y="115920"/>
                    <a:ext cx="1650960" cy="45720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2" name=""/>
                  <p:cNvGrpSpPr/>
                  <p:nvPr/>
                </p:nvGrpSpPr>
                <p:grpSpPr>
                  <a:xfrm>
                    <a:off x="7155000" y="115920"/>
                    <a:ext cx="1650960" cy="482040"/>
                    <a:chOff x="7155000" y="115920"/>
                    <a:chExt cx="1650960" cy="48204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7155000" y="115920"/>
                      <a:ext cx="1650960" cy="4572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7182360" y="115920"/>
                      <a:ext cx="159588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 О Н И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85" name=""/>
          <p:cNvSpPr/>
          <p:nvPr/>
        </p:nvSpPr>
        <p:spPr>
          <a:xfrm>
            <a:off x="7164360" y="44460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956720" y="6021360"/>
            <a:ext cx="485640" cy="493920"/>
            <a:chOff x="7956720" y="6021360"/>
            <a:chExt cx="485640" cy="493920"/>
          </a:xfrm>
        </p:grpSpPr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7956720" y="6021360"/>
              <a:ext cx="4856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956720" y="6021360"/>
              <a:ext cx="485640" cy="493920"/>
            </a:xfrm>
            <a:custGeom>
              <a:avLst/>
              <a:gdLst>
                <a:gd name="textAreaLeft" fmla="*/ 360 w 485640"/>
                <a:gd name="textAreaRight" fmla="*/ 485280 w 485640"/>
                <a:gd name="textAreaTop" fmla="*/ 360 h 493920"/>
                <a:gd name="textAreaBottom" fmla="*/ 493560 h 493920"/>
              </a:gdLst>
              <a:ahLst/>
              <a:rect l="textAreaLeft" t="textAreaTop" r="textAreaRight" b="textAreaBottom"/>
              <a:pathLst>
                <a:path w="21600" h="21968">
                  <a:moveTo>
                    <a:pt x="70" y="0"/>
                  </a:moveTo>
                  <a:arcTo wR="70" hR="70" stAng="16200000" swAng="-5400000"/>
                  <a:lnTo>
                    <a:pt x="0" y="21898"/>
                  </a:lnTo>
                  <a:arcTo wR="70" hR="70" stAng="10800000" swAng="-5400000"/>
                  <a:lnTo>
                    <a:pt x="21530" y="21968"/>
                  </a:lnTo>
                  <a:arcTo wR="70" hR="70" stAng="5400000" swAng="-5400000"/>
                  <a:lnTo>
                    <a:pt x="21600" y="70"/>
                  </a:lnTo>
                  <a:arcTo wR="70" hR="7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 flipH="1">
            <a:off x="-9360" y="907920"/>
            <a:ext cx="9162720" cy="180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164360" y="6021360"/>
            <a:ext cx="485640" cy="493920"/>
            <a:chOff x="7164360" y="6021360"/>
            <a:chExt cx="485640" cy="493920"/>
          </a:xfrm>
        </p:grpSpPr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7164360" y="6021360"/>
              <a:ext cx="4856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164360" y="6021360"/>
              <a:ext cx="485640" cy="493920"/>
            </a:xfrm>
            <a:custGeom>
              <a:avLst/>
              <a:gdLst>
                <a:gd name="textAreaLeft" fmla="*/ 360 w 485640"/>
                <a:gd name="textAreaRight" fmla="*/ 485280 w 485640"/>
                <a:gd name="textAreaTop" fmla="*/ 360 h 493920"/>
                <a:gd name="textAreaBottom" fmla="*/ 493560 h 493920"/>
              </a:gdLst>
              <a:ahLst/>
              <a:rect l="textAreaLeft" t="textAreaTop" r="textAreaRight" b="textAreaBottom"/>
              <a:pathLst>
                <a:path w="21600" h="21968">
                  <a:moveTo>
                    <a:pt x="70" y="0"/>
                  </a:moveTo>
                  <a:arcTo wR="70" hR="70" stAng="16200000" swAng="-5400000"/>
                  <a:lnTo>
                    <a:pt x="0" y="21898"/>
                  </a:lnTo>
                  <a:arcTo wR="70" hR="70" stAng="10800000" swAng="-5400000"/>
                  <a:lnTo>
                    <a:pt x="21530" y="21968"/>
                  </a:lnTo>
                  <a:arcTo wR="70" hR="70" stAng="5400000" swAng="-5400000"/>
                  <a:lnTo>
                    <a:pt x="21600" y="70"/>
                  </a:lnTo>
                  <a:arcTo wR="70" hR="7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 rot="10800000">
            <a:off x="0" y="6175440"/>
            <a:ext cx="9144000" cy="691920"/>
          </a:xfrm>
          <a:prstGeom prst="roundRect">
            <a:avLst>
              <a:gd name="adj" fmla="val 2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067280" y="5661000"/>
            <a:ext cx="4678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364000" y="5877000"/>
            <a:ext cx="3383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-9360" y="6165720"/>
            <a:ext cx="9162720" cy="180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8099280" y="6308640"/>
            <a:ext cx="343080" cy="349200"/>
            <a:chOff x="8099280" y="6308640"/>
            <a:chExt cx="343080" cy="349200"/>
          </a:xfrm>
        </p:grpSpPr>
        <p:pic>
          <p:nvPicPr>
            <p:cNvPr id="804" name="" descr=""/>
            <p:cNvPicPr/>
            <p:nvPr/>
          </p:nvPicPr>
          <p:blipFill>
            <a:blip r:embed="rId2"/>
            <a:stretch/>
          </p:blipFill>
          <p:spPr>
            <a:xfrm>
              <a:off x="809928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809928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7524720" y="6308640"/>
            <a:ext cx="343080" cy="349200"/>
            <a:chOff x="7524720" y="6308640"/>
            <a:chExt cx="343080" cy="349200"/>
          </a:xfrm>
        </p:grpSpPr>
        <p:pic>
          <p:nvPicPr>
            <p:cNvPr id="807" name="" descr=""/>
            <p:cNvPicPr/>
            <p:nvPr/>
          </p:nvPicPr>
          <p:blipFill>
            <a:blip r:embed="rId3"/>
            <a:stretch/>
          </p:blipFill>
          <p:spPr>
            <a:xfrm>
              <a:off x="752472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752472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7137000" y="115920"/>
            <a:ext cx="1679400" cy="482040"/>
            <a:chOff x="7137000" y="115920"/>
            <a:chExt cx="1679400" cy="482040"/>
          </a:xfrm>
        </p:grpSpPr>
        <p:sp>
          <p:nvSpPr>
            <p:cNvPr id="810" name=""/>
            <p:cNvSpPr/>
            <p:nvPr/>
          </p:nvSpPr>
          <p:spPr>
            <a:xfrm>
              <a:off x="7155000" y="115920"/>
              <a:ext cx="1658880" cy="46512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7137000" y="115920"/>
              <a:ext cx="1679400" cy="482040"/>
              <a:chOff x="7137000" y="115920"/>
              <a:chExt cx="1679400" cy="482040"/>
            </a:xfrm>
          </p:grpSpPr>
          <p:sp>
            <p:nvSpPr>
              <p:cNvPr id="812" name=""/>
              <p:cNvSpPr/>
              <p:nvPr/>
            </p:nvSpPr>
            <p:spPr>
              <a:xfrm>
                <a:off x="7155000" y="115920"/>
                <a:ext cx="1652760" cy="4590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3" name=""/>
              <p:cNvGrpSpPr/>
              <p:nvPr/>
            </p:nvGrpSpPr>
            <p:grpSpPr>
              <a:xfrm>
                <a:off x="7137000" y="115920"/>
                <a:ext cx="1679400" cy="482040"/>
                <a:chOff x="7137000" y="115920"/>
                <a:chExt cx="1679400" cy="48204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7155000" y="115920"/>
                  <a:ext cx="1648080" cy="45432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5" name=""/>
                <p:cNvGrpSpPr/>
                <p:nvPr/>
              </p:nvGrpSpPr>
              <p:grpSpPr>
                <a:xfrm>
                  <a:off x="7137000" y="115920"/>
                  <a:ext cx="1679400" cy="482040"/>
                  <a:chOff x="7137000" y="115920"/>
                  <a:chExt cx="1679400" cy="48204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>
                    <a:off x="7155000" y="115920"/>
                    <a:ext cx="1644840" cy="45144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7137000" y="115920"/>
                    <a:ext cx="1679400" cy="482040"/>
                    <a:chOff x="7137000" y="115920"/>
                    <a:chExt cx="1679400" cy="48204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>
                      <a:off x="7155000" y="115920"/>
                      <a:ext cx="1643040" cy="4500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7137000" y="115920"/>
                      <a:ext cx="167940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 О Н И 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820" name=""/>
          <p:cNvSpPr/>
          <p:nvPr/>
        </p:nvSpPr>
        <p:spPr>
          <a:xfrm>
            <a:off x="7164360" y="47628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т  е  л  е  к  а  н  а  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4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822" name=""/>
          <p:cNvGrpSpPr/>
          <p:nvPr/>
        </p:nvGrpSpPr>
        <p:grpSpPr>
          <a:xfrm>
            <a:off x="250920" y="907920"/>
            <a:ext cx="2222280" cy="383400"/>
            <a:chOff x="250920" y="907920"/>
            <a:chExt cx="2222280" cy="383400"/>
          </a:xfrm>
        </p:grpSpPr>
        <p:sp>
          <p:nvSpPr>
            <p:cNvPr id="823" name=""/>
            <p:cNvSpPr/>
            <p:nvPr/>
          </p:nvSpPr>
          <p:spPr>
            <a:xfrm>
              <a:off x="250920" y="907920"/>
              <a:ext cx="222228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250920" y="907920"/>
              <a:ext cx="2215800" cy="383400"/>
              <a:chOff x="250920" y="907920"/>
              <a:chExt cx="2215800" cy="383400"/>
            </a:xfrm>
          </p:grpSpPr>
          <p:sp>
            <p:nvSpPr>
              <p:cNvPr id="825" name=""/>
              <p:cNvSpPr/>
              <p:nvPr/>
            </p:nvSpPr>
            <p:spPr>
              <a:xfrm>
                <a:off x="250920" y="907920"/>
                <a:ext cx="2215800" cy="36972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6" name=""/>
              <p:cNvGrpSpPr/>
              <p:nvPr/>
            </p:nvGrpSpPr>
            <p:grpSpPr>
              <a:xfrm>
                <a:off x="250920" y="907920"/>
                <a:ext cx="2210760" cy="383400"/>
                <a:chOff x="250920" y="907920"/>
                <a:chExt cx="2210760" cy="38340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250920" y="907920"/>
                  <a:ext cx="2210760" cy="366480"/>
                </a:xfrm>
                <a:prstGeom prst="roundRect">
                  <a:avLst>
                    <a:gd name="adj" fmla="val 42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8" name=""/>
                <p:cNvGrpSpPr/>
                <p:nvPr/>
              </p:nvGrpSpPr>
              <p:grpSpPr>
                <a:xfrm>
                  <a:off x="250920" y="907920"/>
                  <a:ext cx="2208960" cy="383400"/>
                  <a:chOff x="250920" y="907920"/>
                  <a:chExt cx="2208960" cy="38340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>
                    <a:off x="250920" y="907920"/>
                    <a:ext cx="2208960" cy="36324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30" name=""/>
                  <p:cNvGrpSpPr/>
                  <p:nvPr/>
                </p:nvGrpSpPr>
                <p:grpSpPr>
                  <a:xfrm>
                    <a:off x="250920" y="907920"/>
                    <a:ext cx="2207160" cy="383400"/>
                    <a:chOff x="250920" y="907920"/>
                    <a:chExt cx="2207160" cy="383400"/>
                  </a:xfrm>
                </p:grpSpPr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250920" y="907920"/>
                      <a:ext cx="2207160" cy="36144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308880" y="907920"/>
                      <a:ext cx="208944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833" name=""/>
          <p:cNvSpPr/>
          <p:nvPr/>
        </p:nvSpPr>
        <p:spPr>
          <a:xfrm>
            <a:off x="539640" y="1628640"/>
            <a:ext cx="8064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ts val="1463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24000" y="2060640"/>
            <a:ext cx="5111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6"/>
          <a:stretch/>
        </p:blipFill>
        <p:spPr>
          <a:xfrm>
            <a:off x="395280" y="0"/>
            <a:ext cx="647640" cy="64944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7236000" y="0"/>
            <a:ext cx="1692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 О Н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56000" y="1341360"/>
            <a:ext cx="28080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Женский взгля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68360" y="2162160"/>
            <a:ext cx="489744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ограмма “Женский взгляд” известной телеведущей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ксаны Пушкиной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глубоко проникает в сердца ее знаменитых собеседников: звезд кино, театра, известных политических деятелей. Эти люди смогли выстоять, когда было трудно, заявить о себе, завоевать любовь и уважени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аждый из рассказов – “по-женски” искренний и, как говорится, “цепляет за душу”. Программа вызвала широкой резонанса в обществе, поскольку с историй героев о себе и о своей жизни складывается картина жизни целой стран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Время эфира: по будням в 17:50, повтор в 12:00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7"/>
          <a:stretch/>
        </p:blipFill>
        <p:spPr>
          <a:xfrm>
            <a:off x="5867280" y="2421000"/>
            <a:ext cx="266724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 rot="10800000">
            <a:off x="0" y="6175440"/>
            <a:ext cx="9144000" cy="691920"/>
          </a:xfrm>
          <a:prstGeom prst="roundRect">
            <a:avLst>
              <a:gd name="adj" fmla="val 2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067280" y="5661000"/>
            <a:ext cx="4678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364000" y="5877000"/>
            <a:ext cx="3383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-9360" y="6165720"/>
            <a:ext cx="9162720" cy="180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8099280" y="6308640"/>
            <a:ext cx="343080" cy="349200"/>
            <a:chOff x="8099280" y="6308640"/>
            <a:chExt cx="343080" cy="349200"/>
          </a:xfrm>
        </p:grpSpPr>
        <p:pic>
          <p:nvPicPr>
            <p:cNvPr id="847" name="" descr=""/>
            <p:cNvPicPr/>
            <p:nvPr/>
          </p:nvPicPr>
          <p:blipFill>
            <a:blip r:embed="rId2"/>
            <a:stretch/>
          </p:blipFill>
          <p:spPr>
            <a:xfrm>
              <a:off x="809928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809928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7524720" y="6308640"/>
            <a:ext cx="343080" cy="349200"/>
            <a:chOff x="7524720" y="6308640"/>
            <a:chExt cx="343080" cy="349200"/>
          </a:xfrm>
        </p:grpSpPr>
        <p:pic>
          <p:nvPicPr>
            <p:cNvPr id="850" name="" descr=""/>
            <p:cNvPicPr/>
            <p:nvPr/>
          </p:nvPicPr>
          <p:blipFill>
            <a:blip r:embed="rId3"/>
            <a:stretch/>
          </p:blipFill>
          <p:spPr>
            <a:xfrm>
              <a:off x="752472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752472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7137000" y="115920"/>
            <a:ext cx="1679400" cy="482040"/>
            <a:chOff x="7137000" y="115920"/>
            <a:chExt cx="1679400" cy="482040"/>
          </a:xfrm>
        </p:grpSpPr>
        <p:sp>
          <p:nvSpPr>
            <p:cNvPr id="853" name=""/>
            <p:cNvSpPr/>
            <p:nvPr/>
          </p:nvSpPr>
          <p:spPr>
            <a:xfrm>
              <a:off x="7155000" y="115920"/>
              <a:ext cx="1658880" cy="46512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7137000" y="115920"/>
              <a:ext cx="1679400" cy="482040"/>
              <a:chOff x="7137000" y="115920"/>
              <a:chExt cx="1679400" cy="482040"/>
            </a:xfrm>
          </p:grpSpPr>
          <p:sp>
            <p:nvSpPr>
              <p:cNvPr id="855" name=""/>
              <p:cNvSpPr/>
              <p:nvPr/>
            </p:nvSpPr>
            <p:spPr>
              <a:xfrm>
                <a:off x="7155000" y="115920"/>
                <a:ext cx="1652760" cy="4590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6" name=""/>
              <p:cNvGrpSpPr/>
              <p:nvPr/>
            </p:nvGrpSpPr>
            <p:grpSpPr>
              <a:xfrm>
                <a:off x="7137000" y="115920"/>
                <a:ext cx="1679400" cy="482040"/>
                <a:chOff x="7137000" y="115920"/>
                <a:chExt cx="1679400" cy="48204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7155000" y="115920"/>
                  <a:ext cx="1648080" cy="45432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8" name=""/>
                <p:cNvGrpSpPr/>
                <p:nvPr/>
              </p:nvGrpSpPr>
              <p:grpSpPr>
                <a:xfrm>
                  <a:off x="7137000" y="115920"/>
                  <a:ext cx="1679400" cy="482040"/>
                  <a:chOff x="7137000" y="115920"/>
                  <a:chExt cx="1679400" cy="48204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>
                    <a:off x="7155000" y="115920"/>
                    <a:ext cx="1644840" cy="45144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0" name=""/>
                  <p:cNvGrpSpPr/>
                  <p:nvPr/>
                </p:nvGrpSpPr>
                <p:grpSpPr>
                  <a:xfrm>
                    <a:off x="7137000" y="115920"/>
                    <a:ext cx="1679400" cy="482040"/>
                    <a:chOff x="7137000" y="115920"/>
                    <a:chExt cx="1679400" cy="482040"/>
                  </a:xfrm>
                </p:grpSpPr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7155000" y="115920"/>
                      <a:ext cx="1643040" cy="4500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7137000" y="115920"/>
                      <a:ext cx="167940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 О Н И 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863" name=""/>
          <p:cNvSpPr/>
          <p:nvPr/>
        </p:nvSpPr>
        <p:spPr>
          <a:xfrm>
            <a:off x="7164360" y="47628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т  е  л  е  к  а  н  а  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4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865" name=""/>
          <p:cNvGrpSpPr/>
          <p:nvPr/>
        </p:nvGrpSpPr>
        <p:grpSpPr>
          <a:xfrm>
            <a:off x="250920" y="907920"/>
            <a:ext cx="2222280" cy="383400"/>
            <a:chOff x="250920" y="907920"/>
            <a:chExt cx="2222280" cy="383400"/>
          </a:xfrm>
        </p:grpSpPr>
        <p:sp>
          <p:nvSpPr>
            <p:cNvPr id="866" name=""/>
            <p:cNvSpPr/>
            <p:nvPr/>
          </p:nvSpPr>
          <p:spPr>
            <a:xfrm>
              <a:off x="250920" y="907920"/>
              <a:ext cx="222228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250920" y="907920"/>
              <a:ext cx="2215800" cy="383400"/>
              <a:chOff x="250920" y="907920"/>
              <a:chExt cx="2215800" cy="383400"/>
            </a:xfrm>
          </p:grpSpPr>
          <p:sp>
            <p:nvSpPr>
              <p:cNvPr id="868" name=""/>
              <p:cNvSpPr/>
              <p:nvPr/>
            </p:nvSpPr>
            <p:spPr>
              <a:xfrm>
                <a:off x="250920" y="907920"/>
                <a:ext cx="2215800" cy="36972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9" name=""/>
              <p:cNvGrpSpPr/>
              <p:nvPr/>
            </p:nvGrpSpPr>
            <p:grpSpPr>
              <a:xfrm>
                <a:off x="250920" y="907920"/>
                <a:ext cx="2210760" cy="383400"/>
                <a:chOff x="250920" y="907920"/>
                <a:chExt cx="2210760" cy="38340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250920" y="907920"/>
                  <a:ext cx="2210760" cy="366480"/>
                </a:xfrm>
                <a:prstGeom prst="roundRect">
                  <a:avLst>
                    <a:gd name="adj" fmla="val 42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1" name=""/>
                <p:cNvGrpSpPr/>
                <p:nvPr/>
              </p:nvGrpSpPr>
              <p:grpSpPr>
                <a:xfrm>
                  <a:off x="250920" y="907920"/>
                  <a:ext cx="2208960" cy="383400"/>
                  <a:chOff x="250920" y="907920"/>
                  <a:chExt cx="2208960" cy="38340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250920" y="907920"/>
                    <a:ext cx="2208960" cy="36324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73" name=""/>
                  <p:cNvGrpSpPr/>
                  <p:nvPr/>
                </p:nvGrpSpPr>
                <p:grpSpPr>
                  <a:xfrm>
                    <a:off x="250920" y="907920"/>
                    <a:ext cx="2207160" cy="383400"/>
                    <a:chOff x="250920" y="907920"/>
                    <a:chExt cx="2207160" cy="383400"/>
                  </a:xfrm>
                </p:grpSpPr>
                <p:sp>
                  <p:nvSpPr>
                    <p:cNvPr id="874" name=""/>
                    <p:cNvSpPr/>
                    <p:nvPr/>
                  </p:nvSpPr>
                  <p:spPr>
                    <a:xfrm>
                      <a:off x="250920" y="907920"/>
                      <a:ext cx="2207160" cy="36144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" name=""/>
                    <p:cNvSpPr/>
                    <p:nvPr/>
                  </p:nvSpPr>
                  <p:spPr>
                    <a:xfrm>
                      <a:off x="308880" y="907920"/>
                      <a:ext cx="208944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876" name=""/>
          <p:cNvSpPr/>
          <p:nvPr/>
        </p:nvSpPr>
        <p:spPr>
          <a:xfrm>
            <a:off x="539640" y="1628640"/>
            <a:ext cx="8064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ts val="1463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24000" y="2060640"/>
            <a:ext cx="5111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6"/>
          <a:stretch/>
        </p:blipFill>
        <p:spPr>
          <a:xfrm>
            <a:off x="395280" y="0"/>
            <a:ext cx="647640" cy="6494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7236000" y="0"/>
            <a:ext cx="1692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 О Н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556000" y="1341360"/>
            <a:ext cx="2376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ве прав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95280" y="1661760"/>
            <a:ext cx="489744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На психологическом ток-шоу 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«Две правды» с Татьяной Догилевой</a:t>
            </a:r>
            <a:r>
              <a:rPr b="1" i="1" lang="ru-RU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бсуждаются наиболее острые личностные, семейные и возникающие в коллективах проблемы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ahoma"/>
              </a:rPr>
              <a:t>«Две правд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ы</a:t>
            </a:r>
            <a:r>
              <a:rPr b="0" lang="uk-UA" sz="1300" spc="-1" strike="noStrike">
                <a:solidFill>
                  <a:srgbClr val="000000"/>
                </a:solidFill>
                <a:latin typeface="Tahoma"/>
              </a:rPr>
              <a:t>» 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— по сути  своеобразная телевизионная психотерапевтическая консультация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Конфликты в семье — с супругом или супругой, детьми, ближайшими родственниками, родителями второй половины; проблемы на работе — с начальником, коллегами или деловыми партнерами; бытовые и социальные проблемы — в сфере обслуживания, области коммуникаций, воспитательных и образовательных учреждениях</a:t>
            </a:r>
            <a:r>
              <a:rPr b="0" lang="uk-UA" sz="13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 — ничто не может ускользнуть от внимания ведущей программы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 студии, помимо ведущей и зрителей, присутствуют два психотерапевта. Таким образом, зрители смогут услышать две различные точки зрения на конфликт, получить разные сценарии его развития, а также советы и рекомендации для каждой конфликтующей стороны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Время эфира: по будням в 14:00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оизводство: НТВ (Россия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7"/>
          <a:stretch/>
        </p:blipFill>
        <p:spPr>
          <a:xfrm>
            <a:off x="5361120" y="2349360"/>
            <a:ext cx="364176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 rot="10800000">
            <a:off x="0" y="6175440"/>
            <a:ext cx="9144000" cy="691920"/>
          </a:xfrm>
          <a:prstGeom prst="roundRect">
            <a:avLst>
              <a:gd name="adj" fmla="val 2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067280" y="5661000"/>
            <a:ext cx="4678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364000" y="5877000"/>
            <a:ext cx="3383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-9360" y="6165720"/>
            <a:ext cx="9162720" cy="180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8099280" y="6308640"/>
            <a:ext cx="343080" cy="349200"/>
            <a:chOff x="8099280" y="6308640"/>
            <a:chExt cx="343080" cy="349200"/>
          </a:xfrm>
        </p:grpSpPr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809928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809928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524720" y="6308640"/>
            <a:ext cx="343080" cy="349200"/>
            <a:chOff x="7524720" y="6308640"/>
            <a:chExt cx="343080" cy="349200"/>
          </a:xfrm>
        </p:grpSpPr>
        <p:pic>
          <p:nvPicPr>
            <p:cNvPr id="893" name="" descr=""/>
            <p:cNvPicPr/>
            <p:nvPr/>
          </p:nvPicPr>
          <p:blipFill>
            <a:blip r:embed="rId3"/>
            <a:stretch/>
          </p:blipFill>
          <p:spPr>
            <a:xfrm>
              <a:off x="752472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>
              <a:off x="752472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7137000" y="115920"/>
            <a:ext cx="1679400" cy="482040"/>
            <a:chOff x="7137000" y="115920"/>
            <a:chExt cx="1679400" cy="482040"/>
          </a:xfrm>
        </p:grpSpPr>
        <p:sp>
          <p:nvSpPr>
            <p:cNvPr id="896" name=""/>
            <p:cNvSpPr/>
            <p:nvPr/>
          </p:nvSpPr>
          <p:spPr>
            <a:xfrm>
              <a:off x="7155000" y="115920"/>
              <a:ext cx="1658880" cy="46512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7137000" y="115920"/>
              <a:ext cx="1679400" cy="482040"/>
              <a:chOff x="7137000" y="115920"/>
              <a:chExt cx="1679400" cy="482040"/>
            </a:xfrm>
          </p:grpSpPr>
          <p:sp>
            <p:nvSpPr>
              <p:cNvPr id="898" name=""/>
              <p:cNvSpPr/>
              <p:nvPr/>
            </p:nvSpPr>
            <p:spPr>
              <a:xfrm>
                <a:off x="7155000" y="115920"/>
                <a:ext cx="1652760" cy="4590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9" name=""/>
              <p:cNvGrpSpPr/>
              <p:nvPr/>
            </p:nvGrpSpPr>
            <p:grpSpPr>
              <a:xfrm>
                <a:off x="7137000" y="115920"/>
                <a:ext cx="1679400" cy="482040"/>
                <a:chOff x="7137000" y="115920"/>
                <a:chExt cx="1679400" cy="482040"/>
              </a:xfrm>
            </p:grpSpPr>
            <p:sp>
              <p:nvSpPr>
                <p:cNvPr id="900" name=""/>
                <p:cNvSpPr/>
                <p:nvPr/>
              </p:nvSpPr>
              <p:spPr>
                <a:xfrm>
                  <a:off x="7155000" y="115920"/>
                  <a:ext cx="1648080" cy="45432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1" name=""/>
                <p:cNvGrpSpPr/>
                <p:nvPr/>
              </p:nvGrpSpPr>
              <p:grpSpPr>
                <a:xfrm>
                  <a:off x="7137000" y="115920"/>
                  <a:ext cx="1679400" cy="482040"/>
                  <a:chOff x="7137000" y="115920"/>
                  <a:chExt cx="1679400" cy="48204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>
                    <a:off x="7155000" y="115920"/>
                    <a:ext cx="1644840" cy="45144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03" name=""/>
                  <p:cNvGrpSpPr/>
                  <p:nvPr/>
                </p:nvGrpSpPr>
                <p:grpSpPr>
                  <a:xfrm>
                    <a:off x="7137000" y="115920"/>
                    <a:ext cx="1679400" cy="482040"/>
                    <a:chOff x="7137000" y="115920"/>
                    <a:chExt cx="1679400" cy="482040"/>
                  </a:xfrm>
                </p:grpSpPr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7155000" y="115920"/>
                      <a:ext cx="1643040" cy="4500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7137000" y="115920"/>
                      <a:ext cx="167940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 О Н И 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906" name=""/>
          <p:cNvSpPr/>
          <p:nvPr/>
        </p:nvSpPr>
        <p:spPr>
          <a:xfrm>
            <a:off x="7164360" y="47628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т  е  л  е  к  а  н  а  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908" name=""/>
          <p:cNvGrpSpPr/>
          <p:nvPr/>
        </p:nvGrpSpPr>
        <p:grpSpPr>
          <a:xfrm>
            <a:off x="250920" y="907920"/>
            <a:ext cx="2222280" cy="383400"/>
            <a:chOff x="250920" y="907920"/>
            <a:chExt cx="2222280" cy="383400"/>
          </a:xfrm>
        </p:grpSpPr>
        <p:sp>
          <p:nvSpPr>
            <p:cNvPr id="909" name=""/>
            <p:cNvSpPr/>
            <p:nvPr/>
          </p:nvSpPr>
          <p:spPr>
            <a:xfrm>
              <a:off x="250920" y="907920"/>
              <a:ext cx="222228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250920" y="907920"/>
              <a:ext cx="2215800" cy="383400"/>
              <a:chOff x="250920" y="907920"/>
              <a:chExt cx="2215800" cy="383400"/>
            </a:xfrm>
          </p:grpSpPr>
          <p:sp>
            <p:nvSpPr>
              <p:cNvPr id="911" name=""/>
              <p:cNvSpPr/>
              <p:nvPr/>
            </p:nvSpPr>
            <p:spPr>
              <a:xfrm>
                <a:off x="250920" y="907920"/>
                <a:ext cx="2215800" cy="36972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2" name=""/>
              <p:cNvGrpSpPr/>
              <p:nvPr/>
            </p:nvGrpSpPr>
            <p:grpSpPr>
              <a:xfrm>
                <a:off x="250920" y="907920"/>
                <a:ext cx="2210760" cy="383400"/>
                <a:chOff x="250920" y="907920"/>
                <a:chExt cx="2210760" cy="38340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250920" y="907920"/>
                  <a:ext cx="2210760" cy="366480"/>
                </a:xfrm>
                <a:prstGeom prst="roundRect">
                  <a:avLst>
                    <a:gd name="adj" fmla="val 42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4" name=""/>
                <p:cNvGrpSpPr/>
                <p:nvPr/>
              </p:nvGrpSpPr>
              <p:grpSpPr>
                <a:xfrm>
                  <a:off x="250920" y="907920"/>
                  <a:ext cx="2208960" cy="383400"/>
                  <a:chOff x="250920" y="907920"/>
                  <a:chExt cx="2208960" cy="38340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>
                    <a:off x="250920" y="907920"/>
                    <a:ext cx="2208960" cy="36324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16" name=""/>
                  <p:cNvGrpSpPr/>
                  <p:nvPr/>
                </p:nvGrpSpPr>
                <p:grpSpPr>
                  <a:xfrm>
                    <a:off x="250920" y="907920"/>
                    <a:ext cx="2207160" cy="383400"/>
                    <a:chOff x="250920" y="907920"/>
                    <a:chExt cx="2207160" cy="383400"/>
                  </a:xfrm>
                </p:grpSpPr>
                <p:sp>
                  <p:nvSpPr>
                    <p:cNvPr id="917" name=""/>
                    <p:cNvSpPr/>
                    <p:nvPr/>
                  </p:nvSpPr>
                  <p:spPr>
                    <a:xfrm>
                      <a:off x="250920" y="907920"/>
                      <a:ext cx="2207160" cy="36144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8" name=""/>
                    <p:cNvSpPr/>
                    <p:nvPr/>
                  </p:nvSpPr>
                  <p:spPr>
                    <a:xfrm>
                      <a:off x="308880" y="907920"/>
                      <a:ext cx="208944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919" name=""/>
          <p:cNvSpPr/>
          <p:nvPr/>
        </p:nvSpPr>
        <p:spPr>
          <a:xfrm>
            <a:off x="539640" y="1628640"/>
            <a:ext cx="8064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ts val="1463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24000" y="2060640"/>
            <a:ext cx="5111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6"/>
          <a:stretch/>
        </p:blipFill>
        <p:spPr>
          <a:xfrm>
            <a:off x="395280" y="0"/>
            <a:ext cx="647640" cy="64944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>
            <a:off x="7236000" y="0"/>
            <a:ext cx="1692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 О Н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56000" y="1268280"/>
            <a:ext cx="2736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Школа ремо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50920" y="1505880"/>
            <a:ext cx="4752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Готовишься справить новоселье, поздравить родителей с юбилеем, отпраздновать свадьбу или  забрать из роддома жену с ребенком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Накануне самого важного события в твоей жизни пять человек в спецовках и касках придут в твой дом - выбьют двери, снесут стены, сломают паркет и сдерут обои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72 часа они будут крушить, сверлить, стучать и клеить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ни сделают ремонт бесплатно и всего за три дня. В любой квартире. Любой семье, где ждут особых событий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Качественно, красиво, практично и просто - все, что увидишь в программе, ты сможешь сделать сам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Начинаешь новую жизнь? Хочешь сделать сюрприз родным?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Научись со "Школой ремонта" как это сделать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Время эфира: в субботу – в 14:00, в воскресенье – в 11:30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оизводство: ТНТ (Россия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7"/>
          <a:stretch/>
        </p:blipFill>
        <p:spPr>
          <a:xfrm>
            <a:off x="5364000" y="2133720"/>
            <a:ext cx="357192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grpSp>
        <p:nvGrpSpPr>
          <p:cNvPr id="929" name=""/>
          <p:cNvGrpSpPr/>
          <p:nvPr/>
        </p:nvGrpSpPr>
        <p:grpSpPr>
          <a:xfrm>
            <a:off x="7155000" y="115920"/>
            <a:ext cx="1660320" cy="482040"/>
            <a:chOff x="7155000" y="115920"/>
            <a:chExt cx="1660320" cy="482040"/>
          </a:xfrm>
        </p:grpSpPr>
        <p:sp>
          <p:nvSpPr>
            <p:cNvPr id="930" name=""/>
            <p:cNvSpPr/>
            <p:nvPr/>
          </p:nvSpPr>
          <p:spPr>
            <a:xfrm>
              <a:off x="7155000" y="115920"/>
              <a:ext cx="1660320" cy="4665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7155000" y="115920"/>
              <a:ext cx="1655640" cy="482040"/>
              <a:chOff x="7155000" y="115920"/>
              <a:chExt cx="1655640" cy="482040"/>
            </a:xfrm>
          </p:grpSpPr>
          <p:sp>
            <p:nvSpPr>
              <p:cNvPr id="932" name=""/>
              <p:cNvSpPr/>
              <p:nvPr/>
            </p:nvSpPr>
            <p:spPr>
              <a:xfrm>
                <a:off x="7155000" y="115920"/>
                <a:ext cx="1655640" cy="46188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3" name=""/>
              <p:cNvGrpSpPr/>
              <p:nvPr/>
            </p:nvGrpSpPr>
            <p:grpSpPr>
              <a:xfrm>
                <a:off x="7155000" y="115920"/>
                <a:ext cx="1652400" cy="482040"/>
                <a:chOff x="7155000" y="115920"/>
                <a:chExt cx="1652400" cy="48204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7155000" y="115920"/>
                  <a:ext cx="1652400" cy="45864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5" name=""/>
                <p:cNvGrpSpPr/>
                <p:nvPr/>
              </p:nvGrpSpPr>
              <p:grpSpPr>
                <a:xfrm>
                  <a:off x="7155000" y="115920"/>
                  <a:ext cx="1650960" cy="482040"/>
                  <a:chOff x="7155000" y="115920"/>
                  <a:chExt cx="1650960" cy="48204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7155000" y="115920"/>
                    <a:ext cx="1650960" cy="45720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37" name=""/>
                  <p:cNvGrpSpPr/>
                  <p:nvPr/>
                </p:nvGrpSpPr>
                <p:grpSpPr>
                  <a:xfrm>
                    <a:off x="7155000" y="115920"/>
                    <a:ext cx="1650960" cy="482040"/>
                    <a:chOff x="7155000" y="115920"/>
                    <a:chExt cx="1650960" cy="482040"/>
                  </a:xfrm>
                </p:grpSpPr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7155000" y="115920"/>
                      <a:ext cx="1650960" cy="4572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7182360" y="115920"/>
                      <a:ext cx="159588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 О Н И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940" name=""/>
          <p:cNvSpPr/>
          <p:nvPr/>
        </p:nvSpPr>
        <p:spPr>
          <a:xfrm>
            <a:off x="7164360" y="44460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3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942" name=""/>
          <p:cNvGrpSpPr/>
          <p:nvPr/>
        </p:nvGrpSpPr>
        <p:grpSpPr>
          <a:xfrm>
            <a:off x="324000" y="1052640"/>
            <a:ext cx="2222280" cy="383400"/>
            <a:chOff x="324000" y="1052640"/>
            <a:chExt cx="2222280" cy="383400"/>
          </a:xfrm>
        </p:grpSpPr>
        <p:sp>
          <p:nvSpPr>
            <p:cNvPr id="943" name=""/>
            <p:cNvSpPr/>
            <p:nvPr/>
          </p:nvSpPr>
          <p:spPr>
            <a:xfrm>
              <a:off x="324000" y="1052640"/>
              <a:ext cx="222228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324000" y="1052640"/>
              <a:ext cx="2215800" cy="383400"/>
              <a:chOff x="324000" y="1052640"/>
              <a:chExt cx="2215800" cy="383400"/>
            </a:xfrm>
          </p:grpSpPr>
          <p:sp>
            <p:nvSpPr>
              <p:cNvPr id="945" name=""/>
              <p:cNvSpPr/>
              <p:nvPr/>
            </p:nvSpPr>
            <p:spPr>
              <a:xfrm>
                <a:off x="324000" y="1052640"/>
                <a:ext cx="221580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6" name=""/>
              <p:cNvGrpSpPr/>
              <p:nvPr/>
            </p:nvGrpSpPr>
            <p:grpSpPr>
              <a:xfrm>
                <a:off x="324000" y="1052640"/>
                <a:ext cx="2211120" cy="383400"/>
                <a:chOff x="324000" y="1052640"/>
                <a:chExt cx="2211120" cy="38340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324000" y="1052640"/>
                  <a:ext cx="2211120" cy="36540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8" name=""/>
                <p:cNvGrpSpPr/>
                <p:nvPr/>
              </p:nvGrpSpPr>
              <p:grpSpPr>
                <a:xfrm>
                  <a:off x="324000" y="1052640"/>
                  <a:ext cx="2207880" cy="383400"/>
                  <a:chOff x="324000" y="1052640"/>
                  <a:chExt cx="2207880" cy="38340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324000" y="1052640"/>
                    <a:ext cx="2207880" cy="36216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50" name=""/>
                  <p:cNvGrpSpPr/>
                  <p:nvPr/>
                </p:nvGrpSpPr>
                <p:grpSpPr>
                  <a:xfrm>
                    <a:off x="324000" y="1052640"/>
                    <a:ext cx="2204640" cy="383400"/>
                    <a:chOff x="324000" y="1052640"/>
                    <a:chExt cx="2204640" cy="383400"/>
                  </a:xfrm>
                </p:grpSpPr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324000" y="1052640"/>
                      <a:ext cx="2204640" cy="36036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>
                      <a:off x="381600" y="1052640"/>
                      <a:ext cx="208944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953" name=""/>
          <p:cNvSpPr/>
          <p:nvPr/>
        </p:nvSpPr>
        <p:spPr>
          <a:xfrm>
            <a:off x="539640" y="1628640"/>
            <a:ext cx="8064720" cy="31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ts val="1936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ahoma"/>
              </a:rPr>
              <a:t>Самые рейтинговые программы по итогам 200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7 </a:t>
            </a:r>
            <a:r>
              <a:rPr b="1" i="1" lang="en-GB" sz="1600" spc="-1" strike="noStrike">
                <a:solidFill>
                  <a:srgbClr val="000000"/>
                </a:solidFill>
                <a:latin typeface="Tahoma"/>
              </a:rPr>
              <a:t>год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ahoma"/>
              </a:rPr>
              <a:t>Программ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ы</a:t>
            </a:r>
            <a:r>
              <a:rPr b="1" i="1" lang="en-GB" sz="1400" spc="-1" strike="noStrike">
                <a:solidFill>
                  <a:srgbClr val="000000"/>
                </a:solidFill>
                <a:latin typeface="Tahoma"/>
              </a:rPr>
              <a:t> собственного производств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333360">
              <a:lnSpc>
                <a:spcPct val="101000"/>
              </a:lnSpc>
              <a:buClr>
                <a:srgbClr val="800000"/>
              </a:buClr>
              <a:buFont typeface="Wingdings" charset="2"/>
              <a:buChar char="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ahoma"/>
              </a:rPr>
              <a:t>Светские хроники </a:t>
            </a:r>
            <a:r>
              <a:rPr b="1" lang="en-GB" sz="1400" spc="-1" strike="noStrike">
                <a:solidFill>
                  <a:srgbClr val="800000"/>
                </a:solidFill>
                <a:latin typeface="Tahoma"/>
              </a:rPr>
              <a:t>rat% 1,</a:t>
            </a:r>
            <a:r>
              <a:rPr b="1" lang="uk-UA" sz="1400" spc="-1" strike="noStrike">
                <a:solidFill>
                  <a:srgbClr val="800000"/>
                </a:solidFill>
                <a:latin typeface="Tahoma"/>
              </a:rPr>
              <a:t>01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333360">
              <a:lnSpc>
                <a:spcPct val="101000"/>
              </a:lnSpc>
              <a:buClr>
                <a:srgbClr val="800000"/>
              </a:buClr>
              <a:buFont typeface="Wingdings" charset="2"/>
              <a:buChar char="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ahoma"/>
              </a:rPr>
              <a:t>Спецпроект </a:t>
            </a:r>
            <a:r>
              <a:rPr b="1" lang="en-GB" sz="1400" spc="-1" strike="noStrike">
                <a:solidFill>
                  <a:srgbClr val="800000"/>
                </a:solidFill>
                <a:latin typeface="Tahoma"/>
              </a:rPr>
              <a:t>rat% </a:t>
            </a:r>
            <a:r>
              <a:rPr b="1" lang="uk-UA" sz="1400" spc="-1" strike="noStrike">
                <a:solidFill>
                  <a:srgbClr val="800000"/>
                </a:solidFill>
                <a:latin typeface="Tahoma"/>
              </a:rPr>
              <a:t>0,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333360">
              <a:lnSpc>
                <a:spcPct val="101000"/>
              </a:lnSpc>
              <a:buClr>
                <a:srgbClr val="800000"/>
              </a:buClr>
              <a:buFont typeface="Wingdings" charset="2"/>
              <a:buChar char="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ahoma"/>
              </a:rPr>
              <a:t>Документальны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е </a:t>
            </a:r>
            <a:r>
              <a:rPr b="1" i="1" lang="en-GB" sz="1400" spc="-1" strike="noStrike">
                <a:solidFill>
                  <a:srgbClr val="000000"/>
                </a:solidFill>
                <a:latin typeface="Tahoma"/>
              </a:rPr>
              <a:t>сериал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ы</a:t>
            </a:r>
            <a:r>
              <a:rPr b="1" i="1" lang="en-GB" sz="1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333360">
              <a:lnSpc>
                <a:spcPct val="101000"/>
              </a:lnSpc>
              <a:buClr>
                <a:srgbClr val="800000"/>
              </a:buClr>
              <a:buFont typeface="Wingdings" charset="2"/>
              <a:buChar char="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ahoma"/>
              </a:rPr>
              <a:t>Хит-парад дикой природы </a:t>
            </a:r>
            <a:r>
              <a:rPr b="1" lang="en-GB" sz="1400" spc="-1" strike="noStrike">
                <a:solidFill>
                  <a:srgbClr val="800000"/>
                </a:solidFill>
                <a:latin typeface="Tahoma"/>
              </a:rPr>
              <a:t>rat%</a:t>
            </a:r>
            <a:r>
              <a:rPr b="1" lang="ru-RU" sz="1400" spc="-1" strike="noStrike">
                <a:solidFill>
                  <a:srgbClr val="800000"/>
                </a:solidFill>
                <a:latin typeface="Tahoma"/>
              </a:rPr>
              <a:t> 0, 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333360">
              <a:lnSpc>
                <a:spcPct val="101000"/>
              </a:lnSpc>
              <a:buClr>
                <a:srgbClr val="800000"/>
              </a:buClr>
              <a:buFont typeface="Wingdings" charset="2"/>
              <a:buChar char="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ahoma"/>
              </a:rPr>
              <a:t>Тайны современной криминалистики </a:t>
            </a:r>
            <a:r>
              <a:rPr b="1" lang="en-GB" sz="1400" spc="-1" strike="noStrike">
                <a:solidFill>
                  <a:srgbClr val="800000"/>
                </a:solidFill>
                <a:latin typeface="Tahoma"/>
              </a:rPr>
              <a:t>rat% </a:t>
            </a:r>
            <a:r>
              <a:rPr b="1" lang="ru-RU" sz="1400" spc="-1" strike="noStrike">
                <a:solidFill>
                  <a:srgbClr val="800000"/>
                </a:solidFill>
                <a:latin typeface="Tahoma"/>
              </a:rPr>
              <a:t>0, 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333360">
              <a:lnSpc>
                <a:spcPct val="101000"/>
              </a:lnSpc>
              <a:buClr>
                <a:srgbClr val="800000"/>
              </a:buClr>
              <a:buFont typeface="Wingdings" charset="2"/>
              <a:buChar char="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ahoma"/>
              </a:rPr>
              <a:t>Познавательный цикл: Чистая наука </a:t>
            </a:r>
            <a:r>
              <a:rPr b="1" lang="en-GB" sz="1400" spc="-1" strike="noStrike">
                <a:solidFill>
                  <a:srgbClr val="800000"/>
                </a:solidFill>
                <a:latin typeface="Tahoma"/>
              </a:rPr>
              <a:t>rat% </a:t>
            </a:r>
            <a:r>
              <a:rPr b="1" lang="ru-RU" sz="1400" spc="-1" strike="noStrike">
                <a:solidFill>
                  <a:srgbClr val="800000"/>
                </a:solidFill>
                <a:latin typeface="Tahoma"/>
              </a:rPr>
              <a:t>0, 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333360">
              <a:lnSpc>
                <a:spcPct val="101000"/>
              </a:lnSpc>
              <a:buClr>
                <a:srgbClr val="800000"/>
              </a:buClr>
              <a:buFont typeface="Wingdings" charset="2"/>
              <a:buChar char="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ahoma"/>
              </a:rPr>
              <a:t>Художественны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е</a:t>
            </a:r>
            <a:r>
              <a:rPr b="1" i="1" lang="en-GB" sz="1400" spc="-1" strike="noStrike">
                <a:solidFill>
                  <a:srgbClr val="000000"/>
                </a:solidFill>
                <a:latin typeface="Tahoma"/>
              </a:rPr>
              <a:t> фильм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ы</a:t>
            </a:r>
            <a:r>
              <a:rPr b="1" i="1" lang="en-GB" sz="1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333360">
              <a:lnSpc>
                <a:spcPct val="101000"/>
              </a:lnSpc>
              <a:buClr>
                <a:srgbClr val="800000"/>
              </a:buClr>
              <a:buFont typeface="Wingdings" charset="2"/>
              <a:buChar char="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ahoma"/>
              </a:rPr>
              <a:t>Ва-банк </a:t>
            </a:r>
            <a:r>
              <a:rPr b="1" lang="en-GB" sz="1400" spc="-1" strike="noStrike">
                <a:solidFill>
                  <a:srgbClr val="800000"/>
                </a:solidFill>
                <a:latin typeface="Tahoma"/>
              </a:rPr>
              <a:t>х/ф rat% 1,</a:t>
            </a:r>
            <a:r>
              <a:rPr b="1" lang="ru-RU" sz="1400" spc="-1" strike="noStrike">
                <a:solidFill>
                  <a:srgbClr val="800000"/>
                </a:solidFill>
                <a:latin typeface="Tahoma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10800000">
            <a:off x="0" y="5743080"/>
            <a:ext cx="9144000" cy="1123920"/>
          </a:xfrm>
          <a:prstGeom prst="roundRect">
            <a:avLst>
              <a:gd name="adj" fmla="val 13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24360" y="5229360"/>
            <a:ext cx="4678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292720" y="5445000"/>
            <a:ext cx="33829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-9360" y="5734080"/>
            <a:ext cx="9162720" cy="144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7956720" y="6021360"/>
            <a:ext cx="485640" cy="493920"/>
            <a:chOff x="7956720" y="6021360"/>
            <a:chExt cx="485640" cy="493920"/>
          </a:xfrm>
        </p:grpSpPr>
        <p:pic>
          <p:nvPicPr>
            <p:cNvPr id="959" name="" descr=""/>
            <p:cNvPicPr/>
            <p:nvPr/>
          </p:nvPicPr>
          <p:blipFill>
            <a:blip r:embed="rId4"/>
            <a:stretch/>
          </p:blipFill>
          <p:spPr>
            <a:xfrm>
              <a:off x="7956720" y="6021360"/>
              <a:ext cx="4856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"/>
            <p:cNvSpPr/>
            <p:nvPr/>
          </p:nvSpPr>
          <p:spPr>
            <a:xfrm>
              <a:off x="7956720" y="6021360"/>
              <a:ext cx="485640" cy="493920"/>
            </a:xfrm>
            <a:custGeom>
              <a:avLst/>
              <a:gdLst>
                <a:gd name="textAreaLeft" fmla="*/ 360 w 485640"/>
                <a:gd name="textAreaRight" fmla="*/ 485280 w 485640"/>
                <a:gd name="textAreaTop" fmla="*/ 360 h 493920"/>
                <a:gd name="textAreaBottom" fmla="*/ 493560 h 493920"/>
              </a:gdLst>
              <a:ahLst/>
              <a:rect l="textAreaLeft" t="textAreaTop" r="textAreaRight" b="textAreaBottom"/>
              <a:pathLst>
                <a:path w="21600" h="21968">
                  <a:moveTo>
                    <a:pt x="70" y="0"/>
                  </a:moveTo>
                  <a:arcTo wR="70" hR="70" stAng="16200000" swAng="-5400000"/>
                  <a:lnTo>
                    <a:pt x="0" y="21898"/>
                  </a:lnTo>
                  <a:arcTo wR="70" hR="70" stAng="10800000" swAng="-5400000"/>
                  <a:lnTo>
                    <a:pt x="21530" y="21968"/>
                  </a:lnTo>
                  <a:arcTo wR="70" hR="70" stAng="5400000" swAng="-5400000"/>
                  <a:lnTo>
                    <a:pt x="21600" y="70"/>
                  </a:lnTo>
                  <a:arcTo wR="70" hR="7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7164360" y="6021360"/>
            <a:ext cx="485640" cy="493920"/>
            <a:chOff x="7164360" y="6021360"/>
            <a:chExt cx="485640" cy="493920"/>
          </a:xfrm>
        </p:grpSpPr>
        <p:pic>
          <p:nvPicPr>
            <p:cNvPr id="962" name="" descr=""/>
            <p:cNvPicPr/>
            <p:nvPr/>
          </p:nvPicPr>
          <p:blipFill>
            <a:blip r:embed="rId5"/>
            <a:stretch/>
          </p:blipFill>
          <p:spPr>
            <a:xfrm>
              <a:off x="7164360" y="6021360"/>
              <a:ext cx="4856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7164360" y="6021360"/>
              <a:ext cx="485640" cy="493920"/>
            </a:xfrm>
            <a:custGeom>
              <a:avLst/>
              <a:gdLst>
                <a:gd name="textAreaLeft" fmla="*/ 360 w 485640"/>
                <a:gd name="textAreaRight" fmla="*/ 485280 w 485640"/>
                <a:gd name="textAreaTop" fmla="*/ 360 h 493920"/>
                <a:gd name="textAreaBottom" fmla="*/ 493560 h 493920"/>
              </a:gdLst>
              <a:ahLst/>
              <a:rect l="textAreaLeft" t="textAreaTop" r="textAreaRight" b="textAreaBottom"/>
              <a:pathLst>
                <a:path w="21600" h="21968">
                  <a:moveTo>
                    <a:pt x="70" y="0"/>
                  </a:moveTo>
                  <a:arcTo wR="70" hR="70" stAng="16200000" swAng="-5400000"/>
                  <a:lnTo>
                    <a:pt x="0" y="21898"/>
                  </a:lnTo>
                  <a:arcTo wR="70" hR="70" stAng="10800000" swAng="-5400000"/>
                  <a:lnTo>
                    <a:pt x="21530" y="21968"/>
                  </a:lnTo>
                  <a:arcTo wR="70" hR="70" stAng="5400000" swAng="-5400000"/>
                  <a:lnTo>
                    <a:pt x="21600" y="70"/>
                  </a:lnTo>
                  <a:arcTo wR="70" hR="7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"/>
          <p:cNvGrpSpPr/>
          <p:nvPr/>
        </p:nvGrpSpPr>
        <p:grpSpPr>
          <a:xfrm>
            <a:off x="468360" y="1125360"/>
            <a:ext cx="3662280" cy="383400"/>
            <a:chOff x="468360" y="1125360"/>
            <a:chExt cx="3662280" cy="383400"/>
          </a:xfrm>
        </p:grpSpPr>
        <p:sp>
          <p:nvSpPr>
            <p:cNvPr id="965" name=""/>
            <p:cNvSpPr/>
            <p:nvPr/>
          </p:nvSpPr>
          <p:spPr>
            <a:xfrm>
              <a:off x="468360" y="1125360"/>
              <a:ext cx="3662280" cy="37656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468360" y="1125360"/>
              <a:ext cx="3655800" cy="383400"/>
              <a:chOff x="468360" y="1125360"/>
              <a:chExt cx="3655800" cy="383400"/>
            </a:xfrm>
          </p:grpSpPr>
          <p:sp>
            <p:nvSpPr>
              <p:cNvPr id="967" name=""/>
              <p:cNvSpPr/>
              <p:nvPr/>
            </p:nvSpPr>
            <p:spPr>
              <a:xfrm>
                <a:off x="468360" y="1125360"/>
                <a:ext cx="365580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8" name=""/>
              <p:cNvGrpSpPr/>
              <p:nvPr/>
            </p:nvGrpSpPr>
            <p:grpSpPr>
              <a:xfrm>
                <a:off x="468360" y="1125360"/>
                <a:ext cx="3651120" cy="383400"/>
                <a:chOff x="468360" y="1125360"/>
                <a:chExt cx="3651120" cy="38340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468360" y="1125360"/>
                  <a:ext cx="3651120" cy="36540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0" name=""/>
                <p:cNvGrpSpPr/>
                <p:nvPr/>
              </p:nvGrpSpPr>
              <p:grpSpPr>
                <a:xfrm>
                  <a:off x="468360" y="1125360"/>
                  <a:ext cx="3648240" cy="383400"/>
                  <a:chOff x="468360" y="1125360"/>
                  <a:chExt cx="3648240" cy="38340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>
                    <a:off x="468360" y="1125360"/>
                    <a:ext cx="3648240" cy="36216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72" name=""/>
                  <p:cNvGrpSpPr/>
                  <p:nvPr/>
                </p:nvGrpSpPr>
                <p:grpSpPr>
                  <a:xfrm>
                    <a:off x="468360" y="1125360"/>
                    <a:ext cx="3646800" cy="383400"/>
                    <a:chOff x="468360" y="1125360"/>
                    <a:chExt cx="3646800" cy="383400"/>
                  </a:xfrm>
                </p:grpSpPr>
                <p:sp>
                  <p:nvSpPr>
                    <p:cNvPr id="973" name=""/>
                    <p:cNvSpPr/>
                    <p:nvPr/>
                  </p:nvSpPr>
                  <p:spPr>
                    <a:xfrm>
                      <a:off x="468360" y="1125360"/>
                      <a:ext cx="3646800" cy="36036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>
                      <a:off x="570960" y="1125360"/>
                      <a:ext cx="344124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ематика програ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975" name=""/>
          <p:cNvGrpSpPr/>
          <p:nvPr/>
        </p:nvGrpSpPr>
        <p:grpSpPr>
          <a:xfrm>
            <a:off x="242280" y="5299200"/>
            <a:ext cx="3316320" cy="323280"/>
            <a:chOff x="242280" y="5299200"/>
            <a:chExt cx="3316320" cy="323280"/>
          </a:xfrm>
        </p:grpSpPr>
        <p:sp>
          <p:nvSpPr>
            <p:cNvPr id="976" name=""/>
            <p:cNvSpPr/>
            <p:nvPr/>
          </p:nvSpPr>
          <p:spPr>
            <a:xfrm>
              <a:off x="250920" y="5300640"/>
              <a:ext cx="2334960" cy="238320"/>
            </a:xfrm>
            <a:prstGeom prst="roundRect">
              <a:avLst>
                <a:gd name="adj" fmla="val 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242280" y="5299200"/>
              <a:ext cx="3316320" cy="323280"/>
              <a:chOff x="242280" y="5299200"/>
              <a:chExt cx="3316320" cy="323280"/>
            </a:xfrm>
          </p:grpSpPr>
          <p:sp>
            <p:nvSpPr>
              <p:cNvPr id="978" name=""/>
              <p:cNvSpPr/>
              <p:nvPr/>
            </p:nvSpPr>
            <p:spPr>
              <a:xfrm>
                <a:off x="250920" y="5300640"/>
                <a:ext cx="2330280" cy="233280"/>
              </a:xfrm>
              <a:prstGeom prst="roundRect">
                <a:avLst>
                  <a:gd name="adj" fmla="val 68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9" name=""/>
              <p:cNvGrpSpPr/>
              <p:nvPr/>
            </p:nvGrpSpPr>
            <p:grpSpPr>
              <a:xfrm>
                <a:off x="242280" y="5299200"/>
                <a:ext cx="3316320" cy="323280"/>
                <a:chOff x="242280" y="5299200"/>
                <a:chExt cx="3316320" cy="32328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250920" y="5300640"/>
                  <a:ext cx="2327040" cy="231840"/>
                </a:xfrm>
                <a:prstGeom prst="roundRect">
                  <a:avLst>
                    <a:gd name="adj" fmla="val 68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1" name=""/>
                <p:cNvGrpSpPr/>
                <p:nvPr/>
              </p:nvGrpSpPr>
              <p:grpSpPr>
                <a:xfrm>
                  <a:off x="242280" y="5299200"/>
                  <a:ext cx="3316320" cy="323280"/>
                  <a:chOff x="242280" y="5299200"/>
                  <a:chExt cx="3316320" cy="323280"/>
                </a:xfrm>
              </p:grpSpPr>
              <p:sp>
                <p:nvSpPr>
                  <p:cNvPr id="982" name=""/>
                  <p:cNvSpPr/>
                  <p:nvPr/>
                </p:nvSpPr>
                <p:spPr>
                  <a:xfrm>
                    <a:off x="250920" y="5300640"/>
                    <a:ext cx="2325600" cy="231840"/>
                  </a:xfrm>
                  <a:prstGeom prst="roundRect">
                    <a:avLst>
                      <a:gd name="adj" fmla="val 6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83" name=""/>
                  <p:cNvGrpSpPr/>
                  <p:nvPr/>
                </p:nvGrpSpPr>
                <p:grpSpPr>
                  <a:xfrm>
                    <a:off x="242280" y="5299200"/>
                    <a:ext cx="3316320" cy="323280"/>
                    <a:chOff x="242280" y="5299200"/>
                    <a:chExt cx="3316320" cy="323280"/>
                  </a:xfrm>
                </p:grpSpPr>
                <p:sp>
                  <p:nvSpPr>
                    <p:cNvPr id="984" name=""/>
                    <p:cNvSpPr/>
                    <p:nvPr/>
                  </p:nvSpPr>
                  <p:spPr>
                    <a:xfrm>
                      <a:off x="250920" y="5300640"/>
                      <a:ext cx="2325600" cy="230040"/>
                    </a:xfrm>
                    <a:prstGeom prst="roundRect">
                      <a:avLst>
                        <a:gd name="adj" fmla="val 69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242280" y="5299200"/>
                      <a:ext cx="3316320" cy="323280"/>
                    </a:xfrm>
                    <a:prstGeom prst="roundRect">
                      <a:avLst>
                        <a:gd name="adj" fmla="val 69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анным мониторинга GfK-USM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январь-март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grpSp>
        <p:nvGrpSpPr>
          <p:cNvPr id="987" name=""/>
          <p:cNvGrpSpPr/>
          <p:nvPr/>
        </p:nvGrpSpPr>
        <p:grpSpPr>
          <a:xfrm>
            <a:off x="7155000" y="115920"/>
            <a:ext cx="1660320" cy="482040"/>
            <a:chOff x="7155000" y="115920"/>
            <a:chExt cx="1660320" cy="482040"/>
          </a:xfrm>
        </p:grpSpPr>
        <p:sp>
          <p:nvSpPr>
            <p:cNvPr id="988" name=""/>
            <p:cNvSpPr/>
            <p:nvPr/>
          </p:nvSpPr>
          <p:spPr>
            <a:xfrm>
              <a:off x="7155000" y="115920"/>
              <a:ext cx="1660320" cy="4665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9" name=""/>
            <p:cNvGrpSpPr/>
            <p:nvPr/>
          </p:nvGrpSpPr>
          <p:grpSpPr>
            <a:xfrm>
              <a:off x="7155000" y="115920"/>
              <a:ext cx="1655640" cy="482040"/>
              <a:chOff x="7155000" y="115920"/>
              <a:chExt cx="1655640" cy="482040"/>
            </a:xfrm>
          </p:grpSpPr>
          <p:sp>
            <p:nvSpPr>
              <p:cNvPr id="990" name=""/>
              <p:cNvSpPr/>
              <p:nvPr/>
            </p:nvSpPr>
            <p:spPr>
              <a:xfrm>
                <a:off x="7155000" y="115920"/>
                <a:ext cx="1655640" cy="46188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1" name=""/>
              <p:cNvGrpSpPr/>
              <p:nvPr/>
            </p:nvGrpSpPr>
            <p:grpSpPr>
              <a:xfrm>
                <a:off x="7155000" y="115920"/>
                <a:ext cx="1652400" cy="482040"/>
                <a:chOff x="7155000" y="115920"/>
                <a:chExt cx="1652400" cy="48204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7155000" y="115920"/>
                  <a:ext cx="1652400" cy="45864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3" name=""/>
                <p:cNvGrpSpPr/>
                <p:nvPr/>
              </p:nvGrpSpPr>
              <p:grpSpPr>
                <a:xfrm>
                  <a:off x="7155000" y="115920"/>
                  <a:ext cx="1650960" cy="482040"/>
                  <a:chOff x="7155000" y="115920"/>
                  <a:chExt cx="1650960" cy="482040"/>
                </a:xfrm>
              </p:grpSpPr>
              <p:sp>
                <p:nvSpPr>
                  <p:cNvPr id="994" name=""/>
                  <p:cNvSpPr/>
                  <p:nvPr/>
                </p:nvSpPr>
                <p:spPr>
                  <a:xfrm>
                    <a:off x="7155000" y="115920"/>
                    <a:ext cx="1650960" cy="45720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95" name=""/>
                  <p:cNvGrpSpPr/>
                  <p:nvPr/>
                </p:nvGrpSpPr>
                <p:grpSpPr>
                  <a:xfrm>
                    <a:off x="7155000" y="115920"/>
                    <a:ext cx="1650960" cy="482040"/>
                    <a:chOff x="7155000" y="115920"/>
                    <a:chExt cx="1650960" cy="482040"/>
                  </a:xfrm>
                </p:grpSpPr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7155000" y="115920"/>
                      <a:ext cx="1650960" cy="4572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7" name=""/>
                    <p:cNvSpPr/>
                    <p:nvPr/>
                  </p:nvSpPr>
                  <p:spPr>
                    <a:xfrm>
                      <a:off x="7182360" y="115920"/>
                      <a:ext cx="159588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 О Н И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998" name=""/>
          <p:cNvSpPr/>
          <p:nvPr/>
        </p:nvSpPr>
        <p:spPr>
          <a:xfrm>
            <a:off x="7164360" y="44460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2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 rot="10800000">
            <a:off x="0" y="5743080"/>
            <a:ext cx="9144000" cy="1123920"/>
          </a:xfrm>
          <a:prstGeom prst="roundRect">
            <a:avLst>
              <a:gd name="adj" fmla="val 13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500720" y="5229360"/>
            <a:ext cx="46432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761080" y="5445000"/>
            <a:ext cx="33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-9360" y="5734080"/>
            <a:ext cx="9162720" cy="144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7956720" y="6021360"/>
            <a:ext cx="485640" cy="493920"/>
            <a:chOff x="7956720" y="6021360"/>
            <a:chExt cx="485640" cy="493920"/>
          </a:xfrm>
        </p:grpSpPr>
        <p:pic>
          <p:nvPicPr>
            <p:cNvPr id="1005" name="" descr=""/>
            <p:cNvPicPr/>
            <p:nvPr/>
          </p:nvPicPr>
          <p:blipFill>
            <a:blip r:embed="rId3"/>
            <a:stretch/>
          </p:blipFill>
          <p:spPr>
            <a:xfrm>
              <a:off x="7956720" y="6021360"/>
              <a:ext cx="4856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7956720" y="6021360"/>
              <a:ext cx="485640" cy="493920"/>
            </a:xfrm>
            <a:custGeom>
              <a:avLst/>
              <a:gdLst>
                <a:gd name="textAreaLeft" fmla="*/ 360 w 485640"/>
                <a:gd name="textAreaRight" fmla="*/ 485280 w 485640"/>
                <a:gd name="textAreaTop" fmla="*/ 360 h 493920"/>
                <a:gd name="textAreaBottom" fmla="*/ 493560 h 493920"/>
              </a:gdLst>
              <a:ahLst/>
              <a:rect l="textAreaLeft" t="textAreaTop" r="textAreaRight" b="textAreaBottom"/>
              <a:pathLst>
                <a:path w="21600" h="21968">
                  <a:moveTo>
                    <a:pt x="70" y="0"/>
                  </a:moveTo>
                  <a:arcTo wR="70" hR="70" stAng="16200000" swAng="-5400000"/>
                  <a:lnTo>
                    <a:pt x="0" y="21898"/>
                  </a:lnTo>
                  <a:arcTo wR="70" hR="70" stAng="10800000" swAng="-5400000"/>
                  <a:lnTo>
                    <a:pt x="21530" y="21968"/>
                  </a:lnTo>
                  <a:arcTo wR="70" hR="70" stAng="5400000" swAng="-5400000"/>
                  <a:lnTo>
                    <a:pt x="21600" y="70"/>
                  </a:lnTo>
                  <a:arcTo wR="70" hR="7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7164360" y="6021360"/>
            <a:ext cx="485640" cy="493920"/>
            <a:chOff x="7164360" y="6021360"/>
            <a:chExt cx="485640" cy="493920"/>
          </a:xfrm>
        </p:grpSpPr>
        <p:pic>
          <p:nvPicPr>
            <p:cNvPr id="1008" name="" descr=""/>
            <p:cNvPicPr/>
            <p:nvPr/>
          </p:nvPicPr>
          <p:blipFill>
            <a:blip r:embed="rId4"/>
            <a:stretch/>
          </p:blipFill>
          <p:spPr>
            <a:xfrm>
              <a:off x="7164360" y="6021360"/>
              <a:ext cx="4856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"/>
            <p:cNvSpPr/>
            <p:nvPr/>
          </p:nvSpPr>
          <p:spPr>
            <a:xfrm>
              <a:off x="7164360" y="6021360"/>
              <a:ext cx="485640" cy="493920"/>
            </a:xfrm>
            <a:custGeom>
              <a:avLst/>
              <a:gdLst>
                <a:gd name="textAreaLeft" fmla="*/ 360 w 485640"/>
                <a:gd name="textAreaRight" fmla="*/ 485280 w 485640"/>
                <a:gd name="textAreaTop" fmla="*/ 360 h 493920"/>
                <a:gd name="textAreaBottom" fmla="*/ 493560 h 493920"/>
              </a:gdLst>
              <a:ahLst/>
              <a:rect l="textAreaLeft" t="textAreaTop" r="textAreaRight" b="textAreaBottom"/>
              <a:pathLst>
                <a:path w="21600" h="21968">
                  <a:moveTo>
                    <a:pt x="70" y="0"/>
                  </a:moveTo>
                  <a:arcTo wR="70" hR="70" stAng="16200000" swAng="-5400000"/>
                  <a:lnTo>
                    <a:pt x="0" y="21898"/>
                  </a:lnTo>
                  <a:arcTo wR="70" hR="70" stAng="10800000" swAng="-5400000"/>
                  <a:lnTo>
                    <a:pt x="21530" y="21968"/>
                  </a:lnTo>
                  <a:arcTo wR="70" hR="70" stAng="5400000" swAng="-5400000"/>
                  <a:lnTo>
                    <a:pt x="21600" y="70"/>
                  </a:lnTo>
                  <a:arcTo wR="70" hR="7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-684360" y="-1908000"/>
            <a:ext cx="503280" cy="90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3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1" name=""/>
          <p:cNvGraphicFramePr/>
          <p:nvPr/>
        </p:nvGraphicFramePr>
        <p:xfrm>
          <a:off x="2195640" y="1557360"/>
          <a:ext cx="4919400" cy="39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1557360"/>
                    <a:ext cx="491940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"/>
          <p:cNvGrpSpPr/>
          <p:nvPr/>
        </p:nvGrpSpPr>
        <p:grpSpPr>
          <a:xfrm>
            <a:off x="468360" y="1125360"/>
            <a:ext cx="1999440" cy="383400"/>
            <a:chOff x="468360" y="1125360"/>
            <a:chExt cx="1999440" cy="383400"/>
          </a:xfrm>
        </p:grpSpPr>
        <p:sp>
          <p:nvSpPr>
            <p:cNvPr id="1014" name=""/>
            <p:cNvSpPr/>
            <p:nvPr/>
          </p:nvSpPr>
          <p:spPr>
            <a:xfrm>
              <a:off x="468360" y="1125360"/>
              <a:ext cx="1946160" cy="38268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68360" y="1125360"/>
              <a:ext cx="1999440" cy="383400"/>
              <a:chOff x="468360" y="1125360"/>
              <a:chExt cx="1999440" cy="383400"/>
            </a:xfrm>
          </p:grpSpPr>
          <p:sp>
            <p:nvSpPr>
              <p:cNvPr id="1016" name=""/>
              <p:cNvSpPr/>
              <p:nvPr/>
            </p:nvSpPr>
            <p:spPr>
              <a:xfrm>
                <a:off x="468360" y="1125360"/>
                <a:ext cx="1946160" cy="38268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27760" y="1125360"/>
                <a:ext cx="1940040" cy="38340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90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Verdana"/>
                  </a:rPr>
                  <a:t>Аудитори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8" name=""/>
          <p:cNvSpPr/>
          <p:nvPr/>
        </p:nvSpPr>
        <p:spPr>
          <a:xfrm>
            <a:off x="900000" y="6308640"/>
            <a:ext cx="2016360" cy="18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26920" y="2492280"/>
            <a:ext cx="2016360" cy="180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427640" y="1125360"/>
            <a:ext cx="23763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9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284720" y="1268280"/>
            <a:ext cx="1440" cy="400536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0800000">
            <a:off x="0" y="5738400"/>
            <a:ext cx="9144000" cy="1123920"/>
          </a:xfrm>
          <a:prstGeom prst="roundRect">
            <a:avLst>
              <a:gd name="adj" fmla="val 13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284720" y="5157720"/>
            <a:ext cx="4678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761080" y="5373720"/>
            <a:ext cx="33829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-4680" y="5734080"/>
            <a:ext cx="9153360" cy="144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grpSp>
        <p:nvGrpSpPr>
          <p:cNvPr id="1027" name=""/>
          <p:cNvGrpSpPr/>
          <p:nvPr/>
        </p:nvGrpSpPr>
        <p:grpSpPr>
          <a:xfrm>
            <a:off x="7186680" y="115920"/>
            <a:ext cx="1603440" cy="474480"/>
            <a:chOff x="7186680" y="115920"/>
            <a:chExt cx="1603440" cy="474480"/>
          </a:xfrm>
        </p:grpSpPr>
        <p:sp>
          <p:nvSpPr>
            <p:cNvPr id="1028" name=""/>
            <p:cNvSpPr/>
            <p:nvPr/>
          </p:nvSpPr>
          <p:spPr>
            <a:xfrm>
              <a:off x="7186680" y="115920"/>
              <a:ext cx="1603440" cy="4744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7186680" y="115920"/>
              <a:ext cx="1603440" cy="474480"/>
              <a:chOff x="7186680" y="115920"/>
              <a:chExt cx="1603440" cy="474480"/>
            </a:xfrm>
          </p:grpSpPr>
          <p:sp>
            <p:nvSpPr>
              <p:cNvPr id="1030" name=""/>
              <p:cNvSpPr/>
              <p:nvPr/>
            </p:nvSpPr>
            <p:spPr>
              <a:xfrm>
                <a:off x="7186680" y="115920"/>
                <a:ext cx="1603440" cy="474480"/>
              </a:xfrm>
              <a:prstGeom prst="roundRect">
                <a:avLst>
                  <a:gd name="adj" fmla="val 33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188840" y="115920"/>
                <a:ext cx="1595880" cy="413640"/>
              </a:xfrm>
              <a:prstGeom prst="roundRect">
                <a:avLst>
                  <a:gd name="adj" fmla="val 33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2511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ahoma"/>
                  </a:rPr>
                  <a:t>Т О Н 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И </a:t>
                </a:r>
                <a:r>
                  <a:rPr b="1" lang="en-GB" sz="2400" spc="-1" strike="noStrike">
                    <a:solidFill>
                      <a:srgbClr val="ffffff"/>
                    </a:solidFill>
                    <a:latin typeface="Tahoma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2" name=""/>
          <p:cNvSpPr/>
          <p:nvPr/>
        </p:nvSpPr>
        <p:spPr>
          <a:xfrm>
            <a:off x="7164360" y="444600"/>
            <a:ext cx="1657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2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1034" name=""/>
          <p:cNvGrpSpPr/>
          <p:nvPr/>
        </p:nvGrpSpPr>
        <p:grpSpPr>
          <a:xfrm>
            <a:off x="244080" y="5300640"/>
            <a:ext cx="2862000" cy="283320"/>
            <a:chOff x="244080" y="5300640"/>
            <a:chExt cx="2862000" cy="283320"/>
          </a:xfrm>
        </p:grpSpPr>
        <p:sp>
          <p:nvSpPr>
            <p:cNvPr id="1035" name=""/>
            <p:cNvSpPr/>
            <p:nvPr/>
          </p:nvSpPr>
          <p:spPr>
            <a:xfrm>
              <a:off x="250920" y="5300640"/>
              <a:ext cx="2574720" cy="2462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244080" y="5300640"/>
              <a:ext cx="2862000" cy="283320"/>
              <a:chOff x="244080" y="5300640"/>
              <a:chExt cx="2862000" cy="283320"/>
            </a:xfrm>
          </p:grpSpPr>
          <p:sp>
            <p:nvSpPr>
              <p:cNvPr id="1037" name=""/>
              <p:cNvSpPr/>
              <p:nvPr/>
            </p:nvSpPr>
            <p:spPr>
              <a:xfrm>
                <a:off x="250920" y="5300640"/>
                <a:ext cx="2574720" cy="246240"/>
              </a:xfrm>
              <a:prstGeom prst="roundRect">
                <a:avLst>
                  <a:gd name="adj" fmla="val 64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44080" y="5300640"/>
                <a:ext cx="2862000" cy="283320"/>
              </a:xfrm>
              <a:prstGeom prst="roundRect">
                <a:avLst>
                  <a:gd name="adj" fmla="val 64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</a:rPr>
                  <a:t>По данным мониторинга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 GfK-USM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</a:rPr>
                  <a:t>, март 20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39" name=""/>
          <p:cNvGraphicFramePr/>
          <p:nvPr/>
        </p:nvGraphicFramePr>
        <p:xfrm>
          <a:off x="324000" y="1557360"/>
          <a:ext cx="4430520" cy="35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557360"/>
                    <a:ext cx="443052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4427640" y="1628640"/>
          <a:ext cx="4527360" cy="365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1628640"/>
                    <a:ext cx="452736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"/>
          <p:cNvGrpSpPr/>
          <p:nvPr/>
        </p:nvGrpSpPr>
        <p:grpSpPr>
          <a:xfrm>
            <a:off x="468360" y="1125360"/>
            <a:ext cx="3713040" cy="383400"/>
            <a:chOff x="468360" y="1125360"/>
            <a:chExt cx="3713040" cy="383400"/>
          </a:xfrm>
        </p:grpSpPr>
        <p:sp>
          <p:nvSpPr>
            <p:cNvPr id="1044" name=""/>
            <p:cNvSpPr/>
            <p:nvPr/>
          </p:nvSpPr>
          <p:spPr>
            <a:xfrm>
              <a:off x="468360" y="1125360"/>
              <a:ext cx="3633840" cy="3812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468360" y="1125360"/>
              <a:ext cx="3713040" cy="383400"/>
              <a:chOff x="468360" y="1125360"/>
              <a:chExt cx="3713040" cy="383400"/>
            </a:xfrm>
          </p:grpSpPr>
          <p:sp>
            <p:nvSpPr>
              <p:cNvPr id="1046" name=""/>
              <p:cNvSpPr/>
              <p:nvPr/>
            </p:nvSpPr>
            <p:spPr>
              <a:xfrm>
                <a:off x="468360" y="1125360"/>
                <a:ext cx="363204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7" name=""/>
              <p:cNvGrpSpPr/>
              <p:nvPr/>
            </p:nvGrpSpPr>
            <p:grpSpPr>
              <a:xfrm>
                <a:off x="468360" y="1125360"/>
                <a:ext cx="3713040" cy="383400"/>
                <a:chOff x="468360" y="1125360"/>
                <a:chExt cx="3713040" cy="3834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468360" y="1125360"/>
                  <a:ext cx="3632040" cy="379440"/>
                </a:xfrm>
                <a:prstGeom prst="roundRect">
                  <a:avLst>
                    <a:gd name="adj" fmla="val 41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9" name=""/>
                <p:cNvGrpSpPr/>
                <p:nvPr/>
              </p:nvGrpSpPr>
              <p:grpSpPr>
                <a:xfrm>
                  <a:off x="468360" y="1125360"/>
                  <a:ext cx="3713040" cy="383400"/>
                  <a:chOff x="468360" y="1125360"/>
                  <a:chExt cx="3713040" cy="383400"/>
                </a:xfrm>
              </p:grpSpPr>
              <p:sp>
                <p:nvSpPr>
                  <p:cNvPr id="1050" name=""/>
                  <p:cNvSpPr/>
                  <p:nvPr/>
                </p:nvSpPr>
                <p:spPr>
                  <a:xfrm>
                    <a:off x="468360" y="1125360"/>
                    <a:ext cx="3713040" cy="382680"/>
                  </a:xfrm>
                  <a:prstGeom prst="roundRect">
                    <a:avLst>
                      <a:gd name="adj" fmla="val 41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468360" y="1125360"/>
                    <a:ext cx="3713040" cy="383400"/>
                    <a:chOff x="468360" y="1125360"/>
                    <a:chExt cx="3713040" cy="383400"/>
                  </a:xfrm>
                </p:grpSpPr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468360" y="1125360"/>
                      <a:ext cx="3713040" cy="382680"/>
                    </a:xfrm>
                    <a:prstGeom prst="roundRect">
                      <a:avLst>
                        <a:gd name="adj" fmla="val 41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649080" y="1125360"/>
                      <a:ext cx="3272040" cy="383400"/>
                    </a:xfrm>
                    <a:prstGeom prst="roundRect">
                      <a:avLst>
                        <a:gd name="adj" fmla="val 41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Доля аудитории</a:t>
                      </a:r>
                      <a:r>
                        <a:rPr b="1" lang="en-GB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54" name=""/>
          <p:cNvSpPr/>
          <p:nvPr/>
        </p:nvSpPr>
        <p:spPr>
          <a:xfrm rot="10800000">
            <a:off x="0" y="6175440"/>
            <a:ext cx="9144000" cy="691920"/>
          </a:xfrm>
          <a:prstGeom prst="roundRect">
            <a:avLst>
              <a:gd name="adj" fmla="val 2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35400" y="5516640"/>
            <a:ext cx="46785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761080" y="5805360"/>
            <a:ext cx="33829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-9360" y="6165720"/>
            <a:ext cx="9162720" cy="180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8099280" y="6308640"/>
            <a:ext cx="343080" cy="349200"/>
            <a:chOff x="8099280" y="6308640"/>
            <a:chExt cx="343080" cy="349200"/>
          </a:xfrm>
        </p:grpSpPr>
        <p:pic>
          <p:nvPicPr>
            <p:cNvPr id="1059" name="" descr=""/>
            <p:cNvPicPr/>
            <p:nvPr/>
          </p:nvPicPr>
          <p:blipFill>
            <a:blip r:embed="rId1"/>
            <a:stretch/>
          </p:blipFill>
          <p:spPr>
            <a:xfrm>
              <a:off x="809928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809928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7524720" y="6308640"/>
            <a:ext cx="343080" cy="349200"/>
            <a:chOff x="7524720" y="6308640"/>
            <a:chExt cx="343080" cy="349200"/>
          </a:xfrm>
        </p:grpSpPr>
        <p:pic>
          <p:nvPicPr>
            <p:cNvPr id="1062" name="" descr=""/>
            <p:cNvPicPr/>
            <p:nvPr/>
          </p:nvPicPr>
          <p:blipFill>
            <a:blip r:embed="rId2"/>
            <a:stretch/>
          </p:blipFill>
          <p:spPr>
            <a:xfrm>
              <a:off x="752472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"/>
            <p:cNvSpPr/>
            <p:nvPr/>
          </p:nvSpPr>
          <p:spPr>
            <a:xfrm>
              <a:off x="752472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243000" y="5803920"/>
            <a:ext cx="2862000" cy="323280"/>
            <a:chOff x="243000" y="5803920"/>
            <a:chExt cx="2862000" cy="323280"/>
          </a:xfrm>
        </p:grpSpPr>
        <p:sp>
          <p:nvSpPr>
            <p:cNvPr id="1065" name=""/>
            <p:cNvSpPr/>
            <p:nvPr/>
          </p:nvSpPr>
          <p:spPr>
            <a:xfrm>
              <a:off x="250920" y="5805360"/>
              <a:ext cx="2243160" cy="238320"/>
            </a:xfrm>
            <a:prstGeom prst="roundRect">
              <a:avLst>
                <a:gd name="adj" fmla="val 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243000" y="5803920"/>
              <a:ext cx="2862000" cy="323280"/>
              <a:chOff x="243000" y="5803920"/>
              <a:chExt cx="2862000" cy="323280"/>
            </a:xfrm>
          </p:grpSpPr>
          <p:sp>
            <p:nvSpPr>
              <p:cNvPr id="1067" name=""/>
              <p:cNvSpPr/>
              <p:nvPr/>
            </p:nvSpPr>
            <p:spPr>
              <a:xfrm>
                <a:off x="250920" y="5805360"/>
                <a:ext cx="2238120" cy="233640"/>
              </a:xfrm>
              <a:prstGeom prst="roundRect">
                <a:avLst>
                  <a:gd name="adj" fmla="val 68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243000" y="5803920"/>
                <a:ext cx="2862000" cy="323280"/>
                <a:chOff x="243000" y="5803920"/>
                <a:chExt cx="2862000" cy="32328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250920" y="5805360"/>
                  <a:ext cx="2235240" cy="231840"/>
                </a:xfrm>
                <a:prstGeom prst="roundRect">
                  <a:avLst>
                    <a:gd name="adj" fmla="val 68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0" name=""/>
                <p:cNvGrpSpPr/>
                <p:nvPr/>
              </p:nvGrpSpPr>
              <p:grpSpPr>
                <a:xfrm>
                  <a:off x="243000" y="5803920"/>
                  <a:ext cx="2862000" cy="323280"/>
                  <a:chOff x="243000" y="5803920"/>
                  <a:chExt cx="2862000" cy="32328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>
                    <a:off x="250920" y="5805360"/>
                    <a:ext cx="2233440" cy="230400"/>
                  </a:xfrm>
                  <a:prstGeom prst="roundRect">
                    <a:avLst>
                      <a:gd name="adj" fmla="val 69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72" name=""/>
                  <p:cNvGrpSpPr/>
                  <p:nvPr/>
                </p:nvGrpSpPr>
                <p:grpSpPr>
                  <a:xfrm>
                    <a:off x="243000" y="5803920"/>
                    <a:ext cx="2862000" cy="323280"/>
                    <a:chOff x="243000" y="5803920"/>
                    <a:chExt cx="2862000" cy="323280"/>
                  </a:xfrm>
                </p:grpSpPr>
                <p:sp>
                  <p:nvSpPr>
                    <p:cNvPr id="1073" name=""/>
                    <p:cNvSpPr/>
                    <p:nvPr/>
                  </p:nvSpPr>
                  <p:spPr>
                    <a:xfrm>
                      <a:off x="250920" y="5805360"/>
                      <a:ext cx="2232000" cy="230400"/>
                    </a:xfrm>
                    <a:prstGeom prst="roundRect">
                      <a:avLst>
                        <a:gd name="adj" fmla="val 69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4" name=""/>
                    <p:cNvSpPr/>
                    <p:nvPr/>
                  </p:nvSpPr>
                  <p:spPr>
                    <a:xfrm>
                      <a:off x="243000" y="5803920"/>
                      <a:ext cx="2862000" cy="323280"/>
                    </a:xfrm>
                    <a:prstGeom prst="roundRect">
                      <a:avLst>
                        <a:gd name="adj" fmla="val 69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анным мониторинга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GfK-USM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март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107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grpSp>
        <p:nvGrpSpPr>
          <p:cNvPr id="1076" name=""/>
          <p:cNvGrpSpPr/>
          <p:nvPr/>
        </p:nvGrpSpPr>
        <p:grpSpPr>
          <a:xfrm>
            <a:off x="7155000" y="115920"/>
            <a:ext cx="1662120" cy="484200"/>
            <a:chOff x="7155000" y="115920"/>
            <a:chExt cx="1662120" cy="484200"/>
          </a:xfrm>
        </p:grpSpPr>
        <p:sp>
          <p:nvSpPr>
            <p:cNvPr id="1077" name=""/>
            <p:cNvSpPr/>
            <p:nvPr/>
          </p:nvSpPr>
          <p:spPr>
            <a:xfrm>
              <a:off x="7155000" y="115920"/>
              <a:ext cx="1662120" cy="46980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7155000" y="115920"/>
              <a:ext cx="1658880" cy="484200"/>
              <a:chOff x="7155000" y="115920"/>
              <a:chExt cx="1658880" cy="484200"/>
            </a:xfrm>
          </p:grpSpPr>
          <p:sp>
            <p:nvSpPr>
              <p:cNvPr id="1079" name=""/>
              <p:cNvSpPr/>
              <p:nvPr/>
            </p:nvSpPr>
            <p:spPr>
              <a:xfrm>
                <a:off x="7155000" y="115920"/>
                <a:ext cx="1658880" cy="468360"/>
              </a:xfrm>
              <a:prstGeom prst="roundRect">
                <a:avLst>
                  <a:gd name="adj" fmla="val 33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7155000" y="115920"/>
                <a:ext cx="1657080" cy="484200"/>
                <a:chOff x="7155000" y="115920"/>
                <a:chExt cx="1657080" cy="4842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7155000" y="115920"/>
                  <a:ext cx="1657080" cy="468360"/>
                </a:xfrm>
                <a:prstGeom prst="roundRect">
                  <a:avLst>
                    <a:gd name="adj" fmla="val 33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7183800" y="115920"/>
                  <a:ext cx="1595880" cy="484200"/>
                  <a:chOff x="7183800" y="115920"/>
                  <a:chExt cx="1595880" cy="48420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7205760" y="115920"/>
                    <a:ext cx="1554120" cy="484200"/>
                  </a:xfrm>
                  <a:prstGeom prst="roundRect">
                    <a:avLst>
                      <a:gd name="adj" fmla="val 3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4" name=""/>
                  <p:cNvGrpSpPr/>
                  <p:nvPr/>
                </p:nvGrpSpPr>
                <p:grpSpPr>
                  <a:xfrm>
                    <a:off x="7183800" y="115920"/>
                    <a:ext cx="1595880" cy="484200"/>
                    <a:chOff x="7183800" y="115920"/>
                    <a:chExt cx="1595880" cy="484200"/>
                  </a:xfrm>
                </p:grpSpPr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7205760" y="115920"/>
                      <a:ext cx="1554120" cy="484200"/>
                    </a:xfrm>
                    <a:prstGeom prst="roundRect">
                      <a:avLst>
                        <a:gd name="adj" fmla="val 32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7183800" y="115920"/>
                      <a:ext cx="1595880" cy="482040"/>
                    </a:xfrm>
                    <a:prstGeom prst="roundRect">
                      <a:avLst>
                        <a:gd name="adj" fmla="val 32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 О Н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87" name=""/>
          <p:cNvSpPr/>
          <p:nvPr/>
        </p:nvSpPr>
        <p:spPr>
          <a:xfrm>
            <a:off x="7164360" y="44460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8" name="" descr=""/>
          <p:cNvPicPr/>
          <p:nvPr/>
        </p:nvPicPr>
        <p:blipFill>
          <a:blip r:embed="rId4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9" name=""/>
          <p:cNvGraphicFramePr/>
          <p:nvPr/>
        </p:nvGraphicFramePr>
        <p:xfrm>
          <a:off x="419040" y="1628640"/>
          <a:ext cx="7740720" cy="366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040" y="1628640"/>
                    <a:ext cx="774072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"/>
          <p:cNvGrpSpPr/>
          <p:nvPr/>
        </p:nvGrpSpPr>
        <p:grpSpPr>
          <a:xfrm>
            <a:off x="289440" y="1125360"/>
            <a:ext cx="2168640" cy="383400"/>
            <a:chOff x="289440" y="1125360"/>
            <a:chExt cx="2168640" cy="383400"/>
          </a:xfrm>
        </p:grpSpPr>
        <p:sp>
          <p:nvSpPr>
            <p:cNvPr id="1092" name=""/>
            <p:cNvSpPr/>
            <p:nvPr/>
          </p:nvSpPr>
          <p:spPr>
            <a:xfrm>
              <a:off x="468360" y="1125360"/>
              <a:ext cx="1809720" cy="3812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3" name=""/>
            <p:cNvGrpSpPr/>
            <p:nvPr/>
          </p:nvGrpSpPr>
          <p:grpSpPr>
            <a:xfrm>
              <a:off x="289440" y="1125360"/>
              <a:ext cx="2168640" cy="383400"/>
              <a:chOff x="289440" y="1125360"/>
              <a:chExt cx="2168640" cy="383400"/>
            </a:xfrm>
          </p:grpSpPr>
          <p:sp>
            <p:nvSpPr>
              <p:cNvPr id="1094" name=""/>
              <p:cNvSpPr/>
              <p:nvPr/>
            </p:nvSpPr>
            <p:spPr>
              <a:xfrm>
                <a:off x="468360" y="1125360"/>
                <a:ext cx="180828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5" name=""/>
              <p:cNvGrpSpPr/>
              <p:nvPr/>
            </p:nvGrpSpPr>
            <p:grpSpPr>
              <a:xfrm>
                <a:off x="289440" y="1125360"/>
                <a:ext cx="2168640" cy="383400"/>
                <a:chOff x="289440" y="1125360"/>
                <a:chExt cx="2168640" cy="3834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68360" y="1125360"/>
                  <a:ext cx="1808280" cy="379440"/>
                </a:xfrm>
                <a:prstGeom prst="roundRect">
                  <a:avLst>
                    <a:gd name="adj" fmla="val 41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289440" y="1125360"/>
                  <a:ext cx="2168640" cy="383400"/>
                  <a:chOff x="289440" y="1125360"/>
                  <a:chExt cx="2168640" cy="38340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468360" y="1125360"/>
                    <a:ext cx="1811160" cy="382680"/>
                  </a:xfrm>
                  <a:prstGeom prst="roundRect">
                    <a:avLst>
                      <a:gd name="adj" fmla="val 41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99" name=""/>
                  <p:cNvGrpSpPr/>
                  <p:nvPr/>
                </p:nvGrpSpPr>
                <p:grpSpPr>
                  <a:xfrm>
                    <a:off x="289440" y="1125360"/>
                    <a:ext cx="2168640" cy="383400"/>
                    <a:chOff x="289440" y="1125360"/>
                    <a:chExt cx="2168640" cy="383400"/>
                  </a:xfrm>
                </p:grpSpPr>
                <p:sp>
                  <p:nvSpPr>
                    <p:cNvPr id="1100" name=""/>
                    <p:cNvSpPr/>
                    <p:nvPr/>
                  </p:nvSpPr>
                  <p:spPr>
                    <a:xfrm>
                      <a:off x="468360" y="1125360"/>
                      <a:ext cx="1811160" cy="382680"/>
                    </a:xfrm>
                    <a:prstGeom prst="roundRect">
                      <a:avLst>
                        <a:gd name="adj" fmla="val 41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289440" y="1125360"/>
                      <a:ext cx="2168640" cy="383400"/>
                    </a:xfrm>
                    <a:prstGeom prst="roundRect">
                      <a:avLst>
                        <a:gd name="adj" fmla="val 41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Рейтинги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102" name=""/>
          <p:cNvSpPr/>
          <p:nvPr/>
        </p:nvSpPr>
        <p:spPr>
          <a:xfrm rot="10800000">
            <a:off x="0" y="6175440"/>
            <a:ext cx="9144000" cy="691920"/>
          </a:xfrm>
          <a:prstGeom prst="roundRect">
            <a:avLst>
              <a:gd name="adj" fmla="val 2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030560" y="5518080"/>
            <a:ext cx="46785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761080" y="5805360"/>
            <a:ext cx="33829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-9360" y="6165720"/>
            <a:ext cx="9162720" cy="180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8099280" y="6308640"/>
            <a:ext cx="343080" cy="349200"/>
            <a:chOff x="8099280" y="6308640"/>
            <a:chExt cx="343080" cy="349200"/>
          </a:xfrm>
        </p:grpSpPr>
        <p:pic>
          <p:nvPicPr>
            <p:cNvPr id="1107" name="" descr=""/>
            <p:cNvPicPr/>
            <p:nvPr/>
          </p:nvPicPr>
          <p:blipFill>
            <a:blip r:embed="rId1"/>
            <a:stretch/>
          </p:blipFill>
          <p:spPr>
            <a:xfrm>
              <a:off x="809928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"/>
            <p:cNvSpPr/>
            <p:nvPr/>
          </p:nvSpPr>
          <p:spPr>
            <a:xfrm>
              <a:off x="809928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7524720" y="6308640"/>
            <a:ext cx="343080" cy="349200"/>
            <a:chOff x="7524720" y="6308640"/>
            <a:chExt cx="343080" cy="349200"/>
          </a:xfrm>
        </p:grpSpPr>
        <p:pic>
          <p:nvPicPr>
            <p:cNvPr id="1110" name="" descr=""/>
            <p:cNvPicPr/>
            <p:nvPr/>
          </p:nvPicPr>
          <p:blipFill>
            <a:blip r:embed="rId2"/>
            <a:stretch/>
          </p:blipFill>
          <p:spPr>
            <a:xfrm>
              <a:off x="752472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1" name=""/>
            <p:cNvSpPr/>
            <p:nvPr/>
          </p:nvSpPr>
          <p:spPr>
            <a:xfrm>
              <a:off x="752472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243000" y="5803920"/>
            <a:ext cx="2862000" cy="323280"/>
            <a:chOff x="243000" y="5803920"/>
            <a:chExt cx="2862000" cy="323280"/>
          </a:xfrm>
        </p:grpSpPr>
        <p:sp>
          <p:nvSpPr>
            <p:cNvPr id="1113" name=""/>
            <p:cNvSpPr/>
            <p:nvPr/>
          </p:nvSpPr>
          <p:spPr>
            <a:xfrm>
              <a:off x="250920" y="5805360"/>
              <a:ext cx="2243160" cy="238320"/>
            </a:xfrm>
            <a:prstGeom prst="roundRect">
              <a:avLst>
                <a:gd name="adj" fmla="val 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4" name=""/>
            <p:cNvGrpSpPr/>
            <p:nvPr/>
          </p:nvGrpSpPr>
          <p:grpSpPr>
            <a:xfrm>
              <a:off x="243000" y="5803920"/>
              <a:ext cx="2862000" cy="323280"/>
              <a:chOff x="243000" y="5803920"/>
              <a:chExt cx="2862000" cy="323280"/>
            </a:xfrm>
          </p:grpSpPr>
          <p:sp>
            <p:nvSpPr>
              <p:cNvPr id="1115" name=""/>
              <p:cNvSpPr/>
              <p:nvPr/>
            </p:nvSpPr>
            <p:spPr>
              <a:xfrm>
                <a:off x="250920" y="5805360"/>
                <a:ext cx="2238120" cy="233640"/>
              </a:xfrm>
              <a:prstGeom prst="roundRect">
                <a:avLst>
                  <a:gd name="adj" fmla="val 68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6" name=""/>
              <p:cNvGrpSpPr/>
              <p:nvPr/>
            </p:nvGrpSpPr>
            <p:grpSpPr>
              <a:xfrm>
                <a:off x="243000" y="5803920"/>
                <a:ext cx="2862000" cy="323280"/>
                <a:chOff x="243000" y="5803920"/>
                <a:chExt cx="2862000" cy="32328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250920" y="5805360"/>
                  <a:ext cx="2235240" cy="231840"/>
                </a:xfrm>
                <a:prstGeom prst="roundRect">
                  <a:avLst>
                    <a:gd name="adj" fmla="val 68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8" name=""/>
                <p:cNvGrpSpPr/>
                <p:nvPr/>
              </p:nvGrpSpPr>
              <p:grpSpPr>
                <a:xfrm>
                  <a:off x="243000" y="5803920"/>
                  <a:ext cx="2862000" cy="323280"/>
                  <a:chOff x="243000" y="5803920"/>
                  <a:chExt cx="2862000" cy="323280"/>
                </a:xfrm>
              </p:grpSpPr>
              <p:sp>
                <p:nvSpPr>
                  <p:cNvPr id="1119" name=""/>
                  <p:cNvSpPr/>
                  <p:nvPr/>
                </p:nvSpPr>
                <p:spPr>
                  <a:xfrm>
                    <a:off x="250920" y="5805360"/>
                    <a:ext cx="2233440" cy="230400"/>
                  </a:xfrm>
                  <a:prstGeom prst="roundRect">
                    <a:avLst>
                      <a:gd name="adj" fmla="val 69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20" name=""/>
                  <p:cNvGrpSpPr/>
                  <p:nvPr/>
                </p:nvGrpSpPr>
                <p:grpSpPr>
                  <a:xfrm>
                    <a:off x="243000" y="5803920"/>
                    <a:ext cx="2862000" cy="323280"/>
                    <a:chOff x="243000" y="5803920"/>
                    <a:chExt cx="2862000" cy="323280"/>
                  </a:xfrm>
                </p:grpSpPr>
                <p:sp>
                  <p:nvSpPr>
                    <p:cNvPr id="1121" name=""/>
                    <p:cNvSpPr/>
                    <p:nvPr/>
                  </p:nvSpPr>
                  <p:spPr>
                    <a:xfrm>
                      <a:off x="250920" y="5805360"/>
                      <a:ext cx="2232000" cy="230400"/>
                    </a:xfrm>
                    <a:prstGeom prst="roundRect">
                      <a:avLst>
                        <a:gd name="adj" fmla="val 69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>
                      <a:off x="243000" y="5803920"/>
                      <a:ext cx="2862000" cy="323280"/>
                    </a:xfrm>
                    <a:prstGeom prst="roundRect">
                      <a:avLst>
                        <a:gd name="adj" fmla="val 69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анным мониторинга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GfK-USM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март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1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grpSp>
        <p:nvGrpSpPr>
          <p:cNvPr id="1124" name=""/>
          <p:cNvGrpSpPr/>
          <p:nvPr/>
        </p:nvGrpSpPr>
        <p:grpSpPr>
          <a:xfrm>
            <a:off x="7182360" y="115920"/>
            <a:ext cx="1595880" cy="482040"/>
            <a:chOff x="7182360" y="115920"/>
            <a:chExt cx="1595880" cy="482040"/>
          </a:xfrm>
        </p:grpSpPr>
        <p:sp>
          <p:nvSpPr>
            <p:cNvPr id="1125" name=""/>
            <p:cNvSpPr/>
            <p:nvPr/>
          </p:nvSpPr>
          <p:spPr>
            <a:xfrm>
              <a:off x="7224840" y="115920"/>
              <a:ext cx="1520640" cy="4665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7182360" y="115920"/>
              <a:ext cx="1595880" cy="482040"/>
              <a:chOff x="7182360" y="115920"/>
              <a:chExt cx="1595880" cy="482040"/>
            </a:xfrm>
          </p:grpSpPr>
          <p:sp>
            <p:nvSpPr>
              <p:cNvPr id="1127" name=""/>
              <p:cNvSpPr/>
              <p:nvPr/>
            </p:nvSpPr>
            <p:spPr>
              <a:xfrm>
                <a:off x="7224840" y="115920"/>
                <a:ext cx="1515960" cy="46188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8" name=""/>
              <p:cNvGrpSpPr/>
              <p:nvPr/>
            </p:nvGrpSpPr>
            <p:grpSpPr>
              <a:xfrm>
                <a:off x="7182360" y="115920"/>
                <a:ext cx="1595880" cy="482040"/>
                <a:chOff x="7182360" y="115920"/>
                <a:chExt cx="1595880" cy="48204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7224840" y="115920"/>
                  <a:ext cx="1512720" cy="45864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0" name=""/>
                <p:cNvGrpSpPr/>
                <p:nvPr/>
              </p:nvGrpSpPr>
              <p:grpSpPr>
                <a:xfrm>
                  <a:off x="7182360" y="115920"/>
                  <a:ext cx="1595880" cy="482040"/>
                  <a:chOff x="7182360" y="115920"/>
                  <a:chExt cx="1595880" cy="48204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>
                    <a:off x="7224840" y="115920"/>
                    <a:ext cx="1511280" cy="45720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2" name=""/>
                  <p:cNvGrpSpPr/>
                  <p:nvPr/>
                </p:nvGrpSpPr>
                <p:grpSpPr>
                  <a:xfrm>
                    <a:off x="7182360" y="115920"/>
                    <a:ext cx="1595880" cy="482040"/>
                    <a:chOff x="7182360" y="115920"/>
                    <a:chExt cx="1595880" cy="482040"/>
                  </a:xfrm>
                </p:grpSpPr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7224840" y="115920"/>
                      <a:ext cx="1511280" cy="4572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7182360" y="115920"/>
                      <a:ext cx="159588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 О Н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135" name=""/>
          <p:cNvSpPr/>
          <p:nvPr/>
        </p:nvSpPr>
        <p:spPr>
          <a:xfrm>
            <a:off x="7164360" y="44460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6" name="" descr=""/>
          <p:cNvPicPr/>
          <p:nvPr/>
        </p:nvPicPr>
        <p:blipFill>
          <a:blip r:embed="rId4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7" name=""/>
          <p:cNvGraphicFramePr/>
          <p:nvPr/>
        </p:nvGraphicFramePr>
        <p:xfrm>
          <a:off x="684360" y="1773360"/>
          <a:ext cx="7745400" cy="366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1773360"/>
                    <a:ext cx="77454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grpSp>
        <p:nvGrpSpPr>
          <p:cNvPr id="1141" name=""/>
          <p:cNvGrpSpPr/>
          <p:nvPr/>
        </p:nvGrpSpPr>
        <p:grpSpPr>
          <a:xfrm>
            <a:off x="7155000" y="115920"/>
            <a:ext cx="1660320" cy="482040"/>
            <a:chOff x="7155000" y="115920"/>
            <a:chExt cx="1660320" cy="482040"/>
          </a:xfrm>
        </p:grpSpPr>
        <p:sp>
          <p:nvSpPr>
            <p:cNvPr id="1142" name=""/>
            <p:cNvSpPr/>
            <p:nvPr/>
          </p:nvSpPr>
          <p:spPr>
            <a:xfrm>
              <a:off x="7155000" y="115920"/>
              <a:ext cx="1660320" cy="4665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7155000" y="115920"/>
              <a:ext cx="1655640" cy="482040"/>
              <a:chOff x="7155000" y="115920"/>
              <a:chExt cx="1655640" cy="482040"/>
            </a:xfrm>
          </p:grpSpPr>
          <p:sp>
            <p:nvSpPr>
              <p:cNvPr id="1144" name=""/>
              <p:cNvSpPr/>
              <p:nvPr/>
            </p:nvSpPr>
            <p:spPr>
              <a:xfrm>
                <a:off x="7155000" y="115920"/>
                <a:ext cx="1655640" cy="46188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5" name=""/>
              <p:cNvGrpSpPr/>
              <p:nvPr/>
            </p:nvGrpSpPr>
            <p:grpSpPr>
              <a:xfrm>
                <a:off x="7155000" y="115920"/>
                <a:ext cx="1652400" cy="482040"/>
                <a:chOff x="7155000" y="115920"/>
                <a:chExt cx="1652400" cy="48204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7155000" y="115920"/>
                  <a:ext cx="1652400" cy="45864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7" name=""/>
                <p:cNvGrpSpPr/>
                <p:nvPr/>
              </p:nvGrpSpPr>
              <p:grpSpPr>
                <a:xfrm>
                  <a:off x="7155000" y="115920"/>
                  <a:ext cx="1650960" cy="482040"/>
                  <a:chOff x="7155000" y="115920"/>
                  <a:chExt cx="1650960" cy="48204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7155000" y="115920"/>
                    <a:ext cx="1650960" cy="45720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49" name=""/>
                  <p:cNvGrpSpPr/>
                  <p:nvPr/>
                </p:nvGrpSpPr>
                <p:grpSpPr>
                  <a:xfrm>
                    <a:off x="7155000" y="115920"/>
                    <a:ext cx="1650960" cy="482040"/>
                    <a:chOff x="7155000" y="115920"/>
                    <a:chExt cx="1650960" cy="482040"/>
                  </a:xfrm>
                </p:grpSpPr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7155000" y="115920"/>
                      <a:ext cx="1650960" cy="4572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7182360" y="115920"/>
                      <a:ext cx="159588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 О Н И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152" name=""/>
          <p:cNvSpPr/>
          <p:nvPr/>
        </p:nvSpPr>
        <p:spPr>
          <a:xfrm>
            <a:off x="7164360" y="44460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3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1154" name=""/>
          <p:cNvGrpSpPr/>
          <p:nvPr/>
        </p:nvGrpSpPr>
        <p:grpSpPr>
          <a:xfrm>
            <a:off x="324000" y="1052640"/>
            <a:ext cx="5594040" cy="383400"/>
            <a:chOff x="324000" y="1052640"/>
            <a:chExt cx="5594040" cy="383400"/>
          </a:xfrm>
        </p:grpSpPr>
        <p:sp>
          <p:nvSpPr>
            <p:cNvPr id="1155" name=""/>
            <p:cNvSpPr/>
            <p:nvPr/>
          </p:nvSpPr>
          <p:spPr>
            <a:xfrm>
              <a:off x="324000" y="1052640"/>
              <a:ext cx="559404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324000" y="1052640"/>
              <a:ext cx="5587560" cy="383400"/>
              <a:chOff x="324000" y="1052640"/>
              <a:chExt cx="5587560" cy="383400"/>
            </a:xfrm>
          </p:grpSpPr>
          <p:sp>
            <p:nvSpPr>
              <p:cNvPr id="1157" name=""/>
              <p:cNvSpPr/>
              <p:nvPr/>
            </p:nvSpPr>
            <p:spPr>
              <a:xfrm>
                <a:off x="324000" y="1052640"/>
                <a:ext cx="558756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8" name=""/>
              <p:cNvGrpSpPr/>
              <p:nvPr/>
            </p:nvGrpSpPr>
            <p:grpSpPr>
              <a:xfrm>
                <a:off x="324000" y="1052640"/>
                <a:ext cx="5582520" cy="383400"/>
                <a:chOff x="324000" y="1052640"/>
                <a:chExt cx="5582520" cy="3834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324000" y="1052640"/>
                  <a:ext cx="5582520" cy="36540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0" name=""/>
                <p:cNvGrpSpPr/>
                <p:nvPr/>
              </p:nvGrpSpPr>
              <p:grpSpPr>
                <a:xfrm>
                  <a:off x="324000" y="1052640"/>
                  <a:ext cx="5579280" cy="383400"/>
                  <a:chOff x="324000" y="1052640"/>
                  <a:chExt cx="5579280" cy="383400"/>
                </a:xfrm>
              </p:grpSpPr>
              <p:sp>
                <p:nvSpPr>
                  <p:cNvPr id="1161" name=""/>
                  <p:cNvSpPr/>
                  <p:nvPr/>
                </p:nvSpPr>
                <p:spPr>
                  <a:xfrm>
                    <a:off x="324000" y="1052640"/>
                    <a:ext cx="5579280" cy="36216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62" name=""/>
                  <p:cNvGrpSpPr/>
                  <p:nvPr/>
                </p:nvGrpSpPr>
                <p:grpSpPr>
                  <a:xfrm>
                    <a:off x="324000" y="1052640"/>
                    <a:ext cx="5577840" cy="383400"/>
                    <a:chOff x="324000" y="1052640"/>
                    <a:chExt cx="5577840" cy="383400"/>
                  </a:xfrm>
                </p:grpSpPr>
                <p:sp>
                  <p:nvSpPr>
                    <p:cNvPr id="1163" name=""/>
                    <p:cNvSpPr/>
                    <p:nvPr/>
                  </p:nvSpPr>
                  <p:spPr>
                    <a:xfrm>
                      <a:off x="324000" y="1052640"/>
                      <a:ext cx="5577840" cy="36036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>
                      <a:off x="543960" y="1052640"/>
                      <a:ext cx="513756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дажа рекламног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165" name=""/>
          <p:cNvSpPr/>
          <p:nvPr/>
        </p:nvSpPr>
        <p:spPr>
          <a:xfrm>
            <a:off x="826920" y="1773360"/>
            <a:ext cx="6481800" cy="31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ts val="1800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90000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екламный </a:t>
            </a:r>
            <a:r>
              <a:rPr b="1" lang="uk-UA" sz="1600" spc="-1" strike="noStrike">
                <a:solidFill>
                  <a:srgbClr val="000000"/>
                </a:solidFill>
                <a:latin typeface="Tahoma"/>
              </a:rPr>
              <a:t>департамент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телеканал</a:t>
            </a:r>
            <a:r>
              <a:rPr b="1" lang="uk-UA" sz="16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ТОНИС предлагает свои услуги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90000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90000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понсорское представление в программах и фильма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90000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90000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нонсирование концертов, выставок и др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90000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90000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азмещение сюжета в формате «телемагазин»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90000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90000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южеты по информационному поводу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90000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90000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азмещение рекламных роликов в блоках – через РА «Стиль С+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rot="10800000">
            <a:off x="0" y="5743080"/>
            <a:ext cx="9144000" cy="1123920"/>
          </a:xfrm>
          <a:prstGeom prst="roundRect">
            <a:avLst>
              <a:gd name="adj" fmla="val 13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572000" y="5229360"/>
            <a:ext cx="47880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61080" y="5445000"/>
            <a:ext cx="33829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-9360" y="5734080"/>
            <a:ext cx="9162720" cy="144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7956720" y="6021360"/>
            <a:ext cx="485640" cy="493920"/>
            <a:chOff x="7956720" y="6021360"/>
            <a:chExt cx="485640" cy="493920"/>
          </a:xfrm>
        </p:grpSpPr>
        <p:pic>
          <p:nvPicPr>
            <p:cNvPr id="1171" name="" descr=""/>
            <p:cNvPicPr/>
            <p:nvPr/>
          </p:nvPicPr>
          <p:blipFill>
            <a:blip r:embed="rId4"/>
            <a:stretch/>
          </p:blipFill>
          <p:spPr>
            <a:xfrm>
              <a:off x="7956720" y="6021360"/>
              <a:ext cx="4856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7956720" y="6021360"/>
              <a:ext cx="485640" cy="493920"/>
            </a:xfrm>
            <a:custGeom>
              <a:avLst/>
              <a:gdLst>
                <a:gd name="textAreaLeft" fmla="*/ 360 w 485640"/>
                <a:gd name="textAreaRight" fmla="*/ 485280 w 485640"/>
                <a:gd name="textAreaTop" fmla="*/ 360 h 493920"/>
                <a:gd name="textAreaBottom" fmla="*/ 493560 h 493920"/>
              </a:gdLst>
              <a:ahLst/>
              <a:rect l="textAreaLeft" t="textAreaTop" r="textAreaRight" b="textAreaBottom"/>
              <a:pathLst>
                <a:path w="21600" h="21968">
                  <a:moveTo>
                    <a:pt x="70" y="0"/>
                  </a:moveTo>
                  <a:arcTo wR="70" hR="70" stAng="16200000" swAng="-5400000"/>
                  <a:lnTo>
                    <a:pt x="0" y="21898"/>
                  </a:lnTo>
                  <a:arcTo wR="70" hR="70" stAng="10800000" swAng="-5400000"/>
                  <a:lnTo>
                    <a:pt x="21530" y="21968"/>
                  </a:lnTo>
                  <a:arcTo wR="70" hR="70" stAng="5400000" swAng="-5400000"/>
                  <a:lnTo>
                    <a:pt x="21600" y="70"/>
                  </a:lnTo>
                  <a:arcTo wR="70" hR="7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7164360" y="6021360"/>
            <a:ext cx="485640" cy="493920"/>
            <a:chOff x="7164360" y="6021360"/>
            <a:chExt cx="485640" cy="493920"/>
          </a:xfrm>
        </p:grpSpPr>
        <p:pic>
          <p:nvPicPr>
            <p:cNvPr id="1174" name="" descr=""/>
            <p:cNvPicPr/>
            <p:nvPr/>
          </p:nvPicPr>
          <p:blipFill>
            <a:blip r:embed="rId5"/>
            <a:stretch/>
          </p:blipFill>
          <p:spPr>
            <a:xfrm>
              <a:off x="7164360" y="6021360"/>
              <a:ext cx="4856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5" name=""/>
            <p:cNvSpPr/>
            <p:nvPr/>
          </p:nvSpPr>
          <p:spPr>
            <a:xfrm>
              <a:off x="7164360" y="6021360"/>
              <a:ext cx="485640" cy="493920"/>
            </a:xfrm>
            <a:custGeom>
              <a:avLst/>
              <a:gdLst>
                <a:gd name="textAreaLeft" fmla="*/ 360 w 485640"/>
                <a:gd name="textAreaRight" fmla="*/ 485280 w 485640"/>
                <a:gd name="textAreaTop" fmla="*/ 360 h 493920"/>
                <a:gd name="textAreaBottom" fmla="*/ 493560 h 493920"/>
              </a:gdLst>
              <a:ahLst/>
              <a:rect l="textAreaLeft" t="textAreaTop" r="textAreaRight" b="textAreaBottom"/>
              <a:pathLst>
                <a:path w="21600" h="21968">
                  <a:moveTo>
                    <a:pt x="70" y="0"/>
                  </a:moveTo>
                  <a:arcTo wR="70" hR="70" stAng="16200000" swAng="-5400000"/>
                  <a:lnTo>
                    <a:pt x="0" y="21898"/>
                  </a:lnTo>
                  <a:arcTo wR="70" hR="70" stAng="10800000" swAng="-5400000"/>
                  <a:lnTo>
                    <a:pt x="21530" y="21968"/>
                  </a:lnTo>
                  <a:arcTo wR="70" hR="70" stAng="5400000" swAng="-5400000"/>
                  <a:lnTo>
                    <a:pt x="21600" y="70"/>
                  </a:lnTo>
                  <a:arcTo wR="70" hR="7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1178" name=""/>
          <p:cNvSpPr/>
          <p:nvPr/>
        </p:nvSpPr>
        <p:spPr>
          <a:xfrm rot="10800000">
            <a:off x="0" y="5743080"/>
            <a:ext cx="9144000" cy="1123920"/>
          </a:xfrm>
          <a:prstGeom prst="roundRect">
            <a:avLst>
              <a:gd name="adj" fmla="val 13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067280" y="5157720"/>
            <a:ext cx="4678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0" name="" descr=""/>
          <p:cNvPicPr/>
          <p:nvPr/>
        </p:nvPicPr>
        <p:blipFill>
          <a:blip r:embed="rId3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181" name=""/>
          <p:cNvSpPr/>
          <p:nvPr/>
        </p:nvSpPr>
        <p:spPr>
          <a:xfrm>
            <a:off x="5508720" y="5445000"/>
            <a:ext cx="33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-9360" y="5734080"/>
            <a:ext cx="9162720" cy="144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7155000" y="115920"/>
            <a:ext cx="1660320" cy="482040"/>
            <a:chOff x="7155000" y="115920"/>
            <a:chExt cx="1660320" cy="482040"/>
          </a:xfrm>
        </p:grpSpPr>
        <p:sp>
          <p:nvSpPr>
            <p:cNvPr id="1184" name=""/>
            <p:cNvSpPr/>
            <p:nvPr/>
          </p:nvSpPr>
          <p:spPr>
            <a:xfrm>
              <a:off x="7155000" y="115920"/>
              <a:ext cx="1660320" cy="4665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5" name=""/>
            <p:cNvGrpSpPr/>
            <p:nvPr/>
          </p:nvGrpSpPr>
          <p:grpSpPr>
            <a:xfrm>
              <a:off x="7155000" y="115920"/>
              <a:ext cx="1655640" cy="482040"/>
              <a:chOff x="7155000" y="115920"/>
              <a:chExt cx="1655640" cy="482040"/>
            </a:xfrm>
          </p:grpSpPr>
          <p:sp>
            <p:nvSpPr>
              <p:cNvPr id="1186" name=""/>
              <p:cNvSpPr/>
              <p:nvPr/>
            </p:nvSpPr>
            <p:spPr>
              <a:xfrm>
                <a:off x="7155000" y="115920"/>
                <a:ext cx="1655640" cy="46188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7" name=""/>
              <p:cNvGrpSpPr/>
              <p:nvPr/>
            </p:nvGrpSpPr>
            <p:grpSpPr>
              <a:xfrm>
                <a:off x="7155000" y="115920"/>
                <a:ext cx="1652400" cy="482040"/>
                <a:chOff x="7155000" y="115920"/>
                <a:chExt cx="1652400" cy="48204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7155000" y="115920"/>
                  <a:ext cx="1652400" cy="45864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9" name=""/>
                <p:cNvGrpSpPr/>
                <p:nvPr/>
              </p:nvGrpSpPr>
              <p:grpSpPr>
                <a:xfrm>
                  <a:off x="7155000" y="115920"/>
                  <a:ext cx="1650960" cy="482040"/>
                  <a:chOff x="7155000" y="115920"/>
                  <a:chExt cx="1650960" cy="48204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>
                    <a:off x="7155000" y="115920"/>
                    <a:ext cx="1650960" cy="45720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91" name=""/>
                  <p:cNvGrpSpPr/>
                  <p:nvPr/>
                </p:nvGrpSpPr>
                <p:grpSpPr>
                  <a:xfrm>
                    <a:off x="7155000" y="115920"/>
                    <a:ext cx="1650960" cy="482040"/>
                    <a:chOff x="7155000" y="115920"/>
                    <a:chExt cx="1650960" cy="482040"/>
                  </a:xfrm>
                </p:grpSpPr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7155000" y="115920"/>
                      <a:ext cx="1650960" cy="4572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>
                      <a:off x="7182360" y="115920"/>
                      <a:ext cx="159588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 О Н И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194" name=""/>
          <p:cNvSpPr/>
          <p:nvPr/>
        </p:nvSpPr>
        <p:spPr>
          <a:xfrm>
            <a:off x="7164360" y="44460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7956720" y="6021360"/>
            <a:ext cx="485640" cy="493920"/>
            <a:chOff x="7956720" y="6021360"/>
            <a:chExt cx="485640" cy="493920"/>
          </a:xfrm>
        </p:grpSpPr>
        <p:pic>
          <p:nvPicPr>
            <p:cNvPr id="1196" name="" descr=""/>
            <p:cNvPicPr/>
            <p:nvPr/>
          </p:nvPicPr>
          <p:blipFill>
            <a:blip r:embed="rId4"/>
            <a:stretch/>
          </p:blipFill>
          <p:spPr>
            <a:xfrm>
              <a:off x="7956720" y="6021360"/>
              <a:ext cx="4856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7" name=""/>
            <p:cNvSpPr/>
            <p:nvPr/>
          </p:nvSpPr>
          <p:spPr>
            <a:xfrm>
              <a:off x="7956720" y="6021360"/>
              <a:ext cx="485640" cy="493920"/>
            </a:xfrm>
            <a:custGeom>
              <a:avLst/>
              <a:gdLst>
                <a:gd name="textAreaLeft" fmla="*/ 360 w 485640"/>
                <a:gd name="textAreaRight" fmla="*/ 485280 w 485640"/>
                <a:gd name="textAreaTop" fmla="*/ 360 h 493920"/>
                <a:gd name="textAreaBottom" fmla="*/ 493560 h 493920"/>
              </a:gdLst>
              <a:ahLst/>
              <a:rect l="textAreaLeft" t="textAreaTop" r="textAreaRight" b="textAreaBottom"/>
              <a:pathLst>
                <a:path w="21600" h="21968">
                  <a:moveTo>
                    <a:pt x="70" y="0"/>
                  </a:moveTo>
                  <a:arcTo wR="70" hR="70" stAng="16200000" swAng="-5400000"/>
                  <a:lnTo>
                    <a:pt x="0" y="21898"/>
                  </a:lnTo>
                  <a:arcTo wR="70" hR="70" stAng="10800000" swAng="-5400000"/>
                  <a:lnTo>
                    <a:pt x="21530" y="21968"/>
                  </a:lnTo>
                  <a:arcTo wR="70" hR="70" stAng="5400000" swAng="-5400000"/>
                  <a:lnTo>
                    <a:pt x="21600" y="70"/>
                  </a:lnTo>
                  <a:arcTo wR="70" hR="7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8" name=""/>
          <p:cNvSpPr/>
          <p:nvPr/>
        </p:nvSpPr>
        <p:spPr>
          <a:xfrm flipH="1">
            <a:off x="-9360" y="907920"/>
            <a:ext cx="9162720" cy="180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7164360" y="6021360"/>
            <a:ext cx="485640" cy="493920"/>
            <a:chOff x="7164360" y="6021360"/>
            <a:chExt cx="485640" cy="493920"/>
          </a:xfrm>
        </p:grpSpPr>
        <p:pic>
          <p:nvPicPr>
            <p:cNvPr id="1200" name="" descr=""/>
            <p:cNvPicPr/>
            <p:nvPr/>
          </p:nvPicPr>
          <p:blipFill>
            <a:blip r:embed="rId5"/>
            <a:stretch/>
          </p:blipFill>
          <p:spPr>
            <a:xfrm>
              <a:off x="7164360" y="6021360"/>
              <a:ext cx="4856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1" name=""/>
            <p:cNvSpPr/>
            <p:nvPr/>
          </p:nvSpPr>
          <p:spPr>
            <a:xfrm>
              <a:off x="7164360" y="6021360"/>
              <a:ext cx="485640" cy="493920"/>
            </a:xfrm>
            <a:custGeom>
              <a:avLst/>
              <a:gdLst>
                <a:gd name="textAreaLeft" fmla="*/ 360 w 485640"/>
                <a:gd name="textAreaRight" fmla="*/ 485280 w 485640"/>
                <a:gd name="textAreaTop" fmla="*/ 360 h 493920"/>
                <a:gd name="textAreaBottom" fmla="*/ 493560 h 493920"/>
              </a:gdLst>
              <a:ahLst/>
              <a:rect l="textAreaLeft" t="textAreaTop" r="textAreaRight" b="textAreaBottom"/>
              <a:pathLst>
                <a:path w="21600" h="21968">
                  <a:moveTo>
                    <a:pt x="70" y="0"/>
                  </a:moveTo>
                  <a:arcTo wR="70" hR="70" stAng="16200000" swAng="-5400000"/>
                  <a:lnTo>
                    <a:pt x="0" y="21898"/>
                  </a:lnTo>
                  <a:arcTo wR="70" hR="70" stAng="10800000" swAng="-5400000"/>
                  <a:lnTo>
                    <a:pt x="21530" y="21968"/>
                  </a:lnTo>
                  <a:arcTo wR="70" hR="70" stAng="5400000" swAng="-5400000"/>
                  <a:lnTo>
                    <a:pt x="21600" y="70"/>
                  </a:lnTo>
                  <a:arcTo wR="70" hR="7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468360" y="1125360"/>
            <a:ext cx="1860480" cy="383400"/>
            <a:chOff x="468360" y="1125360"/>
            <a:chExt cx="1860480" cy="383400"/>
          </a:xfrm>
        </p:grpSpPr>
        <p:sp>
          <p:nvSpPr>
            <p:cNvPr id="1203" name=""/>
            <p:cNvSpPr/>
            <p:nvPr/>
          </p:nvSpPr>
          <p:spPr>
            <a:xfrm>
              <a:off x="468360" y="1125360"/>
              <a:ext cx="1860480" cy="37656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4" name=""/>
            <p:cNvGrpSpPr/>
            <p:nvPr/>
          </p:nvGrpSpPr>
          <p:grpSpPr>
            <a:xfrm>
              <a:off x="468360" y="1125360"/>
              <a:ext cx="1854360" cy="383400"/>
              <a:chOff x="468360" y="1125360"/>
              <a:chExt cx="1854360" cy="383400"/>
            </a:xfrm>
          </p:grpSpPr>
          <p:sp>
            <p:nvSpPr>
              <p:cNvPr id="1205" name=""/>
              <p:cNvSpPr/>
              <p:nvPr/>
            </p:nvSpPr>
            <p:spPr>
              <a:xfrm>
                <a:off x="468360" y="1125360"/>
                <a:ext cx="185436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6" name=""/>
              <p:cNvGrpSpPr/>
              <p:nvPr/>
            </p:nvGrpSpPr>
            <p:grpSpPr>
              <a:xfrm>
                <a:off x="468360" y="1125360"/>
                <a:ext cx="1849680" cy="383400"/>
                <a:chOff x="468360" y="1125360"/>
                <a:chExt cx="1849680" cy="38340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468360" y="1125360"/>
                  <a:ext cx="1849680" cy="36540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8" name=""/>
                <p:cNvGrpSpPr/>
                <p:nvPr/>
              </p:nvGrpSpPr>
              <p:grpSpPr>
                <a:xfrm>
                  <a:off x="468360" y="1125360"/>
                  <a:ext cx="1846800" cy="383400"/>
                  <a:chOff x="468360" y="1125360"/>
                  <a:chExt cx="1846800" cy="383400"/>
                </a:xfrm>
              </p:grpSpPr>
              <p:sp>
                <p:nvSpPr>
                  <p:cNvPr id="1209" name=""/>
                  <p:cNvSpPr/>
                  <p:nvPr/>
                </p:nvSpPr>
                <p:spPr>
                  <a:xfrm>
                    <a:off x="468360" y="1125360"/>
                    <a:ext cx="1846800" cy="36216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10" name=""/>
                  <p:cNvGrpSpPr/>
                  <p:nvPr/>
                </p:nvGrpSpPr>
                <p:grpSpPr>
                  <a:xfrm>
                    <a:off x="468360" y="1125360"/>
                    <a:ext cx="1845360" cy="383400"/>
                    <a:chOff x="468360" y="1125360"/>
                    <a:chExt cx="1845360" cy="383400"/>
                  </a:xfrm>
                </p:grpSpPr>
                <p:sp>
                  <p:nvSpPr>
                    <p:cNvPr id="1211" name=""/>
                    <p:cNvSpPr/>
                    <p:nvPr/>
                  </p:nvSpPr>
                  <p:spPr>
                    <a:xfrm>
                      <a:off x="468360" y="1125360"/>
                      <a:ext cx="1845360" cy="36036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>
                      <a:off x="517680" y="1125360"/>
                      <a:ext cx="174672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нта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213" name=""/>
          <p:cNvGrpSpPr/>
          <p:nvPr/>
        </p:nvGrpSpPr>
        <p:grpSpPr>
          <a:xfrm>
            <a:off x="1332000" y="1700280"/>
            <a:ext cx="3932280" cy="3403440"/>
            <a:chOff x="1332000" y="1700280"/>
            <a:chExt cx="3932280" cy="3403440"/>
          </a:xfrm>
        </p:grpSpPr>
        <p:sp>
          <p:nvSpPr>
            <p:cNvPr id="1214" name=""/>
            <p:cNvSpPr/>
            <p:nvPr/>
          </p:nvSpPr>
          <p:spPr>
            <a:xfrm>
              <a:off x="1332000" y="1700280"/>
              <a:ext cx="3932280" cy="3403440"/>
            </a:xfrm>
            <a:prstGeom prst="roundRect">
              <a:avLst>
                <a:gd name="adj" fmla="val 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1332000" y="1700280"/>
              <a:ext cx="3929040" cy="3400200"/>
              <a:chOff x="1332000" y="1700280"/>
              <a:chExt cx="3929040" cy="3400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1332000" y="1700280"/>
                <a:ext cx="3929040" cy="3400200"/>
              </a:xfrm>
              <a:prstGeom prst="roundRect">
                <a:avLst>
                  <a:gd name="adj" fmla="val 4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7" name=""/>
              <p:cNvGrpSpPr/>
              <p:nvPr/>
            </p:nvGrpSpPr>
            <p:grpSpPr>
              <a:xfrm>
                <a:off x="1332000" y="1700280"/>
                <a:ext cx="3927240" cy="3398760"/>
                <a:chOff x="1332000" y="1700280"/>
                <a:chExt cx="3927240" cy="339876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1332000" y="1700280"/>
                  <a:ext cx="3927240" cy="3398760"/>
                </a:xfrm>
                <a:prstGeom prst="roundRect">
                  <a:avLst>
                    <a:gd name="adj" fmla="val 4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9" name=""/>
                <p:cNvGrpSpPr/>
                <p:nvPr/>
              </p:nvGrpSpPr>
              <p:grpSpPr>
                <a:xfrm>
                  <a:off x="1332000" y="1700280"/>
                  <a:ext cx="3925800" cy="3137400"/>
                  <a:chOff x="1332000" y="1700280"/>
                  <a:chExt cx="3925800" cy="3137400"/>
                </a:xfrm>
              </p:grpSpPr>
              <p:sp>
                <p:nvSpPr>
                  <p:cNvPr id="1220" name=""/>
                  <p:cNvSpPr/>
                  <p:nvPr/>
                </p:nvSpPr>
                <p:spPr>
                  <a:xfrm>
                    <a:off x="1332000" y="1700280"/>
                    <a:ext cx="3925800" cy="3063600"/>
                  </a:xfrm>
                  <a:prstGeom prst="roundRect">
                    <a:avLst>
                      <a:gd name="adj" fmla="val 5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1332000" y="1700280"/>
                    <a:ext cx="3925800" cy="3137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ts val="1936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Tahoma"/>
                      </a:rPr>
                      <a:t>ОАО “Телеканал “ТОНИС”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ru-RU" sz="1500" spc="-1" strike="noStrike">
                        <a:solidFill>
                          <a:srgbClr val="000000"/>
                        </a:solidFill>
                        <a:latin typeface="Tahoma"/>
                      </a:rPr>
                      <a:t>40-б, ул. Ушинского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Tahoma"/>
                      </a:rPr>
                      <a:t>03</a:t>
                    </a:r>
                    <a:r>
                      <a:rPr b="1" lang="ru-RU" sz="1500" spc="-1" strike="noStrike">
                        <a:solidFill>
                          <a:srgbClr val="000000"/>
                        </a:solidFill>
                        <a:latin typeface="Tahoma"/>
                      </a:rPr>
                      <a:t>151</a:t>
                    </a: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Tahoma"/>
                      </a:rPr>
                      <a:t>, Киев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Tahoma"/>
                      </a:rPr>
                      <a:t>Украина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Tahoma"/>
                      </a:rPr>
                      <a:t>+380 44 </a:t>
                    </a:r>
                    <a:r>
                      <a:rPr b="1" lang="ru-RU" sz="1500" spc="-1" strike="noStrike">
                        <a:solidFill>
                          <a:srgbClr val="000000"/>
                        </a:solidFill>
                        <a:latin typeface="Tahoma"/>
                      </a:rPr>
                      <a:t>390 54 4</a:t>
                    </a:r>
                    <a:r>
                      <a:rPr b="1" lang="en-US" sz="1500" spc="-1" strike="noStrike">
                        <a:solidFill>
                          <a:srgbClr val="000000"/>
                        </a:solidFill>
                        <a:latin typeface="Tahoma"/>
                      </a:rPr>
                      <a:t>0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Tahoma"/>
                      </a:rPr>
                      <a:t>+380 44 </a:t>
                    </a:r>
                    <a:r>
                      <a:rPr b="1" lang="ru-RU" sz="1500" spc="-1" strike="noStrike">
                        <a:solidFill>
                          <a:srgbClr val="000000"/>
                        </a:solidFill>
                        <a:latin typeface="Tahoma"/>
                      </a:rPr>
                      <a:t>390 54 4</a:t>
                    </a:r>
                    <a:r>
                      <a:rPr b="1" lang="en-US" sz="1500" spc="-1" strike="noStrike">
                        <a:solidFill>
                          <a:srgbClr val="000000"/>
                        </a:solidFill>
                        <a:latin typeface="Tahoma"/>
                      </a:rPr>
                      <a:t>6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Tahoma"/>
                      </a:rPr>
                      <a:t>E-mail: </a:t>
                    </a:r>
                    <a:r>
                      <a:rPr b="0" lang="en-US" sz="1500" spc="-1" strike="noStrike" u="sng">
                        <a:solidFill>
                          <a:srgbClr val="ccccff"/>
                        </a:solidFill>
                        <a:uFillTx/>
                        <a:latin typeface="Tahoma"/>
                        <a:hlinkClick r:id="rId6"/>
                      </a:rPr>
                      <a:t>tonis</a:t>
                    </a:r>
                    <a:r>
                      <a:rPr b="0" lang="en-GB" sz="1500" spc="-1" strike="noStrike" u="sng">
                        <a:solidFill>
                          <a:srgbClr val="ccccff"/>
                        </a:solidFill>
                        <a:uFillTx/>
                        <a:latin typeface="Tahoma"/>
                        <a:hlinkClick r:id="rId7"/>
                      </a:rPr>
                      <a:t>@tonis.u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ru-RU" sz="1500" spc="-1" strike="noStrike">
                        <a:solidFill>
                          <a:srgbClr val="000000"/>
                        </a:solidFill>
                        <a:latin typeface="Tahoma"/>
                      </a:rPr>
                      <a:t>для писем: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ru-RU" sz="1500" spc="-1" strike="noStrike">
                        <a:solidFill>
                          <a:srgbClr val="000000"/>
                        </a:solidFill>
                        <a:latin typeface="Tahoma"/>
                      </a:rPr>
                      <a:t>а/я 102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ru-RU" sz="1500" spc="-1" strike="noStrike">
                        <a:solidFill>
                          <a:srgbClr val="000000"/>
                        </a:solidFill>
                        <a:latin typeface="Tahoma"/>
                      </a:rPr>
                      <a:t>03151, Киев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rot="10800000">
            <a:off x="0" y="5743080"/>
            <a:ext cx="9144000" cy="1123920"/>
          </a:xfrm>
          <a:prstGeom prst="roundRect">
            <a:avLst>
              <a:gd name="adj" fmla="val 13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5229360"/>
            <a:ext cx="42116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24000" y="1052640"/>
            <a:ext cx="3125520" cy="383400"/>
            <a:chOff x="324000" y="1052640"/>
            <a:chExt cx="3125520" cy="383400"/>
          </a:xfrm>
        </p:grpSpPr>
        <p:sp>
          <p:nvSpPr>
            <p:cNvPr id="97" name=""/>
            <p:cNvSpPr/>
            <p:nvPr/>
          </p:nvSpPr>
          <p:spPr>
            <a:xfrm>
              <a:off x="324000" y="1052640"/>
              <a:ext cx="312552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324000" y="1052640"/>
              <a:ext cx="3119040" cy="383400"/>
              <a:chOff x="324000" y="1052640"/>
              <a:chExt cx="3119040" cy="383400"/>
            </a:xfrm>
          </p:grpSpPr>
          <p:sp>
            <p:nvSpPr>
              <p:cNvPr id="99" name=""/>
              <p:cNvSpPr/>
              <p:nvPr/>
            </p:nvSpPr>
            <p:spPr>
              <a:xfrm>
                <a:off x="324000" y="1052640"/>
                <a:ext cx="311904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324000" y="1052640"/>
                <a:ext cx="3114000" cy="383400"/>
                <a:chOff x="324000" y="1052640"/>
                <a:chExt cx="3114000" cy="3834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24000" y="1052640"/>
                  <a:ext cx="3114000" cy="36540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324000" y="1052640"/>
                  <a:ext cx="3112200" cy="383400"/>
                  <a:chOff x="324000" y="1052640"/>
                  <a:chExt cx="3112200" cy="3834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324000" y="1052640"/>
                    <a:ext cx="3112200" cy="36216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324000" y="1052640"/>
                    <a:ext cx="3110400" cy="383400"/>
                    <a:chOff x="324000" y="1052640"/>
                    <a:chExt cx="3110400" cy="38340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324000" y="1052640"/>
                      <a:ext cx="3110400" cy="36036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430200" y="1052640"/>
                      <a:ext cx="289584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раткая 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7" name=""/>
          <p:cNvSpPr/>
          <p:nvPr/>
        </p:nvSpPr>
        <p:spPr>
          <a:xfrm>
            <a:off x="5761080" y="5445000"/>
            <a:ext cx="33829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-9360" y="5734080"/>
            <a:ext cx="9162720" cy="144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956720" y="6021360"/>
            <a:ext cx="485640" cy="493920"/>
            <a:chOff x="7956720" y="6021360"/>
            <a:chExt cx="485640" cy="4939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7956720" y="6021360"/>
              <a:ext cx="4856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956720" y="6021360"/>
              <a:ext cx="485640" cy="493920"/>
            </a:xfrm>
            <a:custGeom>
              <a:avLst/>
              <a:gdLst>
                <a:gd name="textAreaLeft" fmla="*/ 360 w 485640"/>
                <a:gd name="textAreaRight" fmla="*/ 485280 w 485640"/>
                <a:gd name="textAreaTop" fmla="*/ 360 h 493920"/>
                <a:gd name="textAreaBottom" fmla="*/ 493560 h 493920"/>
              </a:gdLst>
              <a:ahLst/>
              <a:rect l="textAreaLeft" t="textAreaTop" r="textAreaRight" b="textAreaBottom"/>
              <a:pathLst>
                <a:path w="21600" h="21968">
                  <a:moveTo>
                    <a:pt x="70" y="0"/>
                  </a:moveTo>
                  <a:arcTo wR="70" hR="70" stAng="16200000" swAng="-5400000"/>
                  <a:lnTo>
                    <a:pt x="0" y="21898"/>
                  </a:lnTo>
                  <a:arcTo wR="70" hR="70" stAng="10800000" swAng="-5400000"/>
                  <a:lnTo>
                    <a:pt x="21530" y="21968"/>
                  </a:lnTo>
                  <a:arcTo wR="70" hR="70" stAng="5400000" swAng="-5400000"/>
                  <a:lnTo>
                    <a:pt x="21600" y="70"/>
                  </a:lnTo>
                  <a:arcTo wR="70" hR="7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164360" y="6021360"/>
            <a:ext cx="485640" cy="493920"/>
            <a:chOff x="7164360" y="6021360"/>
            <a:chExt cx="485640" cy="49392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7164360" y="6021360"/>
              <a:ext cx="4856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164360" y="6021360"/>
              <a:ext cx="485640" cy="493920"/>
            </a:xfrm>
            <a:custGeom>
              <a:avLst/>
              <a:gdLst>
                <a:gd name="textAreaLeft" fmla="*/ 360 w 485640"/>
                <a:gd name="textAreaRight" fmla="*/ 485280 w 485640"/>
                <a:gd name="textAreaTop" fmla="*/ 360 h 493920"/>
                <a:gd name="textAreaBottom" fmla="*/ 493560 h 493920"/>
              </a:gdLst>
              <a:ahLst/>
              <a:rect l="textAreaLeft" t="textAreaTop" r="textAreaRight" b="textAreaBottom"/>
              <a:pathLst>
                <a:path w="21600" h="21968">
                  <a:moveTo>
                    <a:pt x="70" y="0"/>
                  </a:moveTo>
                  <a:arcTo wR="70" hR="70" stAng="16200000" swAng="-5400000"/>
                  <a:lnTo>
                    <a:pt x="0" y="21898"/>
                  </a:lnTo>
                  <a:arcTo wR="70" hR="70" stAng="10800000" swAng="-5400000"/>
                  <a:lnTo>
                    <a:pt x="21530" y="21968"/>
                  </a:lnTo>
                  <a:arcTo wR="70" hR="70" stAng="5400000" swAng="-5400000"/>
                  <a:lnTo>
                    <a:pt x="21600" y="70"/>
                  </a:lnTo>
                  <a:arcTo wR="70" hR="7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155000" y="115920"/>
            <a:ext cx="1660320" cy="482040"/>
            <a:chOff x="7155000" y="115920"/>
            <a:chExt cx="1660320" cy="482040"/>
          </a:xfrm>
        </p:grpSpPr>
        <p:sp>
          <p:nvSpPr>
            <p:cNvPr id="117" name=""/>
            <p:cNvSpPr/>
            <p:nvPr/>
          </p:nvSpPr>
          <p:spPr>
            <a:xfrm>
              <a:off x="7155000" y="115920"/>
              <a:ext cx="1660320" cy="4665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155000" y="115920"/>
              <a:ext cx="1655640" cy="482040"/>
              <a:chOff x="7155000" y="115920"/>
              <a:chExt cx="1655640" cy="482040"/>
            </a:xfrm>
          </p:grpSpPr>
          <p:sp>
            <p:nvSpPr>
              <p:cNvPr id="119" name=""/>
              <p:cNvSpPr/>
              <p:nvPr/>
            </p:nvSpPr>
            <p:spPr>
              <a:xfrm>
                <a:off x="7155000" y="115920"/>
                <a:ext cx="1655640" cy="46188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7155000" y="115920"/>
                <a:ext cx="1652400" cy="482040"/>
                <a:chOff x="7155000" y="115920"/>
                <a:chExt cx="1652400" cy="4820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155000" y="115920"/>
                  <a:ext cx="1652400" cy="45864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" name=""/>
                <p:cNvGrpSpPr/>
                <p:nvPr/>
              </p:nvGrpSpPr>
              <p:grpSpPr>
                <a:xfrm>
                  <a:off x="7155000" y="115920"/>
                  <a:ext cx="1650960" cy="482040"/>
                  <a:chOff x="7155000" y="115920"/>
                  <a:chExt cx="1650960" cy="48204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7155000" y="115920"/>
                    <a:ext cx="1650960" cy="45720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7155000" y="115920"/>
                    <a:ext cx="1650960" cy="482040"/>
                    <a:chOff x="7155000" y="115920"/>
                    <a:chExt cx="1650960" cy="48204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7155000" y="115920"/>
                      <a:ext cx="1650960" cy="4572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7182360" y="115920"/>
                      <a:ext cx="159588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 О Н И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7" name=""/>
          <p:cNvSpPr/>
          <p:nvPr/>
        </p:nvSpPr>
        <p:spPr>
          <a:xfrm>
            <a:off x="7164360" y="44460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1773360"/>
            <a:ext cx="7993080" cy="31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1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ahoma"/>
              </a:rPr>
              <a:t>Телекомпания ТОНИС создана в 1989 году 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0" lang="en-GB" sz="1300" spc="-1" strike="noStrike">
                <a:solidFill>
                  <a:srgbClr val="000000"/>
                </a:solidFill>
                <a:latin typeface="Tahoma"/>
              </a:rPr>
              <a:t>центральный офис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м</a:t>
            </a:r>
            <a:r>
              <a:rPr b="0" lang="en-GB" sz="1300" spc="-1" strike="noStrike">
                <a:solidFill>
                  <a:srgbClr val="000000"/>
                </a:solidFill>
                <a:latin typeface="Tahoma"/>
              </a:rPr>
              <a:t> в Николаев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е</a:t>
            </a:r>
            <a:r>
              <a:rPr b="0" lang="en-GB" sz="1300" spc="-1" strike="noStrike">
                <a:solidFill>
                  <a:srgbClr val="000000"/>
                </a:solidFill>
                <a:latin typeface="Tahoma"/>
              </a:rPr>
              <a:t>. ТОНИС получил лицензию на спутниковый телеканал WORLDNE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1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ahoma"/>
              </a:rPr>
              <a:t>В 1992 году главный офис переместился в Киев, канал автоматически начал вещание в Киеве. Параллельно начинается экспериментальное спутниковое вещание в рамках проекта "Славянский канал". ТОНИС получил право на вещание в 12 областях Украины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ahoma"/>
              </a:rPr>
              <a:t>В период с 1997 по 2000 год получил право на вещание по всей территории Украины с использованием всех видов сигнала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ahoma"/>
              </a:rPr>
              <a:t>С марта 2002 года ТК ТОНИС начал вещать в обновленном вид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ahoma"/>
              </a:rPr>
              <a:t>В июне 2003 года новая команда ТОНИСа поставила себе цель вывести канал во второй эшелон украинского телерынка. 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Созданы подразделения маркетинга, рекламы и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PR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, разработано концепцию собственного производства, улучшено региональную политику развития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Телеканал ТОНИС на сегодняшний день входит в состав медиа-холдинга «Медиа Дом»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 rot="10800000">
            <a:off x="0" y="5735160"/>
            <a:ext cx="9144000" cy="1123920"/>
          </a:xfrm>
          <a:prstGeom prst="roundRect">
            <a:avLst>
              <a:gd name="adj" fmla="val 13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5229360"/>
            <a:ext cx="46785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24000" y="1197000"/>
            <a:ext cx="2444760" cy="383400"/>
            <a:chOff x="324000" y="1197000"/>
            <a:chExt cx="2444760" cy="383400"/>
          </a:xfrm>
        </p:grpSpPr>
        <p:sp>
          <p:nvSpPr>
            <p:cNvPr id="133" name=""/>
            <p:cNvSpPr/>
            <p:nvPr/>
          </p:nvSpPr>
          <p:spPr>
            <a:xfrm>
              <a:off x="324000" y="1197000"/>
              <a:ext cx="244476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24000" y="1197000"/>
              <a:ext cx="2438280" cy="383400"/>
              <a:chOff x="324000" y="1197000"/>
              <a:chExt cx="2438280" cy="383400"/>
            </a:xfrm>
          </p:grpSpPr>
          <p:sp>
            <p:nvSpPr>
              <p:cNvPr id="135" name=""/>
              <p:cNvSpPr/>
              <p:nvPr/>
            </p:nvSpPr>
            <p:spPr>
              <a:xfrm>
                <a:off x="324000" y="1197000"/>
                <a:ext cx="243828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324000" y="1197000"/>
                <a:ext cx="2433600" cy="383400"/>
                <a:chOff x="324000" y="1197000"/>
                <a:chExt cx="2433600" cy="3834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24000" y="1197000"/>
                  <a:ext cx="2433600" cy="36540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324000" y="1197000"/>
                  <a:ext cx="2430360" cy="383400"/>
                  <a:chOff x="324000" y="1197000"/>
                  <a:chExt cx="2430360" cy="38340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324000" y="1197000"/>
                    <a:ext cx="2430360" cy="36252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324000" y="1197000"/>
                    <a:ext cx="2428560" cy="383400"/>
                    <a:chOff x="324000" y="1197000"/>
                    <a:chExt cx="2428560" cy="38340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324000" y="1197000"/>
                      <a:ext cx="2428560" cy="36108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384480" y="1197000"/>
                      <a:ext cx="230760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Менедж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43" name=""/>
          <p:cNvSpPr/>
          <p:nvPr/>
        </p:nvSpPr>
        <p:spPr>
          <a:xfrm>
            <a:off x="5435640" y="5445000"/>
            <a:ext cx="33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-9360" y="5734080"/>
            <a:ext cx="9162720" cy="144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956720" y="6021360"/>
            <a:ext cx="485640" cy="493920"/>
            <a:chOff x="7956720" y="6021360"/>
            <a:chExt cx="485640" cy="49392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7956720" y="6021360"/>
              <a:ext cx="4856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956720" y="6021360"/>
              <a:ext cx="485640" cy="493920"/>
            </a:xfrm>
            <a:custGeom>
              <a:avLst/>
              <a:gdLst>
                <a:gd name="textAreaLeft" fmla="*/ 360 w 485640"/>
                <a:gd name="textAreaRight" fmla="*/ 485280 w 485640"/>
                <a:gd name="textAreaTop" fmla="*/ 360 h 493920"/>
                <a:gd name="textAreaBottom" fmla="*/ 493560 h 493920"/>
              </a:gdLst>
              <a:ahLst/>
              <a:rect l="textAreaLeft" t="textAreaTop" r="textAreaRight" b="textAreaBottom"/>
              <a:pathLst>
                <a:path w="21600" h="21968">
                  <a:moveTo>
                    <a:pt x="70" y="0"/>
                  </a:moveTo>
                  <a:arcTo wR="70" hR="70" stAng="16200000" swAng="-5400000"/>
                  <a:lnTo>
                    <a:pt x="0" y="21898"/>
                  </a:lnTo>
                  <a:arcTo wR="70" hR="70" stAng="10800000" swAng="-5400000"/>
                  <a:lnTo>
                    <a:pt x="21530" y="21968"/>
                  </a:lnTo>
                  <a:arcTo wR="70" hR="70" stAng="5400000" swAng="-5400000"/>
                  <a:lnTo>
                    <a:pt x="21600" y="70"/>
                  </a:lnTo>
                  <a:arcTo wR="70" hR="7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164360" y="6021360"/>
            <a:ext cx="485640" cy="493920"/>
            <a:chOff x="7164360" y="6021360"/>
            <a:chExt cx="485640" cy="493920"/>
          </a:xfrm>
        </p:grpSpPr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7164360" y="6021360"/>
              <a:ext cx="4856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164360" y="6021360"/>
              <a:ext cx="485640" cy="493920"/>
            </a:xfrm>
            <a:custGeom>
              <a:avLst/>
              <a:gdLst>
                <a:gd name="textAreaLeft" fmla="*/ 360 w 485640"/>
                <a:gd name="textAreaRight" fmla="*/ 485280 w 485640"/>
                <a:gd name="textAreaTop" fmla="*/ 360 h 493920"/>
                <a:gd name="textAreaBottom" fmla="*/ 493560 h 493920"/>
              </a:gdLst>
              <a:ahLst/>
              <a:rect l="textAreaLeft" t="textAreaTop" r="textAreaRight" b="textAreaBottom"/>
              <a:pathLst>
                <a:path w="21600" h="21968">
                  <a:moveTo>
                    <a:pt x="70" y="0"/>
                  </a:moveTo>
                  <a:arcTo wR="70" hR="70" stAng="16200000" swAng="-5400000"/>
                  <a:lnTo>
                    <a:pt x="0" y="21898"/>
                  </a:lnTo>
                  <a:arcTo wR="70" hR="70" stAng="10800000" swAng="-5400000"/>
                  <a:lnTo>
                    <a:pt x="21530" y="21968"/>
                  </a:lnTo>
                  <a:arcTo wR="70" hR="70" stAng="5400000" swAng="-5400000"/>
                  <a:lnTo>
                    <a:pt x="21600" y="70"/>
                  </a:lnTo>
                  <a:arcTo wR="70" hR="7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-119160"/>
            <a:ext cx="9144000" cy="90828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7155000" y="115920"/>
            <a:ext cx="1660320" cy="482040"/>
            <a:chOff x="7155000" y="115920"/>
            <a:chExt cx="1660320" cy="482040"/>
          </a:xfrm>
        </p:grpSpPr>
        <p:sp>
          <p:nvSpPr>
            <p:cNvPr id="153" name=""/>
            <p:cNvSpPr/>
            <p:nvPr/>
          </p:nvSpPr>
          <p:spPr>
            <a:xfrm>
              <a:off x="7155000" y="115920"/>
              <a:ext cx="1660320" cy="4665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7155000" y="115920"/>
              <a:ext cx="1655640" cy="482040"/>
              <a:chOff x="7155000" y="115920"/>
              <a:chExt cx="1655640" cy="482040"/>
            </a:xfrm>
          </p:grpSpPr>
          <p:sp>
            <p:nvSpPr>
              <p:cNvPr id="155" name=""/>
              <p:cNvSpPr/>
              <p:nvPr/>
            </p:nvSpPr>
            <p:spPr>
              <a:xfrm>
                <a:off x="7155000" y="115920"/>
                <a:ext cx="1655640" cy="46188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7155000" y="115920"/>
                <a:ext cx="1652400" cy="482040"/>
                <a:chOff x="7155000" y="115920"/>
                <a:chExt cx="1652400" cy="4820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155000" y="115920"/>
                  <a:ext cx="1652400" cy="45864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" name=""/>
                <p:cNvGrpSpPr/>
                <p:nvPr/>
              </p:nvGrpSpPr>
              <p:grpSpPr>
                <a:xfrm>
                  <a:off x="7155000" y="115920"/>
                  <a:ext cx="1650960" cy="482040"/>
                  <a:chOff x="7155000" y="115920"/>
                  <a:chExt cx="1650960" cy="48204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7155000" y="115920"/>
                    <a:ext cx="1650960" cy="45720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7155000" y="115920"/>
                    <a:ext cx="1650960" cy="482040"/>
                    <a:chOff x="7155000" y="115920"/>
                    <a:chExt cx="1650960" cy="48204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7155000" y="115920"/>
                      <a:ext cx="1650960" cy="4572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7182360" y="115920"/>
                      <a:ext cx="159588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 О Н И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63" name=""/>
          <p:cNvSpPr/>
          <p:nvPr/>
        </p:nvSpPr>
        <p:spPr>
          <a:xfrm>
            <a:off x="7164360" y="44460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932360" y="3860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седатель Правления ОАО «Телеканал «ТОНИС» – Дмитрий ТУЗ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900000" y="2349360"/>
            <a:ext cx="317520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0" y="5743080"/>
            <a:ext cx="9144000" cy="1123920"/>
          </a:xfrm>
          <a:prstGeom prst="roundRect">
            <a:avLst>
              <a:gd name="adj" fmla="val 13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27640" y="5229360"/>
            <a:ext cx="42116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24000" y="1052640"/>
            <a:ext cx="4215960" cy="383400"/>
            <a:chOff x="324000" y="1052640"/>
            <a:chExt cx="4215960" cy="383400"/>
          </a:xfrm>
        </p:grpSpPr>
        <p:sp>
          <p:nvSpPr>
            <p:cNvPr id="171" name=""/>
            <p:cNvSpPr/>
            <p:nvPr/>
          </p:nvSpPr>
          <p:spPr>
            <a:xfrm>
              <a:off x="324000" y="1052640"/>
              <a:ext cx="3127320" cy="3776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24000" y="1052640"/>
              <a:ext cx="4215960" cy="383400"/>
              <a:chOff x="324000" y="1052640"/>
              <a:chExt cx="4215960" cy="383400"/>
            </a:xfrm>
          </p:grpSpPr>
          <p:sp>
            <p:nvSpPr>
              <p:cNvPr id="173" name=""/>
              <p:cNvSpPr/>
              <p:nvPr/>
            </p:nvSpPr>
            <p:spPr>
              <a:xfrm>
                <a:off x="324000" y="1052640"/>
                <a:ext cx="3122640" cy="37296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24000" y="1052640"/>
                <a:ext cx="4215960" cy="383400"/>
                <a:chOff x="324000" y="1052640"/>
                <a:chExt cx="4215960" cy="3834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24000" y="1052640"/>
                  <a:ext cx="3119400" cy="369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" name=""/>
                <p:cNvGrpSpPr/>
                <p:nvPr/>
              </p:nvGrpSpPr>
              <p:grpSpPr>
                <a:xfrm>
                  <a:off x="324000" y="1052640"/>
                  <a:ext cx="4215960" cy="383400"/>
                  <a:chOff x="324000" y="1052640"/>
                  <a:chExt cx="4215960" cy="38340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324000" y="1052640"/>
                    <a:ext cx="3119400" cy="36828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324000" y="1052640"/>
                    <a:ext cx="4215960" cy="383400"/>
                    <a:chOff x="324000" y="1052640"/>
                    <a:chExt cx="4215960" cy="38340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324000" y="1052640"/>
                      <a:ext cx="3119400" cy="36828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486000" y="1052640"/>
                      <a:ext cx="405396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Региональное разви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81" name=""/>
          <p:cNvSpPr/>
          <p:nvPr/>
        </p:nvSpPr>
        <p:spPr>
          <a:xfrm>
            <a:off x="5761080" y="5445000"/>
            <a:ext cx="33829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-9360" y="5734080"/>
            <a:ext cx="9162720" cy="144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956720" y="6021360"/>
            <a:ext cx="485640" cy="493920"/>
            <a:chOff x="7956720" y="6021360"/>
            <a:chExt cx="485640" cy="493920"/>
          </a:xfrm>
        </p:grpSpPr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7956720" y="6021360"/>
              <a:ext cx="4856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956720" y="6021360"/>
              <a:ext cx="485640" cy="493920"/>
            </a:xfrm>
            <a:custGeom>
              <a:avLst/>
              <a:gdLst>
                <a:gd name="textAreaLeft" fmla="*/ 360 w 485640"/>
                <a:gd name="textAreaRight" fmla="*/ 485280 w 485640"/>
                <a:gd name="textAreaTop" fmla="*/ 360 h 493920"/>
                <a:gd name="textAreaBottom" fmla="*/ 493560 h 493920"/>
              </a:gdLst>
              <a:ahLst/>
              <a:rect l="textAreaLeft" t="textAreaTop" r="textAreaRight" b="textAreaBottom"/>
              <a:pathLst>
                <a:path w="21600" h="21968">
                  <a:moveTo>
                    <a:pt x="70" y="0"/>
                  </a:moveTo>
                  <a:arcTo wR="70" hR="70" stAng="16200000" swAng="-5400000"/>
                  <a:lnTo>
                    <a:pt x="0" y="21898"/>
                  </a:lnTo>
                  <a:arcTo wR="70" hR="70" stAng="10800000" swAng="-5400000"/>
                  <a:lnTo>
                    <a:pt x="21530" y="21968"/>
                  </a:lnTo>
                  <a:arcTo wR="70" hR="70" stAng="5400000" swAng="-5400000"/>
                  <a:lnTo>
                    <a:pt x="21600" y="70"/>
                  </a:lnTo>
                  <a:arcTo wR="70" hR="7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164360" y="6021360"/>
            <a:ext cx="485640" cy="493920"/>
            <a:chOff x="7164360" y="6021360"/>
            <a:chExt cx="485640" cy="493920"/>
          </a:xfrm>
        </p:grpSpPr>
        <p:pic>
          <p:nvPicPr>
            <p:cNvPr id="187" name="" descr=""/>
            <p:cNvPicPr/>
            <p:nvPr/>
          </p:nvPicPr>
          <p:blipFill>
            <a:blip r:embed="rId3"/>
            <a:stretch/>
          </p:blipFill>
          <p:spPr>
            <a:xfrm>
              <a:off x="7164360" y="6021360"/>
              <a:ext cx="4856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7164360" y="6021360"/>
              <a:ext cx="485640" cy="493920"/>
            </a:xfrm>
            <a:custGeom>
              <a:avLst/>
              <a:gdLst>
                <a:gd name="textAreaLeft" fmla="*/ 360 w 485640"/>
                <a:gd name="textAreaRight" fmla="*/ 485280 w 485640"/>
                <a:gd name="textAreaTop" fmla="*/ 360 h 493920"/>
                <a:gd name="textAreaBottom" fmla="*/ 493560 h 493920"/>
              </a:gdLst>
              <a:ahLst/>
              <a:rect l="textAreaLeft" t="textAreaTop" r="textAreaRight" b="textAreaBottom"/>
              <a:pathLst>
                <a:path w="21600" h="21968">
                  <a:moveTo>
                    <a:pt x="70" y="0"/>
                  </a:moveTo>
                  <a:arcTo wR="70" hR="70" stAng="16200000" swAng="-5400000"/>
                  <a:lnTo>
                    <a:pt x="0" y="21898"/>
                  </a:lnTo>
                  <a:arcTo wR="70" hR="70" stAng="10800000" swAng="-5400000"/>
                  <a:lnTo>
                    <a:pt x="21530" y="21968"/>
                  </a:lnTo>
                  <a:arcTo wR="70" hR="70" stAng="5400000" swAng="-5400000"/>
                  <a:lnTo>
                    <a:pt x="21600" y="70"/>
                  </a:lnTo>
                  <a:arcTo wR="70" hR="7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7155000" y="115920"/>
            <a:ext cx="1660320" cy="482040"/>
            <a:chOff x="7155000" y="115920"/>
            <a:chExt cx="1660320" cy="482040"/>
          </a:xfrm>
        </p:grpSpPr>
        <p:sp>
          <p:nvSpPr>
            <p:cNvPr id="191" name=""/>
            <p:cNvSpPr/>
            <p:nvPr/>
          </p:nvSpPr>
          <p:spPr>
            <a:xfrm>
              <a:off x="7155000" y="115920"/>
              <a:ext cx="1660320" cy="4665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7155000" y="115920"/>
              <a:ext cx="1655640" cy="482040"/>
              <a:chOff x="7155000" y="115920"/>
              <a:chExt cx="1655640" cy="482040"/>
            </a:xfrm>
          </p:grpSpPr>
          <p:sp>
            <p:nvSpPr>
              <p:cNvPr id="193" name=""/>
              <p:cNvSpPr/>
              <p:nvPr/>
            </p:nvSpPr>
            <p:spPr>
              <a:xfrm>
                <a:off x="7155000" y="115920"/>
                <a:ext cx="1655640" cy="46188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7155000" y="115920"/>
                <a:ext cx="1652400" cy="482040"/>
                <a:chOff x="7155000" y="115920"/>
                <a:chExt cx="1652400" cy="4820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7155000" y="115920"/>
                  <a:ext cx="1652400" cy="45864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7155000" y="115920"/>
                  <a:ext cx="1650960" cy="482040"/>
                  <a:chOff x="7155000" y="115920"/>
                  <a:chExt cx="1650960" cy="48204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7155000" y="115920"/>
                    <a:ext cx="1650960" cy="45720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7155000" y="115920"/>
                    <a:ext cx="1650960" cy="482040"/>
                    <a:chOff x="7155000" y="115920"/>
                    <a:chExt cx="1650960" cy="48204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7155000" y="115920"/>
                      <a:ext cx="1650960" cy="4572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7182360" y="115920"/>
                      <a:ext cx="159588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 О Н И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01" name=""/>
          <p:cNvSpPr/>
          <p:nvPr/>
        </p:nvSpPr>
        <p:spPr>
          <a:xfrm>
            <a:off x="7164360" y="44460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11280" y="1628640"/>
            <a:ext cx="799308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2005-2006 гг.. ТОНИС значительно увеличил объем вещания и покрытие в регионах Украи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тенциальная аудитория составляет до 18 миллионов зрителей в 230 населенных пунктах Украины, из них в 54 городах, входящих в телеметрическую панель GfK-USM с населением более 50 тыс. жителей, что составляет 75% всей аудитории пане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ближайшей перспективе ТОНИС построит региональную сеть вещания и фактически превратится в канал, покрывающий практически все города панели мониторинга «50 тысяч+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леканал ТОНИС постоянно принимает участие в конкурсах Национального Совета по вопросам телевидения и радиовещания на получение лицензий, благодаря чему до конца 2007-го года планируется существенно расширить эфирную сеть вещ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оме того, ведется усиленная работа по обеспечению приема канала ТОНИС в кабельных сетях всей страны. Благодаря этому, устойчивый сигнал канала могут принимать даже в тех регионах, где нет еще эфирного вещ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ы регионального развития постоянно расту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декабре 2005-го и в январе 2006-го ТОНИС получил лицензии на вещание в таких городах Украины:Енакиево (Донецкая обл.), г. Изюм и Купянск (Харьковская обл.), г. Канев (Черкасская обл.), г. Ковель (Волынская обл.), г. Кременчук и Лубны (Полтавская обл.), г. Кривой Рог, Никополь, Павлоград и Першотравенск (Днепропетровская обл.), г. Мелитополь и Василевка (Запорожская обл.), г. Нежин (Черниговская обл.), г. Первомайск (Николаевская обл.), а также в областных центрах Житомире, Луганске, Херсоне, Хмельницком, Чернигове и г. Симферопо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289080" y="1028880"/>
            <a:ext cx="4205160" cy="383400"/>
            <a:chOff x="289080" y="1028880"/>
            <a:chExt cx="4205160" cy="383400"/>
          </a:xfrm>
        </p:grpSpPr>
        <p:sp>
          <p:nvSpPr>
            <p:cNvPr id="205" name=""/>
            <p:cNvSpPr/>
            <p:nvPr/>
          </p:nvSpPr>
          <p:spPr>
            <a:xfrm>
              <a:off x="289080" y="1028880"/>
              <a:ext cx="4205160" cy="3776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89080" y="1028880"/>
              <a:ext cx="4200480" cy="383400"/>
              <a:chOff x="289080" y="1028880"/>
              <a:chExt cx="4200480" cy="383400"/>
            </a:xfrm>
          </p:grpSpPr>
          <p:sp>
            <p:nvSpPr>
              <p:cNvPr id="207" name=""/>
              <p:cNvSpPr/>
              <p:nvPr/>
            </p:nvSpPr>
            <p:spPr>
              <a:xfrm>
                <a:off x="289080" y="1028880"/>
                <a:ext cx="4200480" cy="37296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289080" y="1028880"/>
                <a:ext cx="4197240" cy="383400"/>
                <a:chOff x="289080" y="1028880"/>
                <a:chExt cx="4197240" cy="3834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89080" y="1028880"/>
                  <a:ext cx="4197240" cy="369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0" name=""/>
                <p:cNvGrpSpPr/>
                <p:nvPr/>
              </p:nvGrpSpPr>
              <p:grpSpPr>
                <a:xfrm>
                  <a:off x="289080" y="1028880"/>
                  <a:ext cx="4195440" cy="383400"/>
                  <a:chOff x="289080" y="1028880"/>
                  <a:chExt cx="4195440" cy="38340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289080" y="1028880"/>
                    <a:ext cx="4195440" cy="36828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289080" y="1028880"/>
                    <a:ext cx="4195440" cy="383400"/>
                    <a:chOff x="289080" y="1028880"/>
                    <a:chExt cx="4195440" cy="38340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289080" y="1028880"/>
                      <a:ext cx="4195440" cy="36828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35960" y="1028880"/>
                      <a:ext cx="329220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Эфирное</a:t>
                      </a:r>
                      <a:r>
                        <a:rPr b="1" lang="en-GB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 покры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15" name=""/>
          <p:cNvSpPr/>
          <p:nvPr/>
        </p:nvSpPr>
        <p:spPr>
          <a:xfrm>
            <a:off x="6948360" y="2349360"/>
            <a:ext cx="2016360" cy="23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ts val="1463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Общая аудитория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около 18 млн. че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buClr>
                <a:srgbClr val="000000"/>
              </a:buClr>
              <a:buFont typeface="Tahoma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Киев -  4 млн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buClr>
                <a:srgbClr val="000000"/>
              </a:buClr>
              <a:buFont typeface="Tahoma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Центр  -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 мл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buClr>
                <a:srgbClr val="000000"/>
              </a:buClr>
              <a:buFont typeface="Tahoma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Запад  -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,5 мл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buClr>
                <a:srgbClr val="000000"/>
              </a:buClr>
              <a:buFont typeface="Tahoma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Восток – 4,5 мл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buClr>
                <a:srgbClr val="000000"/>
              </a:buClr>
              <a:buFont typeface="Tahoma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Юг – 3,2 мл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79280" y="6237360"/>
            <a:ext cx="5519880" cy="405720"/>
            <a:chOff x="179280" y="6237360"/>
            <a:chExt cx="5519880" cy="405720"/>
          </a:xfrm>
        </p:grpSpPr>
        <p:sp>
          <p:nvSpPr>
            <p:cNvPr id="217" name=""/>
            <p:cNvSpPr/>
            <p:nvPr/>
          </p:nvSpPr>
          <p:spPr>
            <a:xfrm>
              <a:off x="179280" y="6237360"/>
              <a:ext cx="5519880" cy="360360"/>
            </a:xfrm>
            <a:prstGeom prst="roundRect">
              <a:avLst>
                <a:gd name="adj" fmla="val 43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79280" y="6237360"/>
              <a:ext cx="5515200" cy="405720"/>
              <a:chOff x="179280" y="6237360"/>
              <a:chExt cx="5515200" cy="405720"/>
            </a:xfrm>
          </p:grpSpPr>
          <p:sp>
            <p:nvSpPr>
              <p:cNvPr id="219" name=""/>
              <p:cNvSpPr/>
              <p:nvPr/>
            </p:nvSpPr>
            <p:spPr>
              <a:xfrm>
                <a:off x="179280" y="6237360"/>
                <a:ext cx="5515200" cy="355680"/>
              </a:xfrm>
              <a:prstGeom prst="roundRect">
                <a:avLst>
                  <a:gd name="adj" fmla="val 44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179280" y="6237360"/>
                <a:ext cx="4794840" cy="405720"/>
                <a:chOff x="179280" y="6237360"/>
                <a:chExt cx="4794840" cy="4057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79280" y="6237360"/>
                  <a:ext cx="4794840" cy="310320"/>
                </a:xfrm>
                <a:prstGeom prst="roundRect">
                  <a:avLst>
                    <a:gd name="adj" fmla="val 50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179280" y="6237360"/>
                  <a:ext cx="4791600" cy="405720"/>
                  <a:chOff x="179280" y="6237360"/>
                  <a:chExt cx="4791600" cy="40572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179280" y="6237360"/>
                    <a:ext cx="4791600" cy="305640"/>
                  </a:xfrm>
                  <a:prstGeom prst="roundRect">
                    <a:avLst>
                      <a:gd name="adj" fmla="val 50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179280" y="6237360"/>
                    <a:ext cx="4786920" cy="405720"/>
                    <a:chOff x="179280" y="6237360"/>
                    <a:chExt cx="4786920" cy="405720"/>
                  </a:xfrm>
                </p:grpSpPr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179280" y="6237360"/>
                      <a:ext cx="4786920" cy="302400"/>
                    </a:xfrm>
                    <a:prstGeom prst="roundRect">
                      <a:avLst>
                        <a:gd name="adj" fmla="val 51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189000" y="6237360"/>
                      <a:ext cx="4767120" cy="405720"/>
                    </a:xfrm>
                    <a:prstGeom prst="roundRect">
                      <a:avLst>
                        <a:gd name="adj" fmla="val 51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ts val="244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селение Украины – 48 млн.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7155000" y="115920"/>
            <a:ext cx="1660320" cy="482040"/>
            <a:chOff x="7155000" y="115920"/>
            <a:chExt cx="1660320" cy="482040"/>
          </a:xfrm>
        </p:grpSpPr>
        <p:sp>
          <p:nvSpPr>
            <p:cNvPr id="229" name=""/>
            <p:cNvSpPr/>
            <p:nvPr/>
          </p:nvSpPr>
          <p:spPr>
            <a:xfrm>
              <a:off x="7155000" y="115920"/>
              <a:ext cx="1660320" cy="4665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7155000" y="115920"/>
              <a:ext cx="1655640" cy="482040"/>
              <a:chOff x="7155000" y="115920"/>
              <a:chExt cx="1655640" cy="482040"/>
            </a:xfrm>
          </p:grpSpPr>
          <p:sp>
            <p:nvSpPr>
              <p:cNvPr id="231" name=""/>
              <p:cNvSpPr/>
              <p:nvPr/>
            </p:nvSpPr>
            <p:spPr>
              <a:xfrm>
                <a:off x="7155000" y="115920"/>
                <a:ext cx="1655640" cy="46188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7155000" y="115920"/>
                <a:ext cx="1652400" cy="482040"/>
                <a:chOff x="7155000" y="115920"/>
                <a:chExt cx="1652400" cy="4820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155000" y="115920"/>
                  <a:ext cx="1652400" cy="45864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" name=""/>
                <p:cNvGrpSpPr/>
                <p:nvPr/>
              </p:nvGrpSpPr>
              <p:grpSpPr>
                <a:xfrm>
                  <a:off x="7155000" y="115920"/>
                  <a:ext cx="1650960" cy="482040"/>
                  <a:chOff x="7155000" y="115920"/>
                  <a:chExt cx="1650960" cy="48204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7155000" y="115920"/>
                    <a:ext cx="1650960" cy="45720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7155000" y="115920"/>
                    <a:ext cx="1650960" cy="482040"/>
                    <a:chOff x="7155000" y="115920"/>
                    <a:chExt cx="1650960" cy="48204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7155000" y="115920"/>
                      <a:ext cx="1650960" cy="4572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7182360" y="115920"/>
                      <a:ext cx="159588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 О Н И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39" name=""/>
          <p:cNvSpPr/>
          <p:nvPr/>
        </p:nvSpPr>
        <p:spPr>
          <a:xfrm>
            <a:off x="7164360" y="44460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6459480" cy="43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289080" y="1028880"/>
            <a:ext cx="4203720" cy="383400"/>
            <a:chOff x="289080" y="1028880"/>
            <a:chExt cx="4203720" cy="383400"/>
          </a:xfrm>
        </p:grpSpPr>
        <p:sp>
          <p:nvSpPr>
            <p:cNvPr id="243" name=""/>
            <p:cNvSpPr/>
            <p:nvPr/>
          </p:nvSpPr>
          <p:spPr>
            <a:xfrm>
              <a:off x="289080" y="1028880"/>
              <a:ext cx="420372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289080" y="1028880"/>
              <a:ext cx="4197240" cy="383400"/>
              <a:chOff x="289080" y="1028880"/>
              <a:chExt cx="4197240" cy="383400"/>
            </a:xfrm>
          </p:grpSpPr>
          <p:sp>
            <p:nvSpPr>
              <p:cNvPr id="245" name=""/>
              <p:cNvSpPr/>
              <p:nvPr/>
            </p:nvSpPr>
            <p:spPr>
              <a:xfrm>
                <a:off x="289080" y="1028880"/>
                <a:ext cx="4197240" cy="36972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289080" y="1028880"/>
                <a:ext cx="4192200" cy="383400"/>
                <a:chOff x="289080" y="1028880"/>
                <a:chExt cx="4192200" cy="3834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289080" y="1028880"/>
                  <a:ext cx="419220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289080" y="1028880"/>
                  <a:ext cx="4188960" cy="383400"/>
                  <a:chOff x="289080" y="1028880"/>
                  <a:chExt cx="4188960" cy="38340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289080" y="1028880"/>
                    <a:ext cx="4188960" cy="36180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289080" y="1028880"/>
                    <a:ext cx="4187520" cy="383400"/>
                    <a:chOff x="289080" y="1028880"/>
                    <a:chExt cx="4187520" cy="38340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89080" y="1028880"/>
                      <a:ext cx="4187520" cy="3600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97960" y="1028880"/>
                      <a:ext cx="356940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абельное покры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53" name=""/>
          <p:cNvSpPr/>
          <p:nvPr/>
        </p:nvSpPr>
        <p:spPr>
          <a:xfrm>
            <a:off x="6948360" y="2349360"/>
            <a:ext cx="2016360" cy="23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ts val="1463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Общая аудитория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около 18 млн. че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buClr>
                <a:srgbClr val="000000"/>
              </a:buClr>
              <a:buFont typeface="Tahoma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Киев -  4 млн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buClr>
                <a:srgbClr val="000000"/>
              </a:buClr>
              <a:buFont typeface="Tahoma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Центр  -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 мл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buClr>
                <a:srgbClr val="000000"/>
              </a:buClr>
              <a:buFont typeface="Tahoma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Запад  -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,5 мл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buClr>
                <a:srgbClr val="000000"/>
              </a:buClr>
              <a:buFont typeface="Tahoma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Восток – 4,5 мл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1000"/>
              </a:lnSpc>
              <a:buClr>
                <a:srgbClr val="000000"/>
              </a:buClr>
              <a:buFont typeface="Tahoma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Юг – 3,2 мл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79280" y="6237360"/>
            <a:ext cx="5519880" cy="405720"/>
            <a:chOff x="179280" y="6237360"/>
            <a:chExt cx="5519880" cy="405720"/>
          </a:xfrm>
        </p:grpSpPr>
        <p:sp>
          <p:nvSpPr>
            <p:cNvPr id="255" name=""/>
            <p:cNvSpPr/>
            <p:nvPr/>
          </p:nvSpPr>
          <p:spPr>
            <a:xfrm>
              <a:off x="179280" y="6237360"/>
              <a:ext cx="5519880" cy="360360"/>
            </a:xfrm>
            <a:prstGeom prst="roundRect">
              <a:avLst>
                <a:gd name="adj" fmla="val 43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79280" y="6237360"/>
              <a:ext cx="5515200" cy="405720"/>
              <a:chOff x="179280" y="6237360"/>
              <a:chExt cx="5515200" cy="405720"/>
            </a:xfrm>
          </p:grpSpPr>
          <p:sp>
            <p:nvSpPr>
              <p:cNvPr id="257" name=""/>
              <p:cNvSpPr/>
              <p:nvPr/>
            </p:nvSpPr>
            <p:spPr>
              <a:xfrm>
                <a:off x="179280" y="6237360"/>
                <a:ext cx="5515200" cy="355680"/>
              </a:xfrm>
              <a:prstGeom prst="roundRect">
                <a:avLst>
                  <a:gd name="adj" fmla="val 44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179280" y="6237360"/>
                <a:ext cx="4794840" cy="405720"/>
                <a:chOff x="179280" y="6237360"/>
                <a:chExt cx="4794840" cy="4057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79280" y="6237360"/>
                  <a:ext cx="4794840" cy="310320"/>
                </a:xfrm>
                <a:prstGeom prst="roundRect">
                  <a:avLst>
                    <a:gd name="adj" fmla="val 50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" name=""/>
                <p:cNvGrpSpPr/>
                <p:nvPr/>
              </p:nvGrpSpPr>
              <p:grpSpPr>
                <a:xfrm>
                  <a:off x="179280" y="6237360"/>
                  <a:ext cx="4791600" cy="405720"/>
                  <a:chOff x="179280" y="6237360"/>
                  <a:chExt cx="4791600" cy="40572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179280" y="6237360"/>
                    <a:ext cx="4791600" cy="305640"/>
                  </a:xfrm>
                  <a:prstGeom prst="roundRect">
                    <a:avLst>
                      <a:gd name="adj" fmla="val 50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2" name=""/>
                  <p:cNvGrpSpPr/>
                  <p:nvPr/>
                </p:nvGrpSpPr>
                <p:grpSpPr>
                  <a:xfrm>
                    <a:off x="179280" y="6237360"/>
                    <a:ext cx="4786920" cy="405720"/>
                    <a:chOff x="179280" y="6237360"/>
                    <a:chExt cx="4786920" cy="405720"/>
                  </a:xfrm>
                </p:grpSpPr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179280" y="6237360"/>
                      <a:ext cx="4786920" cy="302400"/>
                    </a:xfrm>
                    <a:prstGeom prst="roundRect">
                      <a:avLst>
                        <a:gd name="adj" fmla="val 51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189000" y="6237360"/>
                      <a:ext cx="4767120" cy="405720"/>
                    </a:xfrm>
                    <a:prstGeom prst="roundRect">
                      <a:avLst>
                        <a:gd name="adj" fmla="val 51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ts val="244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селение Украины – 48 млн.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7155000" y="115920"/>
            <a:ext cx="1660320" cy="482040"/>
            <a:chOff x="7155000" y="115920"/>
            <a:chExt cx="1660320" cy="482040"/>
          </a:xfrm>
        </p:grpSpPr>
        <p:sp>
          <p:nvSpPr>
            <p:cNvPr id="267" name=""/>
            <p:cNvSpPr/>
            <p:nvPr/>
          </p:nvSpPr>
          <p:spPr>
            <a:xfrm>
              <a:off x="7155000" y="115920"/>
              <a:ext cx="1660320" cy="4665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155000" y="115920"/>
              <a:ext cx="1655640" cy="482040"/>
              <a:chOff x="7155000" y="115920"/>
              <a:chExt cx="1655640" cy="482040"/>
            </a:xfrm>
          </p:grpSpPr>
          <p:sp>
            <p:nvSpPr>
              <p:cNvPr id="269" name=""/>
              <p:cNvSpPr/>
              <p:nvPr/>
            </p:nvSpPr>
            <p:spPr>
              <a:xfrm>
                <a:off x="7155000" y="115920"/>
                <a:ext cx="1655640" cy="46188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7155000" y="115920"/>
                <a:ext cx="1652400" cy="482040"/>
                <a:chOff x="7155000" y="115920"/>
                <a:chExt cx="1652400" cy="4820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7155000" y="115920"/>
                  <a:ext cx="1652400" cy="45864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7155000" y="115920"/>
                  <a:ext cx="1650960" cy="482040"/>
                  <a:chOff x="7155000" y="115920"/>
                  <a:chExt cx="1650960" cy="48204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7155000" y="115920"/>
                    <a:ext cx="1650960" cy="45720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7155000" y="115920"/>
                    <a:ext cx="1650960" cy="482040"/>
                    <a:chOff x="7155000" y="115920"/>
                    <a:chExt cx="1650960" cy="48204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155000" y="115920"/>
                      <a:ext cx="1650960" cy="4572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182360" y="115920"/>
                      <a:ext cx="159588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 О Н И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77" name=""/>
          <p:cNvSpPr/>
          <p:nvPr/>
        </p:nvSpPr>
        <p:spPr>
          <a:xfrm>
            <a:off x="7164360" y="44460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63356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 rot="10800000">
            <a:off x="0" y="6175440"/>
            <a:ext cx="9144000" cy="691920"/>
          </a:xfrm>
          <a:prstGeom prst="roundRect">
            <a:avLst>
              <a:gd name="adj" fmla="val 2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67280" y="5661000"/>
            <a:ext cx="4678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03760" y="5877000"/>
            <a:ext cx="33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-9360" y="6165720"/>
            <a:ext cx="9162720" cy="180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099280" y="6308640"/>
            <a:ext cx="343080" cy="349200"/>
            <a:chOff x="8099280" y="6308640"/>
            <a:chExt cx="343080" cy="349200"/>
          </a:xfrm>
        </p:grpSpPr>
        <p:pic>
          <p:nvPicPr>
            <p:cNvPr id="286" name="" descr=""/>
            <p:cNvPicPr/>
            <p:nvPr/>
          </p:nvPicPr>
          <p:blipFill>
            <a:blip r:embed="rId2"/>
            <a:stretch/>
          </p:blipFill>
          <p:spPr>
            <a:xfrm>
              <a:off x="809928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809928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524720" y="6308640"/>
            <a:ext cx="343080" cy="349200"/>
            <a:chOff x="7524720" y="6308640"/>
            <a:chExt cx="343080" cy="349200"/>
          </a:xfrm>
        </p:grpSpPr>
        <p:pic>
          <p:nvPicPr>
            <p:cNvPr id="289" name="" descr=""/>
            <p:cNvPicPr/>
            <p:nvPr/>
          </p:nvPicPr>
          <p:blipFill>
            <a:blip r:embed="rId3"/>
            <a:stretch/>
          </p:blipFill>
          <p:spPr>
            <a:xfrm>
              <a:off x="752472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752472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137000" y="115920"/>
            <a:ext cx="1679400" cy="482040"/>
            <a:chOff x="7137000" y="115920"/>
            <a:chExt cx="1679400" cy="482040"/>
          </a:xfrm>
        </p:grpSpPr>
        <p:sp>
          <p:nvSpPr>
            <p:cNvPr id="292" name=""/>
            <p:cNvSpPr/>
            <p:nvPr/>
          </p:nvSpPr>
          <p:spPr>
            <a:xfrm>
              <a:off x="7155000" y="115920"/>
              <a:ext cx="1658880" cy="46512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7137000" y="115920"/>
              <a:ext cx="1679400" cy="482040"/>
              <a:chOff x="7137000" y="115920"/>
              <a:chExt cx="1679400" cy="482040"/>
            </a:xfrm>
          </p:grpSpPr>
          <p:sp>
            <p:nvSpPr>
              <p:cNvPr id="294" name=""/>
              <p:cNvSpPr/>
              <p:nvPr/>
            </p:nvSpPr>
            <p:spPr>
              <a:xfrm>
                <a:off x="7155000" y="115920"/>
                <a:ext cx="1652760" cy="4590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7137000" y="115920"/>
                <a:ext cx="1679400" cy="482040"/>
                <a:chOff x="7137000" y="115920"/>
                <a:chExt cx="1679400" cy="4820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7155000" y="115920"/>
                  <a:ext cx="1648080" cy="45432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" name=""/>
                <p:cNvGrpSpPr/>
                <p:nvPr/>
              </p:nvGrpSpPr>
              <p:grpSpPr>
                <a:xfrm>
                  <a:off x="7137000" y="115920"/>
                  <a:ext cx="1679400" cy="482040"/>
                  <a:chOff x="7137000" y="115920"/>
                  <a:chExt cx="1679400" cy="4820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7155000" y="115920"/>
                    <a:ext cx="1644840" cy="45144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7137000" y="115920"/>
                    <a:ext cx="1679400" cy="482040"/>
                    <a:chOff x="7137000" y="115920"/>
                    <a:chExt cx="1679400" cy="48204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7155000" y="115920"/>
                      <a:ext cx="1643040" cy="4500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137000" y="115920"/>
                      <a:ext cx="167940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 О Н И 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02" name=""/>
          <p:cNvSpPr/>
          <p:nvPr/>
        </p:nvSpPr>
        <p:spPr>
          <a:xfrm>
            <a:off x="7164360" y="47628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т  е  л  е  к  а  н  а  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250920" y="907920"/>
            <a:ext cx="2222280" cy="383400"/>
            <a:chOff x="250920" y="907920"/>
            <a:chExt cx="2222280" cy="383400"/>
          </a:xfrm>
        </p:grpSpPr>
        <p:sp>
          <p:nvSpPr>
            <p:cNvPr id="305" name=""/>
            <p:cNvSpPr/>
            <p:nvPr/>
          </p:nvSpPr>
          <p:spPr>
            <a:xfrm>
              <a:off x="250920" y="907920"/>
              <a:ext cx="222228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250920" y="907920"/>
              <a:ext cx="2215800" cy="383400"/>
              <a:chOff x="250920" y="907920"/>
              <a:chExt cx="2215800" cy="383400"/>
            </a:xfrm>
          </p:grpSpPr>
          <p:sp>
            <p:nvSpPr>
              <p:cNvPr id="307" name=""/>
              <p:cNvSpPr/>
              <p:nvPr/>
            </p:nvSpPr>
            <p:spPr>
              <a:xfrm>
                <a:off x="250920" y="907920"/>
                <a:ext cx="2215800" cy="36972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250920" y="907920"/>
                <a:ext cx="2210760" cy="383400"/>
                <a:chOff x="250920" y="907920"/>
                <a:chExt cx="2210760" cy="3834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50920" y="907920"/>
                  <a:ext cx="2210760" cy="366480"/>
                </a:xfrm>
                <a:prstGeom prst="roundRect">
                  <a:avLst>
                    <a:gd name="adj" fmla="val 42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0" name=""/>
                <p:cNvGrpSpPr/>
                <p:nvPr/>
              </p:nvGrpSpPr>
              <p:grpSpPr>
                <a:xfrm>
                  <a:off x="250920" y="907920"/>
                  <a:ext cx="2208960" cy="383400"/>
                  <a:chOff x="250920" y="907920"/>
                  <a:chExt cx="2208960" cy="38340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250920" y="907920"/>
                    <a:ext cx="2208960" cy="36324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250920" y="907920"/>
                    <a:ext cx="2207160" cy="383400"/>
                    <a:chOff x="250920" y="907920"/>
                    <a:chExt cx="2207160" cy="38340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250920" y="907920"/>
                      <a:ext cx="2207160" cy="36144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308880" y="907920"/>
                      <a:ext cx="208944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5" name=""/>
          <p:cNvSpPr/>
          <p:nvPr/>
        </p:nvSpPr>
        <p:spPr>
          <a:xfrm>
            <a:off x="539640" y="1628640"/>
            <a:ext cx="8064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ts val="1463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9280" y="1916280"/>
            <a:ext cx="590544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Информационная программа «24 години»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 выходит в эфире телеканала «ТОНИС»  вот уже 3 год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В 2004 году программа «24 години» была признана главой комитета «Рівність можливостей» самой объективной новостной передачей среди всех других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Точность в изложении информации, эксклюзивность подачи материала, тематическая универсальность (политика, экономика, спорт, культура) и, главное, оперативность, – все это позволило новостям «24 години» занять надежную нишу в украинском телеэфире, годами оправдывая выбор телезрителей. Программа представляют собой самую сбалансированную и достоверную информационную подборку в течение суток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Ведущие  программы: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рина Король, Юлия Лаврисюк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Время эфир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о будням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 в </a:t>
            </a:r>
            <a:r>
              <a:rPr b="1" lang="uk-UA" sz="1400" spc="-1" strike="noStrike">
                <a:solidFill>
                  <a:srgbClr val="000000"/>
                </a:solidFill>
                <a:latin typeface="Tahoma"/>
              </a:rPr>
              <a:t>07:25,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18:</a:t>
            </a:r>
            <a:r>
              <a:rPr b="1" lang="uk-UA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0, 20:</a:t>
            </a:r>
            <a:r>
              <a:rPr b="1" lang="uk-UA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0, </a:t>
            </a:r>
            <a:r>
              <a:rPr b="1" lang="uk-UA" sz="1400" spc="-1" strike="noStrike">
                <a:solidFill>
                  <a:srgbClr val="000000"/>
                </a:solidFill>
                <a:latin typeface="Tahoma"/>
              </a:rPr>
              <a:t>23:30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и около </a:t>
            </a:r>
            <a:r>
              <a:rPr b="1" lang="uk-UA" sz="1400" spc="-1" strike="noStrike">
                <a:solidFill>
                  <a:srgbClr val="000000"/>
                </a:solidFill>
                <a:latin typeface="Tahoma"/>
              </a:rPr>
              <a:t>03:00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6"/>
          <a:stretch/>
        </p:blipFill>
        <p:spPr>
          <a:xfrm>
            <a:off x="395280" y="0"/>
            <a:ext cx="647640" cy="649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236000" y="0"/>
            <a:ext cx="1692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 О Н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50920" y="1341360"/>
            <a:ext cx="2376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4 годи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084720" y="2349360"/>
            <a:ext cx="2854440" cy="2197080"/>
            <a:chOff x="6084720" y="2349360"/>
            <a:chExt cx="2854440" cy="2197080"/>
          </a:xfrm>
        </p:grpSpPr>
        <p:pic>
          <p:nvPicPr>
            <p:cNvPr id="322" name="" descr=""/>
            <p:cNvPicPr/>
            <p:nvPr/>
          </p:nvPicPr>
          <p:blipFill>
            <a:blip r:embed="rId7"/>
            <a:stretch/>
          </p:blipFill>
          <p:spPr>
            <a:xfrm>
              <a:off x="6084720" y="2349360"/>
              <a:ext cx="2854440" cy="21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6084720" y="2349360"/>
              <a:ext cx="2854440" cy="2197080"/>
            </a:xfrm>
            <a:prstGeom prst="roundRect">
              <a:avLst>
                <a:gd name="adj" fmla="val 69"/>
              </a:avLst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rot="10800000">
            <a:off x="0" y="6175440"/>
            <a:ext cx="9144000" cy="691920"/>
          </a:xfrm>
          <a:prstGeom prst="roundRect">
            <a:avLst>
              <a:gd name="adj" fmla="val 2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67280" y="5661000"/>
            <a:ext cx="4678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ahoma"/>
              </a:rPr>
              <a:t>З нами цікав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03760" y="5877000"/>
            <a:ext cx="33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00000"/>
                </a:solidFill>
                <a:latin typeface="Tahoma"/>
              </a:rPr>
              <a:t>З нами ціка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-9360" y="6165720"/>
            <a:ext cx="9162720" cy="180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8099280" y="6308640"/>
            <a:ext cx="343080" cy="349200"/>
            <a:chOff x="8099280" y="6308640"/>
            <a:chExt cx="343080" cy="349200"/>
          </a:xfrm>
        </p:grpSpPr>
        <p:pic>
          <p:nvPicPr>
            <p:cNvPr id="330" name="" descr=""/>
            <p:cNvPicPr/>
            <p:nvPr/>
          </p:nvPicPr>
          <p:blipFill>
            <a:blip r:embed="rId2"/>
            <a:stretch/>
          </p:blipFill>
          <p:spPr>
            <a:xfrm>
              <a:off x="809928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809928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524720" y="6308640"/>
            <a:ext cx="343080" cy="349200"/>
            <a:chOff x="7524720" y="6308640"/>
            <a:chExt cx="343080" cy="349200"/>
          </a:xfrm>
        </p:grpSpPr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7524720" y="6308640"/>
              <a:ext cx="343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7524720" y="6308640"/>
              <a:ext cx="343080" cy="349200"/>
            </a:xfrm>
            <a:custGeom>
              <a:avLst/>
              <a:gdLst>
                <a:gd name="textAreaLeft" fmla="*/ 360 w 343080"/>
                <a:gd name="textAreaRight" fmla="*/ 342720 w 343080"/>
                <a:gd name="textAreaTop" fmla="*/ 360 h 349200"/>
                <a:gd name="textAreaBottom" fmla="*/ 348840 h 349200"/>
              </a:gdLst>
              <a:ahLst/>
              <a:rect l="textAreaLeft" t="textAreaTop" r="textAreaRight" b="textAreaBottom"/>
              <a:pathLst>
                <a:path w="21600" h="21985">
                  <a:moveTo>
                    <a:pt x="100" y="0"/>
                  </a:moveTo>
                  <a:arcTo wR="100" hR="100" stAng="16200000" swAng="-5400000"/>
                  <a:lnTo>
                    <a:pt x="0" y="21885"/>
                  </a:lnTo>
                  <a:arcTo wR="100" hR="100" stAng="10800000" swAng="-5400000"/>
                  <a:lnTo>
                    <a:pt x="21500" y="21985"/>
                  </a:lnTo>
                  <a:arcTo wR="100" hR="100" stAng="5400000" swAng="-5400000"/>
                  <a:lnTo>
                    <a:pt x="21600" y="100"/>
                  </a:lnTo>
                  <a:arcTo wR="100" hR="100" stAng="0" swAng="-5400000"/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137000" y="115920"/>
            <a:ext cx="1679400" cy="482040"/>
            <a:chOff x="7137000" y="115920"/>
            <a:chExt cx="1679400" cy="482040"/>
          </a:xfrm>
        </p:grpSpPr>
        <p:sp>
          <p:nvSpPr>
            <p:cNvPr id="336" name=""/>
            <p:cNvSpPr/>
            <p:nvPr/>
          </p:nvSpPr>
          <p:spPr>
            <a:xfrm>
              <a:off x="7155000" y="115920"/>
              <a:ext cx="1658880" cy="46512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7137000" y="115920"/>
              <a:ext cx="1679400" cy="482040"/>
              <a:chOff x="7137000" y="115920"/>
              <a:chExt cx="1679400" cy="482040"/>
            </a:xfrm>
          </p:grpSpPr>
          <p:sp>
            <p:nvSpPr>
              <p:cNvPr id="338" name=""/>
              <p:cNvSpPr/>
              <p:nvPr/>
            </p:nvSpPr>
            <p:spPr>
              <a:xfrm>
                <a:off x="7155000" y="115920"/>
                <a:ext cx="1652760" cy="4590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9" name=""/>
              <p:cNvGrpSpPr/>
              <p:nvPr/>
            </p:nvGrpSpPr>
            <p:grpSpPr>
              <a:xfrm>
                <a:off x="7137000" y="115920"/>
                <a:ext cx="1679400" cy="482040"/>
                <a:chOff x="7137000" y="115920"/>
                <a:chExt cx="1679400" cy="4820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7155000" y="115920"/>
                  <a:ext cx="1648080" cy="45432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1" name=""/>
                <p:cNvGrpSpPr/>
                <p:nvPr/>
              </p:nvGrpSpPr>
              <p:grpSpPr>
                <a:xfrm>
                  <a:off x="7137000" y="115920"/>
                  <a:ext cx="1679400" cy="482040"/>
                  <a:chOff x="7137000" y="115920"/>
                  <a:chExt cx="1679400" cy="4820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7155000" y="115920"/>
                    <a:ext cx="1644840" cy="451440"/>
                  </a:xfrm>
                  <a:prstGeom prst="roundRect">
                    <a:avLst>
                      <a:gd name="adj" fmla="val 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7137000" y="115920"/>
                    <a:ext cx="1679400" cy="482040"/>
                    <a:chOff x="7137000" y="115920"/>
                    <a:chExt cx="1679400" cy="48204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7155000" y="115920"/>
                      <a:ext cx="1643040" cy="45000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7137000" y="115920"/>
                      <a:ext cx="1679400" cy="482040"/>
                    </a:xfrm>
                    <a:prstGeom prst="roundRect">
                      <a:avLst>
                        <a:gd name="adj" fmla="val 34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 О Н И 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46" name=""/>
          <p:cNvSpPr/>
          <p:nvPr/>
        </p:nvSpPr>
        <p:spPr>
          <a:xfrm>
            <a:off x="7164360" y="476280"/>
            <a:ext cx="16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т  е  л  е  к  а  н  а  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395280" y="1159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50920" y="907920"/>
            <a:ext cx="2222280" cy="383400"/>
            <a:chOff x="250920" y="907920"/>
            <a:chExt cx="2222280" cy="383400"/>
          </a:xfrm>
        </p:grpSpPr>
        <p:sp>
          <p:nvSpPr>
            <p:cNvPr id="349" name=""/>
            <p:cNvSpPr/>
            <p:nvPr/>
          </p:nvSpPr>
          <p:spPr>
            <a:xfrm>
              <a:off x="250920" y="907920"/>
              <a:ext cx="2222280" cy="3762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50920" y="907920"/>
              <a:ext cx="2215800" cy="383400"/>
              <a:chOff x="250920" y="907920"/>
              <a:chExt cx="2215800" cy="383400"/>
            </a:xfrm>
          </p:grpSpPr>
          <p:sp>
            <p:nvSpPr>
              <p:cNvPr id="351" name=""/>
              <p:cNvSpPr/>
              <p:nvPr/>
            </p:nvSpPr>
            <p:spPr>
              <a:xfrm>
                <a:off x="250920" y="907920"/>
                <a:ext cx="2215800" cy="36972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50920" y="907920"/>
                <a:ext cx="2210760" cy="383400"/>
                <a:chOff x="250920" y="907920"/>
                <a:chExt cx="2210760" cy="3834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250920" y="907920"/>
                  <a:ext cx="2210760" cy="366480"/>
                </a:xfrm>
                <a:prstGeom prst="roundRect">
                  <a:avLst>
                    <a:gd name="adj" fmla="val 42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4" name=""/>
                <p:cNvGrpSpPr/>
                <p:nvPr/>
              </p:nvGrpSpPr>
              <p:grpSpPr>
                <a:xfrm>
                  <a:off x="250920" y="907920"/>
                  <a:ext cx="2208960" cy="383400"/>
                  <a:chOff x="250920" y="907920"/>
                  <a:chExt cx="2208960" cy="38340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250920" y="907920"/>
                    <a:ext cx="2208960" cy="36324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250920" y="907920"/>
                    <a:ext cx="2207160" cy="383400"/>
                    <a:chOff x="250920" y="907920"/>
                    <a:chExt cx="2207160" cy="38340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250920" y="907920"/>
                      <a:ext cx="2207160" cy="36144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308880" y="907920"/>
                      <a:ext cx="2089440" cy="383400"/>
                    </a:xfrm>
                    <a:prstGeom prst="roundRect">
                      <a:avLst>
                        <a:gd name="adj" fmla="val 43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59" name=""/>
          <p:cNvSpPr/>
          <p:nvPr/>
        </p:nvSpPr>
        <p:spPr>
          <a:xfrm>
            <a:off x="539640" y="1628640"/>
            <a:ext cx="8064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ts val="1463"/>
              </a:lnSpc>
              <a:tabLst>
                <a:tab algn="l" pos="0"/>
                <a:tab algn="l" pos="33336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1916280"/>
            <a:ext cx="5543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о, что еще совсем недавно казалось выдумками ученых или просто страшилками, – сегодняшние реалии. Экологи говорят, что "точку невозврата" мы уже прошли, и человечеству осталось менее десяти лет, чтобы каким-то образом изменить свое будуще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о леса и дальше незаконно вырубают, в источниках исчезает вода, в реках массово гибнет рыба, под угрозой затопления оказываются целые города, а огромные территории превращаются в сплошные свалки мусор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Журналисты программы "24 часа. Жизнь" обещают не только рассказать, что происходит с экологией в Украине и мире, но и объяснить почему и показать, кто винова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"24 часа. Жизнь" – это своеобразный экологический дневник о защите собственного права на жизн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уководитель проекта и ведущий – Александр Радченк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ремя эфира: по будням в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18:</a:t>
            </a:r>
            <a:r>
              <a:rPr b="1" lang="uk-UA" sz="1400" spc="-1" strike="noStrike">
                <a:solidFill>
                  <a:srgbClr val="000000"/>
                </a:solidFill>
                <a:latin typeface="Tahoma"/>
              </a:rPr>
              <a:t>55, повтор в 08:0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6"/>
          <a:stretch/>
        </p:blipFill>
        <p:spPr>
          <a:xfrm>
            <a:off x="395280" y="0"/>
            <a:ext cx="647640" cy="6494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7236000" y="0"/>
            <a:ext cx="1692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 О Н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т  е  л  е  к  а  н  а  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0920" y="1341360"/>
            <a:ext cx="309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4 години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 Житт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6012000" y="2313000"/>
            <a:ext cx="2923920" cy="23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oncharY</cp:lastModifiedBy>
  <dcterms:modified xsi:type="dcterms:W3CDTF">2008-06-02T12:23:17Z</dcterms:modified>
  <cp:revision>192</cp:revision>
  <dc:subject/>
  <dc:title>Слайд 1</dc:title>
</cp:coreProperties>
</file>